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417ED-52E5-434C-94FB-A0ED866E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5A5F-618A-4D5D-819C-1B505F9C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ACCA-1452-46A5-A446-82A31878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3F221-630C-4111-9E9B-014D371A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01FA-634A-4C27-9DF4-D08AAE79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9E9A-2711-44FE-96A9-928E6E9C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4626-575E-41AE-B3D5-04007FCA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9CC7-1365-4D07-AAED-8F63E370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6DD7-9382-453C-B58E-8FEF5104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435A-3825-4297-8E44-7599FED5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A2EC-D417-4825-8569-EE94ACF5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5EF8-2AE0-4E7E-83D1-A12E667B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DFA3-EF89-4BDA-B667-167B8318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1EBC-1A59-4FFF-B2DC-6065CAED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FE99-8DC3-4B55-810D-43CC11D6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AE27-CF20-4E53-A3D2-1314565B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02B6-566F-43D4-89B1-88FBC842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8FC8-9EE8-4673-A298-27AE37F5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59C2-BA61-4A1F-9413-8F977F77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F06C-E71E-4081-A9B2-AFEB4FEB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60CE-9CCA-4AE3-B24D-563AE155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57C2-EB84-48B2-B1EE-9B23B423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8BA7-3919-4159-B9CD-73E64DEC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9E5C5-DB9A-4F40-AACB-F79CCD26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C715-767F-45E3-BD26-34B7631B0E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8839-0AB6-4AF1-8452-5F19686B97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57320" y="4500360"/>
            <a:ext cx="6019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ы ввода/выв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62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6 IC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захвата таймера/счетчика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5 Т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4 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3 INT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2 IN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1 TX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ыход передатчика U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разрядный — двунаправленный для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выводов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435880" cy="4187880"/>
        </p:xfrm>
        <a:graphic>
          <a:graphicData uri="http://schemas.openxmlformats.org/drawingml/2006/table">
            <a:tbl>
              <a:tblPr/>
              <a:tblGrid>
                <a:gridCol w="1738440"/>
                <a:gridCol w="669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положи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(отрица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С1 (выход совпадения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OS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IS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ы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CK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тактовых импульс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15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В 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8 битов порта В при использовании для ввода/вывода одина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DDBn на выводы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2133720"/>
          <a:ext cx="8229600" cy="3744720"/>
        </p:xfrm>
        <a:graphic>
          <a:graphicData uri="http://schemas.openxmlformats.org/drawingml/2006/table">
            <a:tbl>
              <a:tblPr/>
              <a:tblGrid>
                <a:gridCol w="861840"/>
                <a:gridCol w="957240"/>
                <a:gridCol w="1202040"/>
                <a:gridCol w="2306520"/>
                <a:gridCol w="290196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D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дтягивающий резис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ретье состо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Hi-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п источник тока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ли соединен с зем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7 S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тактовой частоты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6 MIS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5 MOS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3 ОС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совпа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POR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 Выходные буферы порта могут поглощать ток до 20 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воды используются как входы и на них подан низкий уровень, то при подключении подтягивающих резисторов они являются источниками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133720"/>
          <a:ext cx="8229600" cy="3886200"/>
        </p:xfrm>
        <a:graphic>
          <a:graphicData uri="http://schemas.openxmlformats.org/drawingml/2006/table">
            <a:tbl>
              <a:tblPr/>
              <a:tblGrid>
                <a:gridCol w="2444760"/>
                <a:gridCol w="5784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ы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О (внешний вход таймера/счетчика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1 (внешний вход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захвата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DDDn регистра DDRD выбирает направление передачи дан­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установлен, вывод сконфигурирован как вы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сброшен — вывод сконфигурирован как в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PORTDn установлен и вывод сконфигурирован как вход, включается КМОП подтягивающий резис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ключения резистора PORTDn должен быть сброшен или вывод должен быть сконфигурирован как вы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35Z</dcterms:modified>
  <cp:revision>10</cp:revision>
  <dc:subject/>
  <dc:title>Микропроцессорные системы</dc:title>
</cp:coreProperties>
</file>