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393-9083-4C48-BD71-69FE7FB0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065-374F-47D4-A7FE-54A98958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EFD-6AB3-4F85-B864-1FCF1819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F66-9B1D-477D-80AE-62306066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0D44-BE62-4D2B-B27F-8FF2B195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1D4D-50B0-4179-A593-19FC2A54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C2B1-A2D1-45E3-A50C-FF1F91BA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E091-9B93-4EBB-8F13-2E8B05A6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2B90-4610-48E2-AE97-18C626B3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C3C2-570C-44D5-ABED-30B3C120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E7BE-93F7-4C22-855F-3D268C22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A97-A960-4519-9894-DB7DF216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6BD6-9572-4789-9057-90BD2508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4D8E-E72B-4409-A3DB-B9E35DC8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6860-EB67-4495-89A3-87D250FA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EB06-24D9-433C-80CD-2C936E96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08AE-3BBE-498C-A890-3BC0B657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13B90-8CAF-40C6-A015-9C41D193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263A9-6F53-4727-82D2-43189FF8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04A24-4E55-450E-A7A0-7F2F5B44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76F0-67A9-44E9-8B0A-2FAB278D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DC282-C889-4EC4-BE30-BB4FB9E1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D67-3EB6-4749-BF7B-81BF7D4A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DB677-8450-4316-BB4B-7889C5C4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1175D-4587-452A-90F1-21305DCA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2C47-14AC-4BFE-9175-2D7A1473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B55D0-7435-40B3-A950-75EBD65D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2CCF8-30A8-446C-BB95-1B833714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3C91C-29AF-4CE2-B2B3-22481D14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E2FD8-2FDC-4895-8E00-10029349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1F32B-3609-47DD-95D1-8B6D186D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48508A-AF99-4A0E-A121-71B858EC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8FBE6E-F9C9-4A26-9CD4-ECA08D42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36F-183D-4B80-A565-ADE4B7C1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DA5B15-CF77-459F-B24C-718FB250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74258-3AB3-4169-8D9F-1566708B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A0E832-6E81-4960-B634-54FE5016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E520B-8A42-47D0-8852-D2E1DD07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B4CB8-00B8-493D-B57A-7C3F580A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BCC91-053C-4F0D-9F93-80E22A28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06C4B5-85BF-4CA9-B92C-2DE7C0BF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365F33-CF23-40DF-9C2B-4003735B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C150D-29D3-4DC9-9F4E-6191ABD5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47EBF-2F51-45A4-8AB7-7662FDCA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23A-309F-416C-BF71-E0E1DBD3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60483-4E5A-4843-9A8B-5F556675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A706A-3217-4A61-AEC7-F718A0A7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1C3F6-7327-4147-B760-99F80468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FD045-9DB1-47CA-BCDC-F39A5D36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A7278-17EB-4BE1-B16D-DA6FE85D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2D28E-3A62-4D27-82C6-3B4E0416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436E7-CAEA-4188-B852-295EC52E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BC4A9-B8EE-4171-BAC4-654B6CB8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098ED-B8F8-4D3F-B9B3-9547273F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F8E9D3-4D4A-4806-85AB-4FCB7B49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543-E619-41D1-A220-C0B43DB5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AC1B5-D2AE-41FA-90D6-55994FAB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606DFE-7F81-4484-8881-9BC02262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3DA5D-C216-4708-91ED-B54A5FD0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353B6-70F4-42D1-B7D1-F1865EE1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7D304-3A5F-4ED4-B80B-E69CFC6B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7CBD4-2E1F-4D0C-8DB8-7FCA597A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69FE4-3B3F-4F3F-A3E7-E621AD60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656B6-C2DA-4EA9-9008-6119A47D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F48A74-C456-4CDC-A4AE-13DA64D8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A8F2F-4D20-4E68-9143-B712305E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0CE-B9B9-4624-898B-3547851E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1E666-BF65-4395-9949-23601C4A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6F914-5CA6-4549-9EDC-A0CEE45C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FA690-4C9E-4DAA-B242-821E1271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EB0-CA11-43EC-A12C-AED289D9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407-FA43-44D6-98EC-3F9BC8C0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7FB4-E486-48A2-8AB7-68C183A373A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6CB3-4526-4C77-8876-2D184E7013F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9491-6987-4EE8-BAF1-40F1498750D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3C4E-79A2-4FFD-B661-03062EDFE47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5F75-BE91-4815-BC05-F41B1A4B1A1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2345-6084-4855-9422-05D87C47E4D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2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000" y="1341000"/>
            <a:ext cx="7467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В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известно, процессор является основным вычислительным блоком компьютера, в наибольшей степени определяющим его мощь. Процессор является устройством, исполняющим программу - последовательность команд (инструкций), задуманную программистом и оформленную в виде модуля программного кода. Чтобы понять, что делает процессор, рассмотрим его в окружении системных компонентов IBM PC-совместимого компьютера. Этой компьютерной архитектурой, естественно, не ограничивается сфера применения процессоров. Всем известный IBM PC-совместимый компьютер представляет собой реализацию так называемой фон-неймановской архитектуры вычислительных машин. Эта архитектура была представлена Джоном фон-Нейманом еще в 1945 году и имеет следующие основные признаки. Машина состоит из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ока управления, арифметико-логического устрой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ЛУ)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мяти и устройств ввода/вывод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й реализуе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пция хранимой программ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граммы и данные хранятся в одной и той же памяти. Выполняемые действия определяются блоком управления и АЛУ, которые вместе являются основой центрального процесс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D:\vvsu.gif"/>
          <p:cNvPicPr/>
          <p:nvPr/>
        </p:nvPicPr>
        <p:blipFill>
          <a:blip r:embed="rId1"/>
          <a:stretch/>
        </p:blipFill>
        <p:spPr>
          <a:xfrm>
            <a:off x="14292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микропроцессора i8080 предусматривает возможность обмена как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ак и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жиме. Если в составе МПС использованы только "быстрые" устройства, т.е. такие, которые могут работать с тактовой частотой МП, то передача информации в МЦ осуществляется в синхронном режиме. В этом случае на вход READY МП подается константа "1" и после такта T2 начинается такт T3. При работе с "медленными" устройствами, быстродействие которых не позволяет переключаться с частотой тактового генератора МП, необходимо "растянуть" во времени МЦ, реализовав асинхронный принцип обмена. Для этого в начале МЦ обмена с "медленными" устройствами на входе READY формируется уровень логического нуля. В такте T2 МП анализирует состояние READY, и если READY = 0, то МП после T2 переходит не к T3, а к такту ожидания Tw, который может длиться произвольное число периодов тактового генератора. Переход к T3 осуществляется по фазе Ф1, если в предыдущей Ф2 READY установился в "1". С помощью входа READY можно не только согласовывать работу МП с устройствами различного быстродействия, но и реализовывать пошаговый и потактовый режимы работы М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МЦ"/>
          <p:cNvPicPr/>
          <p:nvPr/>
        </p:nvPicPr>
        <p:blipFill>
          <a:blip r:embed="rId1"/>
          <a:stretch/>
        </p:blipFill>
        <p:spPr>
          <a:xfrm>
            <a:off x="154080" y="357120"/>
            <a:ext cx="7775640" cy="478656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2343600" y="535788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2. Временная диаграмма МЦ "ПРИЕМ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в машинном цикле выполняются следующие действ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адре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информации о начатом МЦ (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значения входных сигнал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ожидание сигнала READY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ем/выдача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внутренняя обработка/пересылка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ализации одного МЦ процессор мож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коман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УВв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стека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вектор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память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стек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на УВыв байт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выходных сигналов МП все перечисленные выше разновидности МЦ отличаются только направлением передачи данных: в МП - циклы 1..5 (ПРИЕМ), из МП - циклы 6..8 (ВЫДАЧ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МЦ2"/>
          <p:cNvPicPr/>
          <p:nvPr/>
        </p:nvPicPr>
        <p:blipFill>
          <a:blip r:embed="rId1"/>
          <a:stretch/>
        </p:blipFill>
        <p:spPr>
          <a:xfrm>
            <a:off x="285840" y="428760"/>
            <a:ext cx="7667640" cy="47862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2235600" y="5500800"/>
            <a:ext cx="45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3. Временная диаграмма МЦ "ВЫДАЧ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фицит внешних выводов МП не позволяет выводить во внешний интерфейс достаточный для эффективного функционирования объем управляющей информации. Для выдачи более полной информации о состоянии МП в текущем МЦ используется мультиплексирование шины данных. В начале каждого МЦ на линии шины данных D[7:0] выдается байт дополнительной управляющей информации (т.н. PSW), разряды которого имеют следующее назнач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0 - подтверждение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1 - запись (в ЗУ) или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2 - обращение в сте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3 - подтверждение остано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4 -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5 - M1 (считывание из памяти первого байта команд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6 - ввод (из УВ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7 - чтение (из З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ичие на D[7:0] управляющей информации отмечается специальным выходным сигналом SY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управляющей информации присутствует на шине данных (ШД) один такт, а использоваться может в течение всего МЦ. Поэтому в МПС, использующих информацию PSW, предусматривается специальный, внешний по отношению к МП, регистр-защелка для фиксации PS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й процессор выбирает и исполняет команды из памяти последовательно, адрес очередной команды задается "счетчиком адреса" в блоке управления. Этот принцип исполнения называется последовательной передачей управления. Данные, с которыми работает программа, могут включать переменные - именованные области памяти, в которых сохраняются значения с целью дальнейшего использования в программе. Фон-неймановская архитектура - не единственный вариант построения ЭВМ, есть и другие, которые не соответствуют указанным принципам (например, потоковые машины). Однако подавляющее большинство современных компьютеров основано именно на этих принципах, включая и сложные многопроцессорные комплексы, которые можно рассматривать как объединение фон-неймановских машин. Конечно же, за более чем полувековую историю ЭВМ классическая архитектура прошла длинный путь развития. В общем смысле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цессора понимается его программная модель, то есть программно-видимые свойства.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икро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нимается внутренняя реализация этой программной модели. Для одной и той же архитектуры разными фирмами и в разных поколениях применяются существенно различные микроархитектурные реализации, при этом, естественно, стремятся к максимальному повышению производительности (скорости исполнения программ). Сейчас существует множество архитектур процессоров, которые делятся на две глобальные категории - RISC и CISC. RISC - Reduced (Restricted) Instruction Set Computer - процессоры (компьютеры) с сокращенной системой коман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процессоры обычно имеют набор однородных регистров универсального назначения, причем их число может быть большим. Система команд отличается относительной простотой, коды инструкций имеют четкую структуру, как правило, с фиксированной длиной. В результате аппаратная реализация такой архитектуры позволяет с небольшими затратами декодировать и выполнять эти инструкции за минимальное (в пределе 1) число тактов синхронизации. Определенные преимущества дает и унификация регистров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ISC - Complete Instruction Set Computer - процессоры (компьютеры) с полным набором инструкций, к которым относится и семейство х86. Состав и назначение их регистров существенно неоднородны, широкий набор команд усложняет декодирование инструкций, на что расходуются аппаратные ресурсы. Возрастает число тактов, необходимое для выполнения инструкци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х86 имеют самую сложную в мире систему команд. Хорошо ли это, вопрос спорный, но груз совместимости с программным обеспечением для IBM PC, имеющим уже 20-летнюю историю, не позволяет расставаться с этим "наследием тяжелого прошлого". В процессорах семейства х86, начиная с 486, применяется комбинированная архитектура - CISC-процессор имеет RISC-ядр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способы организации вычислительного процес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один поток данных (Simple Instruction - Simple Data, SISD) - характерно для традиционной фон-неймановской архитектуры (иногда вместо Simple пишут Singl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множественный поток данных (Simple Instruction - Multiple Data, SIMD) - технология MM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один поток данных (Multiple Instruction - Simple Data, MIS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множественный поток данных (Multiple Instruction - Multiple Data, MIM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-РАЗРЯДНЫЙ МИКРОПРОЦЕССОР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080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59984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  Рис. 9.1 представлена внутренняя структура МП i8080, включающего в себя 8-разрядное АЛУ с буферным регистром и схемой десятичной коррекции, блок РОН, регистры указателя стека SP и счетчика команд PC, первичный управляющий автомат УА, буферные схемы шин адреса и данных и схему управления систе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ий интерфейс представлен 8-разрядной двунаправленной шиной данных D[7:0], 16-разрядной шиной адреса A[15:0] и группой линий  управления. Назначение входных и выходных линий МП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[7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вунаправленная шина данных служит для приема и выдачи данных, приема команды, приема вектора прерывания, выдачи дополнительной управляющей информации (слово 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[15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однонаправленная шина адреса служит для выдачи адреса памяти и устройств ввода/выв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1,Ф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гналы тактового генератора частотой 1..2,5 МГ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i8080"/>
          <p:cNvPicPr/>
          <p:nvPr/>
        </p:nvPicPr>
        <p:blipFill>
          <a:blip r:embed="rId1"/>
          <a:stretch/>
        </p:blipFill>
        <p:spPr>
          <a:xfrm>
            <a:off x="428760" y="214200"/>
            <a:ext cx="6643440" cy="58356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3366360" y="6286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унок 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6840" y="357120"/>
            <a:ext cx="74674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брос (начальная установка и запуск программы с адреса 000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ходной сигнал готовности памяти или ВУ к обмену (обеспечивает асинхронный режим обмена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рос внешнего преры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хват шины (требование прямого доступа в память со стороны В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ись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роцессора к памя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чтение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амяти или ВУ к процессор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YN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идентифицирующий наличие на шине данных дополнительной управляющей информации (PSW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отмечающий состояние ожидания или останова М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внешни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LD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прямого доступа в память (подтверждение захват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ОМАНДНЫЙ ЦИКЛ МИКРОПРОЦЕССОРА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П работает в составе МПС, обмениваясь информацией с памятью и ВУ. В основе работы МП лежи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андный цик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ействия по выбору из памяти и выполнению одной команды. В зависимости от типа и формата команды, способов адресации и числа операндов командный цикл может включать в себя различное число обращений к памяти и ВУ и следовательно - иметь различную дли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командный цикл (КЦ) начинается с извлечения из памяти первого байта команды по адресу, хранящемуся в PC, что команды i8080 имеют длину 1, 2 или 3 байта, причем в первом байте содержится информация о длине команды. В случае 2- или 3-байтовой команды реализуются дополнительные обращения к памяти по соседним (большим) адреса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считывания команды начинается ее выполнение, причем в процессе выполнения может потребоваться еще одно или несколько обращений к памяти или ВУ (чтение операнда, запись результата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реализации команды i8080 может потребоваться от 1 до 5 обращений к памяти (ВУ). Хотя обращения к ЗУ/ВУ располагаются в разных частях КЦ, выполняются они по единым правилам, соответствующим интерфейсу МПС и реализованы на общем оборудовании управляющего автомата. Действия МПС по передаче в/из МП одного байта данных/команды называю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шинным цикл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ИХ ИДЕНТИФИКАЦИЯ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представляет собой последовательность машинных циклов (МЦ), причем КЦ i8080 может содержать от 1 до 5 МЦ, которые принято обозначать M1, M2,..M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обязательно включает в себя действия по передаче байта информации. Кроме того, в некоторых МЦ дополнительно реализуются действия по пересылке и/или преобразованию информации внутри МП. Поэтому длительность МЦ может быть различной - за счет различного числа содержащихся в них машинных тактов (T1, T2,..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инный такт (такт) образует пара сигналов тактового генератора Ф1, Ф2, поэтому длительность такта постоянна - период тактового генератора (за исключением такта Tw - см. ниж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просматривается иерархия процедур при работе микропроцессора (не только i8080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мандный цикл - Машинный цикл - Машинный т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i="1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ому такту соответствует определенное состояние управляющего автомата. Любой МЦ i8080 обязательно содержит такты T1, T2, T3, предназначенные для передачи байта по интерфейсу. МЦ, в которых осуществляется передача и/или преобразование информации в МП, содержат дополнительно один или два такта T4, T5. МП i8080 вырабатывает несколько типов МЦ, основными из которых являются циклы ПРИЕМ и ВЫ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08:11Z</dcterms:modified>
  <cp:revision>21</cp:revision>
  <dc:subject/>
  <dc:title>Микропроцессоры и микроконтроллеры </dc:title>
</cp:coreProperties>
</file>