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9A7A-7A16-4744-9980-89E5CE48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A6C7-884C-4678-BAF2-6B5AD4FC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989B-D9A9-4656-8C57-0BA95CA6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65E1-18AB-403D-A47F-52B926831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5DC8-3AE3-48FA-AC59-FAB6C6C4A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92C0-1D5A-465D-B1FE-B298F757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D298-A9FA-454F-9B84-3A5B6220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EBAA-6F3B-4B08-A13E-E8771436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9632-A415-40ED-B819-1EE4ED33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9C97-89B0-43C2-AB7D-F0E8A1FE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95AB-E047-40AD-BA28-4E2B5E0D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5F91-C988-4DDC-BB66-ABD14730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FDD6-93F2-4148-AD49-F650435A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ED78-19A1-4B0F-8A93-E651E8A1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9C41-3876-430F-BBED-7D7BD6E6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2B26-7446-4746-B8BB-B1FFE1135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FE9D9-B5C7-42C0-A026-DFC7BCF5C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E59EBD-0FBA-496A-ACA9-18320F923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F019BF-ED82-43CF-8735-E24ED164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C37944-A034-4CE1-85D1-2E36E5FB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67AD31-9BEE-46CC-AC13-851C3D1D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4F0215-0B54-4075-8709-737CC1CB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F6D4-790E-4237-A31F-FA2331B8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006BD8-C919-480A-8AA8-A97F6F90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CB2A7C-31F0-4BDA-9986-F1C348B9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6705D3-740A-4787-AE9A-C218761C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FF8B08-ECFA-479C-98B3-0BDEF9CB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598D5E-E506-4754-ADBC-FD032709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4E4806-0A9D-42EE-A16B-45D4D9F44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B925A1-C6E9-477A-BD4A-569285026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E3084-F7B7-4669-944C-C0C037A3C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81280-A35E-4F17-B2CF-0795CD72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C4AF6-27CB-4147-9D89-9EB02A5E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48A1-237D-44F3-BFAC-40C4DD56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2EFFD-362B-4CA8-A186-62DB0636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6A130-9C84-4B26-BA90-F60122F8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CE86D-AE00-4724-89C4-17BAFB20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23BF3-F795-4A77-AD9D-929DF284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CCF8E-AB35-4F5A-9283-C22A480B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69E29-D3C7-4E4A-8608-954181C8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C3D5D-ABA4-472D-96F5-F7BC4870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B9D4F-F870-40CD-9833-AFB0FBC9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2971E-B573-444E-A53E-25F8B63DF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8C7566-D6B1-4282-92F2-53F28BDD9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A1AB-F6CD-4460-96E6-A004B9CB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252B49-688B-4603-AE2E-EB18FE81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B7DCFF-8F0A-4053-BECA-97691425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B9A781-EFD5-46AC-BAD1-FEBC587C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ECA9B9-08A7-4439-A34E-140E7A4D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9CDE9C-BA56-4946-8BCA-F2C21AB3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B6EAC9-2CFE-4DFF-BB4E-DBD41987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90F131-86B4-4319-AB3F-60E7AACC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1282CB-58C2-4429-9F8D-9C914155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BFBFB2-EFDE-4E42-91D2-53830F16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8BC713-CC47-40F5-94D2-D6E2BD2D2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CBED-2337-41E9-B959-51137F4A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357367-AB9E-4BB6-A3B4-2452ACADD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B42AE9-E422-4732-A64E-D44F6F1E3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2C5D62-FA32-4B39-AEC6-387DC74F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8C9563-ACB7-4EE4-881D-6834AFB8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732DFE-E6CD-4AFE-B946-5E9826B7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D48112-465E-44BE-882E-2ECDA4D5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F443CC-B7B3-407C-9EC3-18D6812A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C8AC52-555E-4094-BFA9-C7E8BA78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0CB8E7-5775-4B59-B97C-3EB0497E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4B34F1-5856-4DE3-B5FE-6D4B739E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9A5F-36E8-49DE-8F31-EC7B0076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4F4F7E-5FDB-4C5D-9F39-89144C48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D4AB56-72F3-44C4-B08F-325D34524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2C158A-ABE5-4714-803C-1AA8D195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F4301E-A6A5-4A93-9274-566EA9DBA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95E827-EFF4-406E-BCFD-66538AAF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66DC87-0356-4C7C-A16A-E5F667BA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CAA97A-52EE-4816-9E90-F44F606B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7B7B5E-2076-4516-968E-0753AF13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AF2254-A52F-407C-AB54-13F3EB34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378615-6A05-43AC-8AD1-9DAB6A1E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7205-FF89-4C9D-9932-F778B6CF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C533F1-EE72-4A7A-9005-0FB4E4C2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E7024E-B5E6-41A4-83E3-27C24E17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BE4B7D-62E2-4E25-AAD6-12121F83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653A7C-8C7F-411E-84C0-2A0C0A709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7AC207-B256-4833-93E9-21CEB4469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7749-6390-4D65-B1F2-64EA41B8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D3E5-3492-4224-A2B9-5246400EA77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5E03-ABF2-4E64-912D-8B6CC8B4B1B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AC8F-2AC5-43F7-9F9F-3F462E199A0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8502-F717-4B61-9FA7-B25B7155311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B0A7-F17B-4A40-ADD4-13245CB9EE0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8B64-AB8A-4779-A7EE-96823225CFB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2BD7-AE34-4C24-B196-2A0EDCC3315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ОДНОКРИСТАЛЬНЫЕ МИКРОЭВМ ТИПА МК51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23640" y="1989000"/>
            <a:ext cx="74674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К51 это серия с ядром 80С51В. В странах СНГ МК51 выпускаются на базе  n-МОП технологии (серия 1816) и КМОП технологии (серия 183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4" descr="9"/>
          <p:cNvPicPr/>
          <p:nvPr/>
        </p:nvPicPr>
        <p:blipFill>
          <a:blip r:embed="rId1"/>
          <a:stretch/>
        </p:blipFill>
        <p:spPr>
          <a:xfrm>
            <a:off x="1571760" y="2786040"/>
            <a:ext cx="5549760" cy="3286080"/>
          </a:xfrm>
          <a:prstGeom prst="rect">
            <a:avLst/>
          </a:prstGeom>
          <a:ln w="0">
            <a:noFill/>
          </a:ln>
        </p:spPr>
      </p:pic>
      <p:sp>
        <p:nvSpPr>
          <p:cNvPr id="354" name="TextBox 4"/>
          <p:cNvSpPr/>
          <p:nvPr/>
        </p:nvSpPr>
        <p:spPr>
          <a:xfrm>
            <a:off x="3005640" y="6143760"/>
            <a:ext cx="268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9.10. Структура МК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Заголовок 3"/>
          <p:cNvSpPr/>
          <p:nvPr/>
        </p:nvSpPr>
        <p:spPr>
          <a:xfrm>
            <a:off x="457200" y="274680"/>
            <a:ext cx="7467480" cy="922320"/>
          </a:xfrm>
          <a:prstGeom prst="rect">
            <a:avLst/>
          </a:prstGeom>
          <a:solidFill>
            <a:srgbClr val="85dfd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КРОПРОЦЕССОРЫ И МИКРОКОНТРОЛЛЕРЫ</a:t>
            </a: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аст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6" descr="D:\vvsu.gif"/>
          <p:cNvPicPr/>
          <p:nvPr/>
        </p:nvPicPr>
        <p:blipFill>
          <a:blip r:embed="rId2"/>
          <a:stretch/>
        </p:blipFill>
        <p:spPr>
          <a:xfrm>
            <a:off x="0" y="0"/>
            <a:ext cx="838080" cy="37296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В.В. Сивченко, ст. преп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ВНЕШНИЕ УСТРОЙСТВА МК51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68000" y="1413000"/>
            <a:ext cx="7467480" cy="49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"внешним" устройствам МК51 отнесе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 параллельных двунаправленных порта ввода/вывода P0..P3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фер SBUF и регистр управления SCON последовательного  канал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ймеры/счетчики T0,  T1,  их регистр управления TCON и регистр режимов TMO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гистры управления подсистемой прерываний: регистр приоритетов IP и регистр маски I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гистр управления машиной PC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остав МК51 входит дуплексный последовательный канал связи с буферизацией,  который может быть запрограммирован для работы в одном из четырех режим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"0" - синхронный ввод/вывод с частотой OSC/12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"1" - асинхронный с 8-бит. кадром, частота k*f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"2" - асинхронный с 9-бит. кадром, частота k*OSC/32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"3" - асинхронный с 9-бит. кадром, частота k*f; где k {1, 1/2}, f - частота переполнения T1 (FOV), деленная на 1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ПОДСИСТЕМА ПРЕРЫВАНИЙ МК51 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68000" y="1341000"/>
            <a:ext cx="7467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рхитектура МК51 поддерживает двухуровневую радиальную приоритетную подсистему прерываний (ПП) с шестью  источниками  запросов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приема внешних прерываний служат входы INT0\,  INT1\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точниками внутренних запросов могут служить сигналы переполнения таймеров T0,  T1 и сигнал окончания работы последовательного ка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СИСТЕМА КОМАНД МК51 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68000" y="1341000"/>
            <a:ext cx="7467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стема команд включает 111 команд - однобайтовых (49), двухбайтовых  (45)  и трехбайтовых (17).  Все команды выполняются за 1 или 2 МЦ (16 тактов CLK в каждом), за исключением команд умножения и деления MUL и DIV,  для выполнения которых требуется 4 МЦ. Большинство двухбайтовых команд - одноцикловые,  а все трехбайтовые -двухцикловые. За  один  МЦ  в МК51 можно вводить до двух байтов программного к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К51 работает с данными четырех основных типов - битами,  полубайтами (4 бита),  байтами и адресами (16 бит).  Наиболее  часто используемой единицей данных является байт: внутренние магистрали данных имеют 8-битный размер.  Программная память, внутренняя память и внешняя память данных запоминают и возвращают данные в виде байтов. Кроме этого, имеется много команд, которые работают с одиночными битами.  Бит может быть установлен, очищен, проинвертирован,  логически скомбинирован с флагом переноса и проверен для выполнения последующих переходов.  Полубайт (двоично-десятичная упакованная цифра) обычно мало применяется в МК51,  но  двоично-десятичная арифметика может выполняться без преобразования операндов в двоичное представл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6840" y="285840"/>
            <a:ext cx="7467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анды, которые  используют  16-битные адреса,  имеют дело с указателем данных (16-битный регистр DPTR ) и с программным  счетчиком (переходы и вызовы подпрограммы).  Использование команд сложения с битом переноса (ADDC) и вычитание с заемом  (SUBB)  делает программирование 16-битной арифметики относительно просты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раммно-доступными объектами в составе ОМЭВМ являются: аппаратные регистры, четыре банка по восемь регистров R0..R7,R0..R7 и 128 ячеек внутренней памяти данных - с адресами 00H..7FH.  Кроме того,  по  специальным  командам  MOVX  и MOVC может быть доступна внешняя память данных и программ. В МК51 возможна битовая адресация аппаратных регистров и части внутренней памят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программировании следует иметь в виду, что в качестве регистров R0..R7 банка 0 используются ячейки внутренней памяти  данных с адресами 00H..07H,  банка 1 - 08Н..0FН, банка 2 - 10Н..17Н, банка 3 - 18Н..1F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истеме команд МК51 используются  регистровая, прямая, косвенная и непосредственная адресац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регистровой  адресации  операнды  находятся  в регистрах, имена которых определяются кодом операции команды.  Эта  адресация используется  для  обращения  к регистрам выбранного банка рабочих регистров,  к регистрам А,  В,  DPTR и к флагу переноса 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6840" y="285840"/>
            <a:ext cx="7467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прямому  адресу  можно обращаться к аппаратным регистрам и внутренней памяти.  Используется также прямая  битовая  адресация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свенно можно  адресоваться  к  ячейкам внутренней и внешней памяти данных через регистры R0,R1 текущего ба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любой ячейке внешней памяти (данных и программ) можно обратиться с использованием регистра DPT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типу операций можно выделить следующие классы команд:  пересылки;  арифметические и логические; передачи управления; специальные коман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75294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МИКРОКОНТРОЛЛЕР PIC ФИРМЫ PARALLA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39640" y="836280"/>
            <a:ext cx="74678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 особо малый микроконтроллер. Простейший микроконтроллер имеет 8 выводов. Микроконтроллер 8-ми разрядный с Гарвардской архитектурой, что повышает производительность. Одновременно считывается команда и происходит обращение за данными. В некоторых микроконтроллерах есть операции умножения, деления, операции с плавающей точкой. Система команд компактная – не более 51 команды (LOW, LITLE и HIGH – 51 команда). Есть банки регистров как МК5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ть ПЗУ разных типов и перифирийные устройства (АЦП, ЦАП). В составе перифирийных устройств имеется несколько выводов последовательного интерфейса – обычный RS232, интерфейс I2C фирмы Philips, SPI.  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троллеры PIC могут быть использованы как ?умные? перифирийные устройства, т.е. SLAVE – контроллер может быть подсоединен к управляющему контроллеру PIC как обычное перифирийное устройство через порт (или линю данных). Очень развиты перифирийные средства коммуникации (I2C, SPI, RS232, порты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основе PIC может быть организованна сеть микроконтроллеров (через шину I2C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SPI и I2C общая особенность: для передачи используется два провод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фейс SPI работает со стробиованием по фронту сигнала (клока), т.е. по одной линии передаются данные, по другой – клок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I2C стробирование осуществляется по уровню. В обоих интерфейсах Master обеспечивает выдачу сигналов тактир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56840" y="285840"/>
            <a:ext cx="74674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МК51 используются следующие сигнал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E  - строб адре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PSEN\  - строб чтения внешней памяти програм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D\,WR\- стробы чтения и записи внешней памяти дан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A\  - разрешение обращения во внутреннюю память програм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0,T1 - входы счетчиков внешних событ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INT0,INT1- запросы внешних радиальных прерыва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xD - вход данных последовательного канал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xD - выход данных последовательного кан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остав МК51 входят параллельные 8-разрядные квазидвунаправленные порты P0..P3. Порт Р3 может быть использован для ввода и вывода управляющих сигна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им  образом,  в циклах обращения к внешним ресурсам на линиях порта P3 работают управляющие сигналы, а при отсутствии необходимости  управления внешними  ресурсами эти же линии могут быть использованы как линии пор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АРХИТЕКТУРНЫЕ ОСОБЕННОСТИ МК51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68000" y="1413000"/>
            <a:ext cx="7467480" cy="49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К51  позволяет управлять пятью (частично пересекающимися) адресными пространствами памяти,  четыре из которых являются областями данны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SEG   - пространство регистров (4*8 байт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SEG   - пространство внутренней памяти данных (256 байт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BSEG   - битовое пространство данных (256 бит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XSEG   - пространство внешней памяти данных (до 64К байт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CSEG   - пространство программного кода (до 64К бай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ранства RSEG и BSEG частично пересекаются, физически совмещаются с DSEG и образуют единую внутреннюю среду для  хранения  данных.  Это позволяет одни и те же данные рассматривать с разных позиций (ячейка памяти,  регистр,  битовое поле, порт ввода/вывода и т.п.)  и организовывать наиболее удобный для данного случая доступ к н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арактерно, что  все порты ввода/вывода,  системные регистры, таймеры так же отображены на пространство DSE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6840" y="285840"/>
            <a:ext cx="74674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ранство регистров  представлено четырьмя банками регистров по 8 в каждом,  а так же 16-разрядными программным счетчиком PC и регистром косвенного адреса DPTR,  8-разрядными аккумуляторами A и B, указателем стека SP и регистром PS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 регистры, кроме PC, отображаются на DSE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PSW[7] - CY - перенос из старшего (7) разряда АЛБ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PSW[6] - AC - перенос из третьего разряда АЛБ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PSW[5] - F0 - флаг пользовате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оме того, формат PSW включает двухбитовое поле PSW[4:3] - RS номера  банка  регистров  и  флаги  арифметического  переполнения OV (PSW[2]) и четности P (PSW[0]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лаги CY,  AC  и  OV  отражают  признаки результата последней арифметической операции,  а P - четность содержимого  аккумулятора A. Расширение  аккумулятора B используется в командах умножения и деления, а в остальных операциях - как обычная ячейка памяти. Программный счетчик  адресует  пространство  памяти  программ CSEG объемом до 64K байт, причем переход из области внутренней памяти программ к внешней осуществляется автоматичес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56840" y="285840"/>
            <a:ext cx="74674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казатель данных DPTR используется для обращения к XSEG и при пересылке  констант из CSEG в A.  Кроме того,  содержимое DPTR используется а  качестве  смещения  в  команде  переход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казатель стека SP образует системный стек  глубиной  до  256 байт. SP хранит адрес последнего занесенного байта и растет при записи в сторону больших адре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гистры R0,  R1 каждого банка используются в качестве указателей данных. При сбросе машины в A,  B,  PC и DPTR загружаюся 0h, а в SP - 07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ОРГАНИЗАЦИЯ ВНУТРЕННЕЙ ПАМЯТИ ДАННЫХ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39640" y="1412640"/>
            <a:ext cx="746784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ранство DSEG включает  в себя 256 ячеек памяти,  часть из которых является одновременно элементами других пространств.  Так,  первые  32 байта ОЗУ занимают 4 банка.  Служебные регистры,  порты ввода/вывода, таймеры, аккумуляторы и др. так же совмещены с ячейками памяти и полями битового сегмента.  Это дает возможность обращения к одному физическому объекту  разными  способами.  Так,  к  ячейке DSEG[E0]  можно  обратиться по прямому и косвенному адресу,  обратиться как к аккумулятору A и как к полю BSEG[E0..E7]  (к  каждому биту в отдельност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2" descr="9"/>
          <p:cNvPicPr/>
          <p:nvPr/>
        </p:nvPicPr>
        <p:blipFill>
          <a:blip r:embed="rId1"/>
          <a:stretch/>
        </p:blipFill>
        <p:spPr>
          <a:xfrm>
            <a:off x="684360" y="3860640"/>
            <a:ext cx="4330440" cy="2389320"/>
          </a:xfrm>
          <a:prstGeom prst="rect">
            <a:avLst/>
          </a:prstGeom>
          <a:ln w="0">
            <a:noFill/>
          </a:ln>
        </p:spPr>
      </p:pic>
      <p:sp>
        <p:nvSpPr>
          <p:cNvPr id="366" name="TextBox 6"/>
          <p:cNvSpPr/>
          <p:nvPr/>
        </p:nvSpPr>
        <p:spPr>
          <a:xfrm>
            <a:off x="517680" y="6357960"/>
            <a:ext cx="57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9.11. Пространство внутренней памяти данных DSE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56840" y="285840"/>
            <a:ext cx="74674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ь программ адресуется PC[15:0] и может составлять до 64К байт,  причем младшие 4 К могут располагаться  непосредственно на кристалле, а остальная память внешнее ЗУ. С точки зрения программиста внешняя и внутренняя  память  программ представляют единое адресное простран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еются «особые точки»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E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ESET   0000h - стартовый адре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XTI0   0003h - внешнее прерывание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IMER0  000Bh - прерывание от таймера/счетчика T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XTI1   0013h - внешнее прерывание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IMER1  001Bh - прерывание от таймера/счетчика T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SINT      0023h - прерывание последовательного пор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МАШИННЫЕ ЦИКЛЫ И СИНХРОНИЗАЦИЯ МИКРОЭВМ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68000" y="1483920"/>
            <a:ext cx="7467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итание МК51 осуществляется от одного источника +5В. Кварцевый резонатор 3,5..12 МГц подключается к выводам Х1, Х2; возможно подключение внешнего тактового генератора через Х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OSC/2 - основная внутренняя тактовая частота CLK.  Первая половина периода CLK фаза P1,  вторая - P2.  Каждый машинный  цикл состоит из шести периодов CLK: состояний S1, S2, .. S6 или двенадцати периодов OSC,  называемых фазами S1P1,  S1P2,  S2P1,  .. S6P, S6P2.  Каждый машинный цикл сопровождается генерацией двух стробов ALE длительностью в один период  CLK  -  S1P2..S2P1,  S4P2..  S5P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андный цикл (КЦ) содержит один или несколько машинных циклов  (МЦ)  и отсчитывается от S1P1.  По фазе S1P2 в IR фиксируется код операции, второй байт двухбайтовой команды читается в S4P2 того же МЦ,  третий байт трехбайтовой - в S1P2 следующего МЦ.  Таким образом,  для ввода каждого байта команды требуется один полуцик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  время  всех оставшихся полуциклов в фазах S1P2 и S4P2 читается код операции следующей размещенной в памяти команды,  однако он не помещается в IR и не инкрементируется PC. Текущий КЦ всегда завершается в S6P2. Вслед за этим начинается S1, в котором в IR вводится новый бай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6840" y="285840"/>
            <a:ext cx="7467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щение к внешней памяти данных XSEG по команде MOVX требует  второго МЦ,  в котором не вырабатывается первый строб ALE.  На рис. 3.7 приведена временная диаграмма обращения к XSEG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приведение МК51 в исходное состояние необходимо  подать на  вход  RST  импульс H-уровня длительностью не менее 24 периодов OSC (два МЦ) при условии что генератор запущен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02:31:08Z</dcterms:created>
  <dc:creator>Evgeniy</dc:creator>
  <dc:description/>
  <dc:language>en-US</dc:language>
  <cp:lastModifiedBy>Сивченко</cp:lastModifiedBy>
  <dcterms:modified xsi:type="dcterms:W3CDTF">2009-06-16T23:10:49Z</dcterms:modified>
  <cp:revision>55</cp:revision>
  <dc:subject/>
  <dc:title>Микропроцессоры и микроконтроллеры </dc:title>
</cp:coreProperties>
</file>