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3419C-7B6C-4650-A707-8B29B57F3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F2FFD-00F8-41DA-BB96-BD3488034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AA781-2A00-425D-BDDF-E77A8331C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3A4EC-1333-476E-9B7A-FF6C114B3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D6B34-9418-42CB-AB7E-B80FC68BE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3F512-1BE8-4928-99A1-8F42C4205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E3A4D-9FEE-412C-B9E7-12D59DC72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30D8E-69DB-407A-A827-5D9759B68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5F07B-418B-4A52-A211-42435FA0D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1947E-E477-44D7-9B42-130E3691B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D5AF4-F0F9-41C6-AA2C-94394E6D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48B35-6383-4ADE-A5B5-EF28F653D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E91C8-B8D6-4C94-88C6-F53CB6A8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777EB-2E6D-402E-B065-098FDBBD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72B9B-475E-499B-BB14-21238267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12EEB-D119-4C8C-91C5-9B8B2B38A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5881F-7A1D-4F11-A4A9-AC16D7AC7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DCDBE-9B8D-4CED-B674-93E91F2ED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D173C-B2E7-48BD-9415-48AD71B5C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D5002-C2F1-426C-81AB-E76E9FCD0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1DAC3-128F-4D7F-8949-54AC17B16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7FCAB-6CFA-492E-9B3F-BE12BB61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6D631-AA70-4B45-840F-7A57C88F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8060F-F262-45E7-9119-9C043C27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F2E6A-DD0A-4556-8785-8541DDF1A94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93703-D4F4-4A56-8D6F-38CE075700E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икропроцессорные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214280" y="4428720"/>
            <a:ext cx="71726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ограммы и инструмен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то описание предполагает, что транслятор wavrasm правильно установлен на компьютер, на котором происходит рабо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152280" y="6477120"/>
            <a:ext cx="243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©</a:t>
            </a:r>
            <a:r>
              <a:rPr b="0" lang="ru-RU" sz="800" spc="-1" strike="noStrike">
                <a:solidFill>
                  <a:srgbClr val="3333cc"/>
                </a:solidFill>
                <a:latin typeface="Times New Roman"/>
              </a:rPr>
              <a:t> Е.А. Сторожок, доц. каф. ИСКТ ВГУЭ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D:\vvsu.gif"/>
          <p:cNvPicPr/>
          <p:nvPr/>
        </p:nvPicPr>
        <p:blipFill>
          <a:blip r:embed="rId1"/>
          <a:stretch/>
        </p:blipFill>
        <p:spPr>
          <a:xfrm>
            <a:off x="228600" y="228600"/>
            <a:ext cx="838080" cy="3729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21844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ер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4000" y="1961640"/>
            <a:ext cx="3384360" cy="41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Логическое 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битовое 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Унарный мин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Умно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4572000" y="1413000"/>
            <a:ext cx="338472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е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ло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ычит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двиг вле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двиг вправ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ер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98864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ньше или рав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е или рав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в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рав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4643280" y="1773360"/>
            <a:ext cx="4038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битовое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битовое исключающее 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битовое 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огическое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огическое 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21844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мпилятор языка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С CodeVision AV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4920" y="2204640"/>
            <a:ext cx="8280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CodeVision представляет собой кросс-компилятор языка С, графическую оболочку и автоматический генератор программ, ориентированные на работу с семейством микроконтроллеров AVR фирмы Atm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а представляет собой 32-разрядное приложение для работы в операционных системах Windows 95, 98, NT4.0 и 2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16000" y="1699920"/>
            <a:ext cx="73454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ссемблер, формат программы на ассембле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анды микроконтролл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рективы транслятора ассембл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н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пилятор язык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 CodeVision AV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30088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ссембл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микроконтроллеров семейства AVR имеется свободно распространяемый транслятор ассемблера — wavrasm. Также одновременно с транслятором ассемблера устанавливается программа для отладки программ на языке ассемблера для микроконтроллеров семейства AV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ако она заметно уступает свободно распространяемому фирмой Atmel отладчику AVR Studio, поэтому ее мы рассматривать не буд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35344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ормат программы на ассембле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6560" y="1773000"/>
            <a:ext cx="8137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[метка:] директива [аргументы директивы] [комментарий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[метка:] мнемоника команды [аргументы команды] [комментарий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ментар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устая ст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94920" y="1557360"/>
            <a:ext cx="8496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рифметические и логическ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анды условных и безусловных переход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анды передачи данны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анды для работы с бит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манды микроконтролл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ирективы транслятора ассембл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BYTE — резервирует 1 байт для использования в качестве переменно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CSEG — сегмент програм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B — определяет байт-констант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EF — определяет символическое имя для регистр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EVICE — задает тип целевого микроконтроллер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SEG — сегмент данны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W — определяет слово-констант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ENDMACRO — конец определения макрос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EQU — сопоставляет символьному имени арифметическое выраж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8"/>
          <p:cNvSpPr/>
          <p:nvPr/>
        </p:nvSpPr>
        <p:spPr>
          <a:xfrm>
            <a:off x="539640" y="2971800"/>
            <a:ext cx="4038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468360" y="5373720"/>
            <a:ext cx="8281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ирективы транслятора ассембл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ESEG — сегмент EEPRO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EXIT — выйти из файла (конец текста программы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INCLUDE — загрузить исходный текст из другого файл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LIST — включить генерацию листинг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LISTMAC — включить печать содержимого макросов в листинг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MACRO — начать определение макрос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NOLIST — выключить генерацию листинг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ORG — установить располож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SET — сопоставить символу выраж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ра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362800" cy="40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ссемблер позволяет использовать в тексте программы выраж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и могут содержать операнды, операции и функ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выражения имеют разрядность 32 би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еран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352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еременные, определенные с помощью директивы SE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нстанты, определенные с помощью директивы EQ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целые констан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есятичные (по умолчанию): 10, 255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шестнадцатеричные (два вида записи): ОхОа, $0а, Oxff, $ff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воичные: 000000 1010, 00 1111111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ды символов ASCII: 'A', 'a'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троки ASCII (без нуля в конце строки): «String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 — текущее значение счетчика команд в памяти програм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02:43:19Z</dcterms:created>
  <dc:creator>Dexter</dc:creator>
  <dc:description/>
  <dc:language>en-US</dc:language>
  <cp:lastModifiedBy>Сивченко</cp:lastModifiedBy>
  <dcterms:modified xsi:type="dcterms:W3CDTF">2009-06-16T22:56:20Z</dcterms:modified>
  <cp:revision>10</cp:revision>
  <dc:subject/>
  <dc:title>Микропроцессорные системы</dc:title>
</cp:coreProperties>
</file>