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8C52A-C707-4019-9B0B-C1098722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0E5B6-BDCC-44E5-8BFF-49FF4548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22C4E-3C44-4BB3-814C-AF2D21AA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165ED-6665-4837-9045-9C54D8B4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BA5F-DB56-4F7D-8DDF-C897B366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F544-6EB3-4416-A103-428053D5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8F60-E9B7-42E2-AC9C-3B16A707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4350-3B58-4664-8CEC-12103113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13A1-6B66-4DDF-9552-65F1E5CF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D097-3FAD-420B-B310-C1EC58B3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479A-C12E-423C-9DBA-7316AF19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CDF2D-5920-407C-A621-31A5309E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8705-1C3A-4DFD-AB04-1C88C032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84D9-42CE-4453-A386-30909A8A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2A69-0E2B-4184-A454-237A27C9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BE33-B146-4B62-8C1A-982550BD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C372-85EE-40D6-A70E-49E67637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BAF33-81E1-4990-BA4F-DF5AF0B5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FA4D2-8492-4E91-9FEC-C89FAE68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AA5CB-F6E9-4ABB-B5F3-D9AFF978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53B55-DD99-4DA0-AF8A-0BD34DDC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21BEF-32DD-4145-BB1A-82F870DF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E8123-55A5-4746-974B-472C7BF6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55EBD-DB66-44A2-8842-CAAA9018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81EF-C640-4161-B59D-3E664696F4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FF8D-7C03-45BA-ABFC-FCFB33CD877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601956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кроконтролл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исание выв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вывод источника 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общий провод («земля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(РВ7...РВ0) — порт В является 8-битовым двунаправленным параллельным портом ввода/вывода с встроенными подтягивающими резисторами. У выводов порта предусмотрены внутренние подтягивающие резисторы (их можно включать или выключать для каждого бита отдельно). Выводы РВ0 и РВ1 также являются положи­тельным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) и отрицательным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входами встроенного ана­логового компаратора. Выходные буферы порта В могут поглощать ток до 20 мА и непосредственно управлять светодиодными индикаторами. Это означает, что микроконтроллер способен управлять нагрузкой до 20 мА при состоянии логического 0 на выходе порта. Таким образом, для управления светодиодом его следует подсоединить одним выводом к выводу порта микроконтроллера, а другим — к напряжению питания 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Соответственно светиться светодиод (а значит, и потреблять ток) будет при значении 0 на соответствующей линии порта. Если выводы РВ0...РВ7 используются как входы и извне устанавливаются в низкое состояние, они являются источниками тока, если включены внутренние подтягивающие резисторы. Кроме того, порт В обслуживает некоторые специальные функции, которые будут описаны ни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475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) —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является 7-битовым двунаправленным параллельным портом ввода/вывода с встроенными подтягивающими резисторами. Выходные буферы пор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акже могут поглощать ток до 20 мА. Как входы, установленные в низкое состояние,   выводы   порта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являются   источниками   тока, если задействованы подтягивающие резисторы. Кроме того,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служивает некоторые специа­льные функции, которые будут описаны ни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вход сброса. Удержание на входе низкого уровня в течение двух машинных циклов (если работает тактовый генератор), перезапускает микроконтролл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T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— вход инвертирующего усилителя генератора и вход внешнего тактового сигн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T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— выход инвертирующего усилителя генер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4983120" y="549360"/>
            <a:ext cx="4160880" cy="5832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90S23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йл регистров общего назн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истровый файл микроконтроллера содержит 32 8-разрядных регистра общего назначения, доступ к которым осуществляется за один машинный цикл. Благодаря этому микроконтроллер может выполнить большинство команд за один цикл тактовой част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У поддерживает арифметические и логические операции с регистрами, с константами и регистр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регистровых операций, для работы с регистровым файлом могут использоваться доступные режимы адресации, так как регистровый файл занимает адреса $00-$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области данных, обращаться к ним можно и как к ячейкам памя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странство ввода/вывода состоит из 64 адресов для периферийных функций процессора, таких, как управляющие регистры, таймеры/счетчики и др. Доступ к пространству ввода/вывода может осуществляться непосредственно как к ячейкам памяти, расположенным после регистрового файла ($20—$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инство команд, использующих регистры, могут использовать любые регистры общего назначения. Исключение составляют пять команд, оперирующих с константами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C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команд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загружающая регистр константой. Эти команды работают только со второй половиной регистрового файла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ому регистру присвоен адрес в пространстве данных, они отображаются на первые 32 ячейки ОЗУ. Хотя регистровый файл физически размещен вне ОЗУ, подобная организация памяти дает гиб­кий доступ к регистр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1844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разработке микроконтроллеров семейств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а использована так называемая гарвардская архитектура. Смысл ее состоит в том, что память программ и данных программы располагается в разных областях памяти. На рис. 3 изображена структура памяти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ступ к памяти программ осуществляется следующим образом: во время выполнения одной команды следующая команда выбирается из памяти программ. Это дает возможность выполнять по одной команде за каждый машинный ци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помощи команд относительных переходов и вызова подпрограмм осуществляется доступ ко всему адресному пространству. Большая часть команд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ет размер 16-разрядов одно слово. Каждый адрес в памяти программ содержит одну 16- или 32-разрядную коман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работке прерываний и вызове подпрограмм адрес возврата запоминается в стеке. Стек размещается в оперативной памяти дан­ных общего назначения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, его размер ограничен только размером доступной памят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ее использованием в программе. Все программы пользователя должны инициализировать указатель стека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сразу после запуска микроконтроллера, до того как вызываются подпрограммы и разрешаются преры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492360" y="549360"/>
            <a:ext cx="519444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се пространство памя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является линейным и непреры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прерываний имеет собственный управляющий регистр в пространстве ввода/вывода, и флаг глобального разрешения прерываний в регистре состояния. Каждому прерыванию назначен свой вектор в начальной области памяти программ. Различные прерывания имеют приоритет в соответствии с расположением их векторов. По младшим адресам расположены векторы с большим приоритетом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>
            <a:lum contrast="42000"/>
          </a:blip>
          <a:srcRect l="16529" t="8159" r="15830" b="8729"/>
          <a:stretch/>
        </p:blipFill>
        <p:spPr>
          <a:xfrm>
            <a:off x="324000" y="765000"/>
            <a:ext cx="3384360" cy="36738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95280" y="443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3 Структура пам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(АЛУ) микроконтроллера непосредственно подключено к 32 регистрам общего назначения. За один машинный цикл АЛУ производит операции между регистрами регистрового файла. АЛУ может выполнять арифметические, логические и битовы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мять програ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содержит 2 Кб флэш-памяти для хранения программ. Флэш-память организована как 1Кх16. В фирменном описании микроконтроллера утверждается, что флэш-память можно перепрограммировать до 1000 ра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ный счетчик имеет ширину 10 битов и позволяет адресовать 1024 слов памяти пр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ы занесения информации (т. е. программ) во флэш-память микроконтроллера будут рассмотрены дальш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амять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содержит 128 байтов электрически стираемой энерго­независимой памя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рганизована как отдель­ная область данных, каждый байт которой может быть прочитан и при необходимости перезаписан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ыдерживает не менее 100 000 циклов записи/стирания. К этой памяти может обращаться программа, считывая или записывая какие-либо данные. Кроме того, данные в эту память можно занести с помощью специального устройства — программатора, на этапе изготовления и программиро­вания конструкции. Ее удобно использовать для хранения каких-либо конста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48974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еративная память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рисунке показана организация памяти данных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. 224 ячейки памяти включают в себя регистровый файл, память ввода/вывода и оперативную память данны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е 96 адресов используются для регистрового файла и памя­ти ввода/вывода, следующие 128 — для ОЗУ да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ращении к памяти используются пять различных режимов адресации: прямой, непосредственный со смещением, непосредст­венный, непосредственный с предварительным декрементом и непо­средственный с постинкрементном. Регист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1 регистрового файла используются как указатели для непосредственной адрес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>
            <a:lum contrast="42000"/>
          </a:blip>
          <a:srcRect l="14511" t="0" r="14511" b="0"/>
          <a:stretch/>
        </p:blipFill>
        <p:spPr>
          <a:xfrm>
            <a:off x="5219640" y="620640"/>
            <a:ext cx="3745080" cy="5616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стр состояния 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R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>
            <a:lum contrast="60000"/>
          </a:blip>
          <a:srcRect l="7085" t="0" r="4427" b="0"/>
          <a:stretch/>
        </p:blipFill>
        <p:spPr>
          <a:xfrm>
            <a:off x="468360" y="1197000"/>
            <a:ext cx="8136000" cy="1138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250920" y="2421000"/>
            <a:ext cx="8353440" cy="41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стр состояния расположен по адресу $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($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 пространства ввода/вывода и определен следующим образ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7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общее разрешение прерываний. Для разрешения пре­рываний этот бит должен быть установлен в единицу. Управление отдельными прерываниями производится регистрами маски прерываний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 Если бит 1 = 0, независимо от состоя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рерывания запрещены.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обнуляется аппаратно после входа в прерывание и восстанавливается в состояние 1 командой возврата из подпрограммы обработки прерывани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T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для раз­решения обработки последующих прерыв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 — Т: хранение копируемого бита. Бит из регистра регист­рового файла может быть скопирован в Т команд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бит Т может быть скопирован в бит регистрового файла команд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L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 — Н: флаг половинного переноса. Этот флаг индицирует перенос из младшей половины байта при некоторых арифметических операциях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4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бит знака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OR 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вен исключающему ИЛИ между флагами N (отрицательный результат)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переполне­ние дополнения до двух). Если после операций сложения или вычи­тания чисел со знаком флаг переполне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удет установлен в 1, то результатом будет 9-разрядное число, причем старшим (т. е. знако­вым) разрядом числа будет флаг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а 8 остальных битов результата будут храниться в 8-разрядном регистре-приемнике выполнявшейся оп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3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переполнения дополнения до двух. Этот флаг надо проверять после операций сложения или вычитания чисел в до­полнительном коде. Он устанавливается в том случае, если результат операции выходит за пределы диапазона от -128 до +127. Это — допустимый диапазон чисел со знаком, которые можно сохранить в 8 разрядах. Соответственно,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становится в 1, если при сложении двух положительных чисел получится число, большее 127, или при сложении двух отрицательных чисел меньше -12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2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отрицательного результата. Этот флаг устанавливается в 1, если старший (знаковый) разряд (бит 7) равен 1, что означает, что результат отрицателен. Следует, однако, отметить, что флаг может быть также установлен и в результате логических опера­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1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нулевого результата. Этот флаг индицирует нулевой результат различных арифметических и логических операций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0 — С: флаг переноса. Этот флаг индицирует перенос в арифметических и логических операциях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казатель сте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50920" y="119700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от 8-разрядный регистр с адресом $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$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 хранит указатель; стека процесс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313. Восьми разрядов достаточно для адресации ОЗУ в пределах $60 — 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>
            <a:lum contrast="66000"/>
          </a:blip>
          <a:srcRect l="7767" t="23212" r="5819" b="1295"/>
          <a:stretch/>
        </p:blipFill>
        <p:spPr>
          <a:xfrm>
            <a:off x="324000" y="2205000"/>
            <a:ext cx="8351640" cy="1220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468360" y="3429000"/>
            <a:ext cx="806436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казатель стека указывает на область памяти, в которой сохраняется адрес возврата из подпрограмм и прерываний. Также с помощью стека подпрограммы могут получать или передавать д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ласть стека в ОЗУ должна быть задана до того, как произойдет любой вызов подпрограммы или будут разрешены прерывания. Указатель стека уменьшается на 1 при записи данных в стек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и уменьшается на 2 при вызове подпрограммы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обработке прерывания. Указатель стека увеличивается на 1 при выборе данных из стека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 увеличивается на 2 при выполнении команд возврата из подпрограммы или обработчика прерывания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комство с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кроконтроллеро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40388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контроллеры являются сердцем многих современных устройств и приборов, в том числе и быт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й главной особенностью микроконтроллеров, с точки зрения конструктора-проектировщика, является то, что с их помощью легче и зачастую гораздо дешевле реализовать различные 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140360" y="2060640"/>
            <a:ext cx="4762440" cy="3875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рисунка видно, что микроконтроллер может управлять раз­личными устройствами и принимать от них данные при минимуме дополнительных узлов, так как большое число периферийных схем уже имеется непосредственно на кристалле микроконтроллера. Это позволяет уменьшить размеры конструкции и снизить потребление энергии от источника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равнения: при использовании традиционных микропроцессоров приходится все необходимые схемы сопряжения с другими устройствами реализовывать на дополнительных компонентах, что увеличивает массу, размеры и потребление электро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йте рассмотрим типичные схемы, присутствующие в микро­контролл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ое процессорное устройство (ЦПУ) — сердце микроконтроллера. Оно принимает из памяти программ коды команд декодирует их и выполняет. ЦПУ состоит из регистров, арифмети­ко-логического устройства (АЛУ) и цепей упра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 программ. Здесь хранятся коды команд, последовательность которых формирует программу для микро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ая память данных. Здесь хранятся переменные программ. У большинства микроконтроллеров здесь расположен также ст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товый генератор. Этот генератор определяет скорость работы микро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пь сброса. Эта цепь служит для правильного запуска микро­ 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овательный порт — очень полезный элемент микроконтроллера. Он позволяет обмениваться данными с внешними устройствами при малом количестве прово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фровые линии ввода/вывода. По сравнению с последовательным портом с помощью этих линий возможно управлять одновременно несколькими линиями (или проверять несколько лини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ймер. Используется для отсчета временных интерв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рожевой таймер. Это специальный таймер, предназначенный для предотвращения сбоев программы. Он работает следующим образом: после запуска он начинает отсчет заданного временного интервала. Если программа не перезапустит его до истечения этого интервала времени, сторожевой таймер перезапустит микроконтроллер. Таким образом, программа должна давать сторожевому таймеру сигнал – все в порядке. Если она этого не сделала, значит, по какой-либо причине произошел с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мейств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это новое семейство 8-разрядных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микроконтроллеров фирм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и микроконтроллеры позволяют решать множество задач встроенных систем. Они отличаются от других распространенных в настоящее время микроконтроллеров большей скоростью работы, большей универсальностью. Быстродействие данных микроконтроллеров позволяет в ряде случаев применять их в устройствах, для реализации которых ранее можно было применять только 16-разрядные микроконтроллеры, что позволяет ощутимо удешевить готовую систему. Кроме того, микроконтроллер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чень легко программируются — простейший программатор можно изготовить самостоятельно буквально в течение 30 мину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заявлению фирмы-производителя микроконтроллеров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микроконтроллеры семей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жно перепрограммировать до 1000 раз, причем непосредственно в собранной сх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это делает эти микроконтроллеры очень привлекательными для создания новых разрабо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 именно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зработаны фирмо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бладают следующими основными характеристик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быстрая гарвардска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архитектура загрузки и вы­полнения большинства инструкций в течение ОДНОГО цикла тактового генератора. При этом достигается скорость работы примерно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МГц. Частота тактового генератора мно­гих типов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жет достигать 10...16 МГц (10...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!)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llions Instructions per Secon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миллионов операций в секунду). Отсутствует внутреннее деление частоты, как, например, в микроконтроллера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Таким образом, если использован кварцевый резонатор с часто­той 16 МГц, микроконтроллер будет работать с быстродействи­ем почти 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ы содержатся в электрически перепрограммируемой постоянной памяти програм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 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Эта память может быть перепрограммирована до 1000 раз. Это облегчает настройку и отладку систем. Кроме того, возможность внутрисхемного программирования позволяет не вынимать микроконтроллер и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вой схемы в процессе программирования, что значительно ускоряет процесс разработки систем на основе этих микроконтролле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команд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начально проектировалась с учетом особенностей языка программирования высокого уровня С, что в результате позволяет получать после компиляции программ на С гораздо более эффективный код, чем для других микроконтроллеров. А это уже выигрыш и в размере полученного кода (в объеме памяти на кристалле), и в скорости работы микроконтролле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32 регистра, все из которых напрямую работают с АЛУ. Это значительно уменьшает размер программ.  В микроконтроллера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же самое займет всего одну коман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небольшое потребление энергии и наличие нескольких режимов работы с пониженным потреблением энергии делает эти микроконтроллеры идеальными для применения в конструкциях, питающихся от батарее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ичие дешевых и простых в использовании программных средств. Многие полноценные программы доступны в свободно распространяемом варианте, как, например, отладчи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 Studi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ссембле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vras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множество версий программаторов и даже компилятор языка С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 g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екоторые из этих про­грамм имеются на компакт-диске, прилагаемом к книг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зл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широтно-импульсная модуляция), таймеры/счетчики, аналоговый компаратор и последовательный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ART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троены в микроконтроллеры и могут управляться с помощью прерываний, что значительно упрощает работу с ни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ются относительные команды переходов и ветвлений, что позволяет получать перемещаемый ко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сутствует необходимость переключать страницы памяти (в отличие, например, от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электрически перепрограммируемую постоянную память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оторая может быть перепрограммирована более 100 000 раз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7760" y="549360"/>
            <a:ext cx="84358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ется три подсемейства микроконтроллер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недорогие миниатюрные микроконтроллеры в 8-выводном исполн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c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основная линия микроконтроллеров с производительностью отдельных модификаций до 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мятью программ 2...8 Кб,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4...512 байт, оперативной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...512 бай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ga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производительностью 4...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сложных приложений, требующих большого объема памят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мятью программ до 128 Кб,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4...512 байт, оперативной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...4 Кб, встроенным 10-разрядным 8-канальным АЦП, аппаратным умножителем 8x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ной особенностью семейства микроконтроллер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то, что система команд всего семейства совместима при переносе программы со слабого на более мощный микроконтролл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сание микроконтроллер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13 фирм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m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— современный 8-битовый КМОП - микроконтроллер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имеет производительность около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мегагерц за счет того, что почти все команды он выполняет за один пери­од тактового генер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семейств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строены на основе расширенно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архитектуры, объединяющей развитый набор команд и 32 регистра общего назначения. Все 32 регистра непосредственно подключены к арифметико-логическому устройству (АЛУ), что дает доступ к любым двум регистрам в течение одного машинного цикла. Подобная архитектура обеспечивает почти десятикратный выигрыш в производительности по сравнению с традиционными микроконтроллерами, например, серии 805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имеет следующие характеристики: 2 Кб загружаемой флэш-памяти; 128 байт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15 линий ввода/вывода общего назначения; 32 рабочих регистра; два таймера/счетчика, один 8-разрядный, другой 16-разрядный; внешние и внутренние прерывания; встроенный последовательный порт; программируемый сторожевой таймер со встроенным генератором; последовательный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ля загрузки программ; два выбираемых программно режима низкого энергопотреб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эш-память на кристалле может быть перепрограммирована прямо в системе через последовательный интерфей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04Z</dcterms:modified>
  <cp:revision>12</cp:revision>
  <dc:subject/>
  <dc:title>Микропроцессорные системы</dc:title>
</cp:coreProperties>
</file>