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CDFE6-A5B2-4D9C-8D13-704DA18DA5F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A9364-1B3F-45C9-BB48-0E663AC47F0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8F6A1-1DC2-4A58-8C8A-E8819C0A58B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C8920B9-EBCE-4EB5-A878-CCF494FCA6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DFB04B-5C9E-44EC-92E6-D1E180E14E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511A129-5256-4D18-962F-1154CF0F7F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5671927-9A5A-4FE5-9D43-5B6EFBCFBF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26C611-F59C-4C12-AC6D-477399261C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B3EF9C-F2FD-42C9-B805-CA3C7D8C6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8A96BB-646E-4F73-9700-C10B89B5F6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9AC0EF-DAE3-4BBD-B6A2-A4D8355120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891D73-DF89-41E9-9E13-181E51AF6F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9F77B8-40E1-4BEE-955B-8FB431019E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8C9845-B119-4382-A280-5FC386EBA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713861-E6F5-4203-B345-327A50B4C7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9362CD-70AD-4698-BBC4-6ABC25305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679EA-D836-439D-91A9-6B4CD0060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0DC5F1-A059-4705-B379-A38F9BA66B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2BABC0-83A7-4F07-B3C0-DB91F84998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2E2586-B631-4A20-8569-7E8BAE5E30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C80B5C-8458-418A-B7B0-A3510F09AE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9708B92-F863-44C0-89B6-6C5F333F4A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7B648B-AB79-42B5-AF09-67987400AD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4D6926-54D4-468C-8FF7-4BA8A1EFA0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9AA1FB-95E2-4CF2-B997-54492AA879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2B4482-AD62-40B3-A27A-EF21B2BB95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2AC094-ADA7-4EC6-AEA8-810D2FB33FD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61656-4F5F-4832-A3D7-52DDD764DF92}"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grpSp>
        <p:nvGrpSpPr>
          <p:cNvPr id="51" name="Group 4"/>
          <p:cNvGrpSpPr/>
          <p:nvPr/>
        </p:nvGrpSpPr>
        <p:grpSpPr>
          <a:xfrm>
            <a:off x="0" y="0"/>
            <a:ext cx="9144000" cy="546120"/>
            <a:chOff x="0" y="0"/>
            <a:chExt cx="9144000" cy="546120"/>
          </a:xfrm>
        </p:grpSpPr>
        <p:sp>
          <p:nvSpPr>
            <p:cNvPr id="52"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Group 2"/>
          <p:cNvGrpSpPr/>
          <p:nvPr/>
        </p:nvGrpSpPr>
        <p:grpSpPr>
          <a:xfrm>
            <a:off x="0" y="0"/>
            <a:ext cx="9144000" cy="6858000"/>
            <a:chOff x="0" y="0"/>
            <a:chExt cx="9144000" cy="6858000"/>
          </a:xfrm>
        </p:grpSpPr>
        <p:sp>
          <p:nvSpPr>
            <p:cNvPr id="6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Group 5"/>
            <p:cNvGrpSpPr/>
            <p:nvPr/>
          </p:nvGrpSpPr>
          <p:grpSpPr>
            <a:xfrm>
              <a:off x="0" y="1066680"/>
              <a:ext cx="2867040" cy="3157560"/>
              <a:chOff x="0" y="1066680"/>
              <a:chExt cx="2867040" cy="3157560"/>
            </a:xfrm>
          </p:grpSpPr>
          <p:sp>
            <p:nvSpPr>
              <p:cNvPr id="6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3A015-110D-4785-BBBE-67D95A5C4C33}"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24" name="PlaceHolder 2"/>
          <p:cNvSpPr>
            <a:spLocks noGrp="1"/>
          </p:cNvSpPr>
          <p:nvPr>
            <p:ph type="subTitle"/>
          </p:nvPr>
        </p:nvSpPr>
        <p:spPr>
          <a:xfrm>
            <a:off x="971640" y="4652640"/>
            <a:ext cx="7175520" cy="86364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РГАНИЗАЦИЯ ВВОДА-ВЫВОДА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МИКРОПРОЦЕССОРНОЙ СИСТЕМЕ</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25" name="Picture 6" descr="D:\vvsu.gif"/>
          <p:cNvPicPr/>
          <p:nvPr/>
        </p:nvPicPr>
        <p:blipFill>
          <a:blip r:embed="rId1"/>
          <a:stretch/>
        </p:blipFill>
        <p:spPr>
          <a:xfrm>
            <a:off x="228600" y="228600"/>
            <a:ext cx="838080" cy="372960"/>
          </a:xfrm>
          <a:prstGeom prst="rect">
            <a:avLst/>
          </a:prstGeom>
          <a:ln w="0">
            <a:noFill/>
          </a:ln>
        </p:spPr>
      </p:pic>
      <p:sp>
        <p:nvSpPr>
          <p:cNvPr id="126"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В.В. Сивченко, ст. преп. каф. ИСКТ ВГУЭС</a:t>
            </a:r>
            <a:endParaRPr b="0" lang="en-US" sz="8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68000" y="549000"/>
            <a:ext cx="8496360" cy="6119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едатчик может начать пересылку символа в любой момент времени посредством генерирования стартового бита, т. е. перевода линии в состояние логического 0 на время, точно равное времени передачи бита. Затем происходит передача битов символа, начиная с младшего значащего бита, за которым следует дополнительный бит контроля по четности или нечетности. Далее с помощью стопового бита линия переводится в состояние логической 1 (рис. 3.3,б). При единичном бите контроля стоповый бит не изменяет состояния сигнала на линии. Состояние логической 1 должно поддерживаться в течение промежутка времени, равного 1 или 2 временам передачи бита. Промежуток времени от начала стартового бита до конца стопового бита (стоповых бит) называется кадром. Сразу после стоповых бит передатчик может посылать новый стартовый бит, если имеется другой символ для передачи; в противном случае уровень логической 1 может сохраняться на протяжении всего времени, пока бездействует передатчик. Новый стартовый бит может быть послан в любой момент времени после окончания стопового бита, например, через промежуток времени, равный 0.43 или 1.5 времени передачи бита.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линиях последовательной передачи данных передатчик и приемник должны быть согласованы по всем параметрам формата, включая номинальное время передачи бита. Для этого в приемнике устанавливается генератор синхроимпульсов, частота которого должна совпадать с частотой аналогичного генератора передатчика. Кроме того, для обеспечения оптимальной защищенности сигнала от искажения, шумов и разброса частоты синхроимпульсов приемник должен считывать принимаемый бит в середине его длительности.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ссмотрим работу приемника с того момента, когда он закончил прием символа данных и перешел в режим обнаружения стартового бита следующего слова. Если линия перешла в состояние логического нуля и находится в этом состоянии в течение времени, не меньшего половины временного интервала передачи бита, то приемник переводится в режим считывания бит информации. В противном случае приемник остается в режиме обнаружения, так как вероятнее всего это был не стартовый бит, а шумовая помеха. </a:t>
            </a:r>
            <a:endParaRPr b="0" lang="en-US" sz="16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68360" y="549000"/>
            <a:ext cx="8424720" cy="60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новом режиме приемник вырабатывает сигналы считывания через интервалы, равные времени передачи бита, т. е. выполняет считывание, и сохранение принимаемых бит примерно на середине их передачи. Аналогичным образом будут считаны, бит контроля четности и сигнал логической единицы (стоповый бит). Если оказалось, что на месте стопового бита, обнаружен сигнал логического нуля, то произошла "Ошибка кадра" и символ принят неправильно. Иначе проверяется, четно ли общее число единиц в информационных битах и бите контроля, и если оно четно, производится запись принятого символа в буфер приемник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ередний фронт стартового бита сигнализирует о начале поступления передаваемой информации, а момент его появления служит точкой отсчета времени для считывания бит данных. Стоповый бит предоставляет время для записи принятого символа в буфер приемника и обеспечивает возможность выявления ошибки кадра. Наиболее часто ошибки кадра появляются тогда, когда приемник ошибочно синхронизирован с битом 0, который в действительности не является стартовым битом. Если передатчик бездействует (посылает сигнал логической единицы) в течение одного кадра или более, то всегда можно восстановить правильную синхронизацию.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Хуже обстоит дело при рассинхронизации генераторов передатчика и приемника, когда временной интервал между сигналами считывания принимаемых битов будет меньше или больше времени передачи бита. Например, если при считывании битов посылки, показанной на рис. 3.3 б, временной интервал между сигналами считывания станет на 6% меньше, чем время передачи бита, то восьмой и девятый сигналы считывания будут выработаны тогда, когда на линии находится, бит контроля четности (рис. 3.4). Следовательно, не будет обнаружен стоповый бит и будет зафиксирована ошибка кадра, несмотря на правильность принятой информации. Однако при 18%-й рассинхронизации генераторов, когда вместо кода (01110001) приемник зафиксирует код (11100001), никаких ошибок не будет обнаружено - четность соблюдена и стоповый (девятый по порядку) бит, равен 1 (см. рис. 3.4). </a:t>
            </a:r>
            <a:endParaRPr b="0" lang="en-US" sz="16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11280" y="5013000"/>
            <a:ext cx="806616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4. Ошибка из-за рассинхронизации генераторов передатчика и приемника</a:t>
            </a:r>
            <a:br>
              <a:rPr sz="1600"/>
            </a:br>
            <a:endParaRPr b="0" lang="en-US" sz="1600" spc="-1" strike="noStrike">
              <a:solidFill>
                <a:srgbClr val="000000"/>
              </a:solidFill>
              <a:latin typeface="Arial"/>
            </a:endParaRPr>
          </a:p>
        </p:txBody>
      </p:sp>
      <p:pic>
        <p:nvPicPr>
          <p:cNvPr id="146" name="Picture 6" descr="pic3"/>
          <p:cNvPicPr/>
          <p:nvPr/>
        </p:nvPicPr>
        <p:blipFill>
          <a:blip r:embed="rId1"/>
          <a:stretch/>
        </p:blipFill>
        <p:spPr>
          <a:xfrm>
            <a:off x="1619280" y="692280"/>
            <a:ext cx="5832360" cy="3995640"/>
          </a:xfrm>
          <a:prstGeom prst="rect">
            <a:avLst/>
          </a:prstGeom>
          <a:ln w="0">
            <a:noFill/>
          </a:ln>
        </p:spPr>
      </p:pic>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68360" y="836280"/>
            <a:ext cx="8229600" cy="1655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араллельная передача данных между контроллером и ВУ является по своей организации наиболее простым способом обмена. Для организации параллельной передачи данных помимо шины данных, количество линий в которой равно числу одновременно передаваемых битов данных, используется минимальное количество управляющих сигналов. В простом контроллере ВУ, обеспечивающем побайтную передачу данных на внешнее устройство (рис. 3.5), в шине связи с ВУ используются всего два управляющих сигнала: "Выходные данные готовы" и "Данные приняты". </a:t>
            </a:r>
            <a:endParaRPr b="0" lang="en-US" sz="1600" spc="-1" strike="noStrike">
              <a:solidFill>
                <a:srgbClr val="000000"/>
              </a:solidFill>
              <a:latin typeface="Arial"/>
            </a:endParaRPr>
          </a:p>
        </p:txBody>
      </p:sp>
      <p:pic>
        <p:nvPicPr>
          <p:cNvPr id="148" name="Picture 7" descr="pic3"/>
          <p:cNvPicPr/>
          <p:nvPr/>
        </p:nvPicPr>
        <p:blipFill>
          <a:blip r:embed="rId1"/>
          <a:stretch/>
        </p:blipFill>
        <p:spPr>
          <a:xfrm>
            <a:off x="2195640" y="2565360"/>
            <a:ext cx="4981320" cy="3914640"/>
          </a:xfrm>
          <a:prstGeom prst="rect">
            <a:avLst/>
          </a:prstGeom>
          <a:ln w="0">
            <a:noFill/>
          </a:ln>
        </p:spPr>
      </p:pic>
      <p:sp>
        <p:nvSpPr>
          <p:cNvPr id="149" name="Rectangle 8"/>
          <p:cNvSpPr/>
          <p:nvPr/>
        </p:nvSpPr>
        <p:spPr>
          <a:xfrm>
            <a:off x="1979640" y="6521040"/>
            <a:ext cx="52689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5. Простой параллельный контроллер вывода.</a:t>
            </a:r>
            <a:endParaRPr b="0" lang="en-US" sz="1600" spc="-1" strike="noStrike">
              <a:solidFill>
                <a:srgbClr val="000000"/>
              </a:solidFill>
              <a:latin typeface="Arial"/>
            </a:endParaRPr>
          </a:p>
        </p:txBody>
      </p:sp>
      <p:sp>
        <p:nvSpPr>
          <p:cNvPr id="150" name="Rectangle 9"/>
          <p:cNvSpPr/>
          <p:nvPr/>
        </p:nvSpPr>
        <p:spPr>
          <a:xfrm>
            <a:off x="2124000" y="450000"/>
            <a:ext cx="4392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араллельная передача данных. </a:t>
            </a:r>
            <a:endParaRPr b="0" lang="en-US" sz="2000" spc="-1" strike="noStrike">
              <a:solidFill>
                <a:srgbClr val="000000"/>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539640" y="836280"/>
            <a:ext cx="8229600" cy="4321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формирования управляющего сигнала "Выходные данные готовы" и приема из ВУ управляющего сигнала "Данные приняты" в контроллере используется одноразрядный адресуемый регистр состояния и управления А2 (обычно используются раздельные регистр состояния и регистр управления). Одновременно с записью очередного байта данных с шины данных системного интерфейса в адресуемый регистр данных контроллера (порт вывода А1) в регистр состояния и управления записывается логическая единица. Тем самым формируется управляющий сигнал "Выходные данные готовы" в шине связи с ВУ. ВУ, приняв байт данных, управляющим сигналом "Данные приняты" обнуляет регистр состояния контроллера. При этом формируются управляющий сигнал системного интерфейса "Готовность ВУ" и признак готовности ВУ к обмену, передаваемый в процессор по одной из линий шины данных системного интерфейса посредством стандартной операции ввода при реализации программы асинхронного обмена. Логика управления контроллера обеспечивает селекцию адресов регистров контроллера, прием управляющих сигналов системного интерфейса и формирование на их основе внутренних управляющих сигналов контроллера, формирование управляющего сигнала системного интерфейса "Готовность ВУ". Для сопряжения регистров контроллера с шинами адреса и данных системного интерфейса в контроллере используются соответственно приемники шины адреса и приемопередатчики шины данных</a:t>
            </a:r>
            <a:endParaRPr b="0" lang="en-US" sz="1600" spc="-1" strike="noStrike">
              <a:solidFill>
                <a:srgbClr val="000000"/>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95280" y="1052640"/>
            <a:ext cx="8229600" cy="57456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стой контроллер для синхронной передачи данных в ВУ по последовательной линии связи (последовательный интерфейс) представлен на рис. 3.6. </a:t>
            </a:r>
            <a:endParaRPr b="0" lang="en-US" sz="1600" spc="-1" strike="noStrike">
              <a:solidFill>
                <a:srgbClr val="000000"/>
              </a:solidFill>
              <a:latin typeface="Arial"/>
            </a:endParaRPr>
          </a:p>
        </p:txBody>
      </p:sp>
      <p:sp>
        <p:nvSpPr>
          <p:cNvPr id="153" name="PlaceHolder 2"/>
          <p:cNvSpPr>
            <a:spLocks noGrp="1"/>
          </p:cNvSpPr>
          <p:nvPr>
            <p:ph type="title"/>
          </p:nvPr>
        </p:nvSpPr>
        <p:spPr>
          <a:xfrm>
            <a:off x="1042920" y="475920"/>
            <a:ext cx="55548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инхронный последовательный интерфейс. </a:t>
            </a:r>
            <a:endParaRPr b="0" lang="en-US" sz="2000" spc="-1" strike="noStrike">
              <a:solidFill>
                <a:srgbClr val="000000"/>
              </a:solidFill>
              <a:latin typeface="Arial"/>
            </a:endParaRPr>
          </a:p>
        </p:txBody>
      </p:sp>
      <p:pic>
        <p:nvPicPr>
          <p:cNvPr id="154" name="Picture 6" descr="pic3"/>
          <p:cNvPicPr/>
          <p:nvPr/>
        </p:nvPicPr>
        <p:blipFill>
          <a:blip r:embed="rId1"/>
          <a:stretch/>
        </p:blipFill>
        <p:spPr>
          <a:xfrm>
            <a:off x="1258920" y="1700280"/>
            <a:ext cx="6121440" cy="4429080"/>
          </a:xfrm>
          <a:prstGeom prst="rect">
            <a:avLst/>
          </a:prstGeom>
          <a:ln w="0">
            <a:noFill/>
          </a:ln>
        </p:spPr>
      </p:pic>
      <p:sp>
        <p:nvSpPr>
          <p:cNvPr id="155" name="Rectangle 7"/>
          <p:cNvSpPr/>
          <p:nvPr/>
        </p:nvSpPr>
        <p:spPr>
          <a:xfrm>
            <a:off x="1281960" y="6173280"/>
            <a:ext cx="61624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6. Контроллер последовательной синхронной передачи.</a:t>
            </a:r>
            <a:endParaRPr b="0" lang="en-US" sz="1600" spc="-1" strike="noStrike">
              <a:solidFill>
                <a:srgbClr val="000000"/>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50920" y="620280"/>
            <a:ext cx="8642160" cy="60483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осьмиразрядный адресуемый буферный регистр контроллера А1 служит для временного хранения байта данных до его загрузки в сдвиговый регистр. Запись байта данных в буферный регистр с шины данных системного интерфейса производится так же, как и в параллельном интерфейсе, только при наличии единицы в одноразрядном адресуемом регистре состояния контроллера А2. Единица в регистре состояния указывает на готовность контроллера принять очередной байт в буферный регистр. Содержимое регистра А2 передается в процессор по одной из линий шины данных системного интерфейса и используется для формирования управляющего сигнала системного интерфейса "Готовность ВУ". При записи очередного байта в буферный регистр A1 обнуляется регистр состояния А2. Программа записи байта данных в буферный регистр аналогична программе из примера 2.1 за исключением команды перехода: вместо команды JNZ m1 (переход, если не ноль) необходимо использовать команду JZ m1 (переход, если ноль).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образование данных из параллельного формата, в котором они поступили в буферный регистр контроллера из системного интерфейса, в последовательный и передача их на линию связи производятся в сдвиговом регистре с помощью генератора тактовых импульсов и двоичного трехразрядного счетчика импульсов следующим образом. Последовательная линия связи контроллера с ВУ подключается к выходу младшего разряда сдвигового регистра. По очередному тактовому импульсу содержимое сдвигового регистра сдвигается на один разряд вправо и в линию связи "Данные" выдается значение очередного разряда. Одновременно со сдвигом в ВУ передается по отдельной линии "Синхронизация" тактовый импульс. Таким образом, каждый передаваемый по линии "Данные" бит информации сопровождается синхронизирующим сигналом по линии "Синхронизация", что обеспечивает его однозначное восприятие на приемном конце последовательной линии связи.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691920"/>
            <a:ext cx="8229600" cy="5545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личество переданных в линию тактовых сигналов, а, следовательно, и переданных бит информации подсчитывается счетчиком тактовых импульсов. Как только содержимое счетчика становится равным 7, т. е. в линию переданы 8 бит (1 байт), информации, формируется управляющий сигнал "Загрузка", обеспечивающий запись в сдвиговый регистр очередного байта из буферного регистра. Этим же управляющим сигналом устанавливается в "1" регистр состояния. Очередным тактовым импульсом счетчик будет сброшен в "0", и начнется очередной цикл выдачи восьми битов информации из сдвигового регистра в линию связи. Синхронная последовательная передача отдельных битов данных на линию связи должна производиться без какого-либо перерыва, и следующий байт данных должен быть загружен в буферный регистр из системного интерфейса за время, не превышающее времени передачи восьми битов в последовательную линию связи.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записи байта данных в буферный регистр обнуляется регистр состояния контроллера. Нуль в этом регистре указывает, что в линию связи передается байт данных из сдвигового регистра, а следующий передаваемый байт данных загружен в сдвиговый регистр. Контроллер для последовательного синхронного приема данных из ВУ состоит из тех же компонентов, что и контроллер для синхронной последовательной передачи, за исключением генератора тактовых импульсов.</a:t>
            </a:r>
            <a:endParaRPr b="0" lang="en-US" sz="1600" spc="-1" strike="noStrike">
              <a:solidFill>
                <a:srgbClr val="000000"/>
              </a:solidFill>
              <a:latin typeface="Arial"/>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95280" y="1341000"/>
            <a:ext cx="8229600" cy="273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рганизация асинхронного последовательного обмена данными с внешним устройством осложняется тем, что на передающей и приемной стороне последовательной линии связи используются настроенные на одну частоту, но физически разные генераторы тактовых импульсов и, следовательно, общая синхронизация отсутствует. Рассмотрим на примерах организацию контроллеров последовательных интерфейсов для последовательных асинхронных передачи и приема данных.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стейший контроллер для асинхронной передачи данных в ВУ по последовательной линии связи представлен на рис. 3.7. Он предназначен для передачи данных в формате с двумя стоповыми битами. </a:t>
            </a:r>
            <a:endParaRPr b="0" lang="en-US" sz="1600" spc="-1" strike="noStrike">
              <a:solidFill>
                <a:srgbClr val="000000"/>
              </a:solidFill>
              <a:latin typeface="Arial"/>
            </a:endParaRPr>
          </a:p>
        </p:txBody>
      </p:sp>
      <p:sp>
        <p:nvSpPr>
          <p:cNvPr id="159" name="PlaceHolder 2"/>
          <p:cNvSpPr>
            <a:spLocks noGrp="1"/>
          </p:cNvSpPr>
          <p:nvPr>
            <p:ph type="title"/>
          </p:nvPr>
        </p:nvSpPr>
        <p:spPr>
          <a:xfrm>
            <a:off x="1186920" y="692280"/>
            <a:ext cx="569916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синхронный последовательный интерфейс. </a:t>
            </a:r>
            <a:endParaRPr b="0" lang="en-US" sz="2000" spc="-1" strike="noStrike">
              <a:solidFill>
                <a:srgbClr val="000000"/>
              </a:solidFill>
              <a:latin typeface="Arial"/>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55280" y="5876640"/>
            <a:ext cx="6769080" cy="3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7. Контроллер последовательной асинхронной передачи.</a:t>
            </a:r>
            <a:endParaRPr b="0" lang="en-US" sz="1600" spc="-1" strike="noStrike">
              <a:solidFill>
                <a:srgbClr val="000000"/>
              </a:solidFill>
              <a:latin typeface="Arial"/>
            </a:endParaRPr>
          </a:p>
        </p:txBody>
      </p:sp>
      <p:pic>
        <p:nvPicPr>
          <p:cNvPr id="161" name="Picture 6" descr="pic3"/>
          <p:cNvPicPr/>
          <p:nvPr/>
        </p:nvPicPr>
        <p:blipFill>
          <a:blip r:embed="rId1"/>
          <a:stretch/>
        </p:blipFill>
        <p:spPr>
          <a:xfrm>
            <a:off x="900000" y="620640"/>
            <a:ext cx="7056720" cy="5105520"/>
          </a:xfrm>
          <a:prstGeom prst="rect">
            <a:avLst/>
          </a:prstGeom>
          <a:ln w="0">
            <a:noFill/>
          </a:ln>
        </p:spPr>
      </p:pic>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131640" y="549360"/>
            <a:ext cx="2521080" cy="45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ведение</a:t>
            </a:r>
            <a:endParaRPr b="0" lang="en-US" sz="2000" spc="-1" strike="noStrike">
              <a:solidFill>
                <a:srgbClr val="000000"/>
              </a:solidFill>
              <a:latin typeface="Arial"/>
            </a:endParaRPr>
          </a:p>
        </p:txBody>
      </p:sp>
      <p:sp>
        <p:nvSpPr>
          <p:cNvPr id="128" name="Прямоугольник 3"/>
          <p:cNvSpPr/>
          <p:nvPr/>
        </p:nvSpPr>
        <p:spPr>
          <a:xfrm>
            <a:off x="500040" y="1028880"/>
            <a:ext cx="828684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водом/выводом (ВВ) называется передача данных между ядром ЭВМ, включающим в себя микропроцессор и основную память, и внешними устройствами (В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о единственное средство взаимодействия ЭВМ с "внешним миром", и архитектура ВВ (режимы работы, форматы команд, особенности прерываний, скорость обмена и др.) непосредственно влияет на эффективность всей систем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 время эволюции ЭВМ подсистема ВВ претерпела наибольшие изменения благодаря расширению сферы применения ЭВМ и появлению новых внешних устройств. Особенно важную роль средства ВВ играют в управляющих ЭВМ.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зработка аппаратных средств и программного обеспечения ВВ является наиболее сложным этапом проектирования новых систем на базе ЭВМ, а возможности ВВ серийных машин представляют собой один из важных параметров, определяющих выбор машины для конкретного применения.</a:t>
            </a:r>
            <a:endParaRPr b="0" lang="en-US" sz="1600" spc="-1" strike="noStrike">
              <a:solidFill>
                <a:srgbClr val="000000"/>
              </a:solidFill>
              <a:latin typeface="Arial"/>
            </a:endParaRP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539640" y="738360"/>
            <a:ext cx="8229600" cy="5930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 передачи очередного байта данных в регистр состояния А2 записывается 1. Единичный выходной сигнал регистра А2 информирует процессор о готовности контроллера к приему следующего байта данных и передаче его по линии связи в ВУ. Этот же сигнал запрещает формирование импульсов со схемы выработки импульсов сдвига - делителя частоты сигналов тактового генератора на 16. Счетчик импульсов сдвига (счетчик по mod 10) находится в нулевом состоянии и его единичный выходной сигнал поступает на вентиль и, подготавливая цепь выработки сигнала загрузки сдвигового регистра. Процесс передачи байта данных начинается с того, что процессор, выполняя команду "Вывод", выставляет этот байт на шине данных. Одновременно процессор формирует управляющий сигнал системного интерфейса "Вывод", по которому производятся запись передаваемого байта в буферный регистр А1, сброс регистра состояния А2 и формирование на вентиле и сигнала "Загрузка". Передаваемый байт переписывается в разряды 1, ... , 8 сдвигового регистра, в нулевой разряд сдвигового регистра записывается 0 (стартовый бит), а в разряды 9 и 10 - 1 (стоповые биты). Кроме того, снимается сигнал "Сброс" с делителя частоты, он начинает накапливать импульсы генератора тактовой частоты и в момент приема шестнадцатого тактового импульса вырабатывает импульс сдвига.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выходной линии контроллера "Данные" поддерживается состояние 0 (значение стартового бита) до тех пор, пока не будет выработан первый импульс сдвига. Импульс сдвига изменит состояние счетчика импульсов сдвига и перепишет в нулевой разряд сдвигового регистра первый информационный бит передаваемого байта данных.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стояние, соответствующее значению этого бита, будет поддерживаться на линии "Данные" до следующего импульса сдвига. Аналогично будут переданы остальные информационные биты, первый стоповый бит и, наконец, второй стоповый бит, при передаче которого счетчик импульсов сдвига снова установится в нулевое состояние. </a:t>
            </a:r>
            <a:endParaRPr b="0" lang="en-US" sz="1600" spc="-1" strike="noStrike">
              <a:solidFill>
                <a:srgbClr val="000000"/>
              </a:solidFill>
              <a:latin typeface="Arial"/>
            </a:endParaRPr>
          </a:p>
        </p:txBody>
      </p:sp>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620280"/>
            <a:ext cx="8229600" cy="136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о приведет к записи 1 в регистр состояния А2. Единичный сигнал с выхода регистра А2 запретит формирование импульсов сдвига, а также информирует процессор о готовности к приему нового байта данных. После завершения передачи очередного кадра (стартового бита, информационного байта и двух стоповых бит) контроллер поддерживает в линии связи уровень логической единицы (значение второго стопового бита). </a:t>
            </a:r>
            <a:endParaRPr b="0" lang="en-US" sz="1600" spc="-1" strike="noStrike">
              <a:solidFill>
                <a:srgbClr val="000000"/>
              </a:solidFill>
              <a:latin typeface="Arial"/>
            </a:endParaRPr>
          </a:p>
        </p:txBody>
      </p:sp>
      <p:sp>
        <p:nvSpPr>
          <p:cNvPr id="164" name="Rectangle 6"/>
          <p:cNvSpPr/>
          <p:nvPr/>
        </p:nvSpPr>
        <p:spPr>
          <a:xfrm>
            <a:off x="1258920" y="6237000"/>
            <a:ext cx="64800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8. Контроллер последовательного асинхронного приема.</a:t>
            </a:r>
            <a:endParaRPr b="0" lang="en-US" sz="1600" spc="-1" strike="noStrike">
              <a:solidFill>
                <a:srgbClr val="000000"/>
              </a:solidFill>
              <a:latin typeface="Arial"/>
            </a:endParaRPr>
          </a:p>
        </p:txBody>
      </p:sp>
      <p:pic>
        <p:nvPicPr>
          <p:cNvPr id="165" name="Picture 8" descr="pic3"/>
          <p:cNvPicPr/>
          <p:nvPr/>
        </p:nvPicPr>
        <p:blipFill>
          <a:blip r:embed="rId1"/>
          <a:stretch/>
        </p:blipFill>
        <p:spPr>
          <a:xfrm>
            <a:off x="1619280" y="1916280"/>
            <a:ext cx="5689440" cy="4287600"/>
          </a:xfrm>
          <a:prstGeom prst="rect">
            <a:avLst/>
          </a:prstGeom>
          <a:ln w="0">
            <a:noFill/>
          </a:ln>
        </p:spPr>
      </p:pic>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68360" y="836280"/>
            <a:ext cx="8229600" cy="5257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ровень логической единицы поступает по линии "Данные" в контроллер для асинхронного приема данных (рис. 3.8). Этот уровень создает условия для выработки сигнала, запрещающего работу делителя частоты генератора тактовых импульсов. Действительно, после приема предыдущего байта данных счетчик импульсов сдвига (счетчик по mod 9) находится в нулевом состоянии и на вентиль, и поступают два единичных сигнала: со счетчика сдвигов и из линии "Данные". На выходе вентиля и вырабатывается сигнал сброса делителя частоты сигналов тактового генератора, запрещающий формирование импульсов сдвига. В момент смены стопового бита на стартовый бит (момент начала передачи нового кадра) на линии "Данные" появится уровень логического нуля и тем самым будет снят сигнал сброса с делителя частоты. Состояние 4-разрядного двоичного счетчика (делителя частоты) начнет изменяться. Когда на счетчике накопится значение 8, он выдаст сигнал, поступающий на входы сдвигового регистра и счетчика импульсов сдвига. Так как частота сигналов генератора тактовых импульсов приемника должна совпадать с частотой генератора тактовых импульсов передатчика, то сдвиг (считывание) бита произойдет примерно на середине временного интервала, отведенного на передачу бита данных, т. е. времени, необходимого для выработки шестнадцати тактовых импульсов. Это делается для уменьшения вероятности ошибки из-за возможного различия частот генераторов передатчика и приемника, искажения формы передаваемых сигналов (переходные процессы) и т. п. Следующий сдвиг произойдет после прохождения шестнадцати тактовых импульсов, т. е. на середине временного интервала передачи первого информационного бита. </a:t>
            </a:r>
            <a:endParaRPr b="0" lang="en-US" sz="1600" spc="-1" strike="noStrike">
              <a:solidFill>
                <a:srgbClr val="000000"/>
              </a:solidFill>
              <a:latin typeface="Arial"/>
            </a:endParaRPr>
          </a:p>
        </p:txBody>
      </p:sp>
    </p:spTree>
  </p:cSld>
  <p:transition>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179280" y="475920"/>
            <a:ext cx="8785440" cy="6119640"/>
          </a:xfrm>
          <a:prstGeom prst="rect">
            <a:avLst/>
          </a:prstGeom>
          <a:noFill/>
          <a:ln w="0">
            <a:noFill/>
          </a:ln>
        </p:spPr>
        <p:txBody>
          <a:bodyPr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приеме в сдвиговый регистр девятого бита кадра (восьмого информационного бита) из него "выдвинется" стартовый бит и, следовательно, в сдвиговом регистре будет размещен весь принятый байт информации. В этот момент счетчик импульсов сдвига придет в нулевое состояние и на его выходе будет выработан единичный сигнал, по которому содержимое сдвигового регистра перепишется в буферный регистр, в регистр состояния А2 запишется 1 и он будет информировать процессор об окончании приема очередного байта, вентиль и подготовится к выработке сигнала "Сброс" (этот сигнал сформируется после прихода первого стопового бита). Получив сигнал готовности (1 в регистре А2), процессор выполнит команду "Ввод" (см. пример 1.2 Параллельной передачи данных). При этом вырабатывается управляющий сигнал системного интерфейса "Ввод", по которому производятся пересылка принятого байта данных из буферного регистра в процессор (сигнал "Чтение") и сброс регистра состояния А2.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тметим, что для простоты изложения в контроллере на рис. 14 не показаны схемы контроля стоповых бит принимаемого кадра. Не показаны также схемы контроля четности или нечетности (паритета) передаваемой информации (обычно в передаваемом байте восьмому биту придается значение 0 или 1, так чтобы в этом байте было четное количество единиц). В реальных контроллерах имеются такие схемы, и если контроллер не принимает из линии связи нужного количества стоповых бит или вырабатывается сигнал ошибки паритета в схеме контроля четности, то принятые в текущем кадре биты данных игнорируются, и контроллер ожидает поступления нового стартового бита. Обмен данными с ВУ по последовательным линиям связи широко используется в микроЭВМ, особенно в тех случаях, когда не требуется высокой скорости обмена. Вместе с тем применение в них последовательных линий связи с ВУ обусловлено двумя важными причинами. Во-первых, последовательные линии связи просты по своей организации: два провода при симплексной и полудуплексной передаче и максимум четыре - при дуплексной. Во-вторых, в микроЭВМ используются внешние устройства, обмен с которыми необходимо вести в последовательном коде. В современных микроЭВМ применяют, как правило, универсальные контроллеры для последовательного ВВ, обеспечивающие как синхронный, так и асинхронный режим обмена данными с ВУ. </a:t>
            </a:r>
            <a:endParaRPr b="0" lang="en-US" sz="1600" spc="-1" strike="noStrike">
              <a:solidFill>
                <a:srgbClr val="000000"/>
              </a:solidFill>
              <a:latin typeface="Arial"/>
            </a:endParaRPr>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10920" y="476280"/>
            <a:ext cx="777564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пособы обмена информацией в микропроцессорной системе. </a:t>
            </a:r>
            <a:endParaRPr b="0" lang="en-US" sz="2000" spc="-1" strike="noStrike">
              <a:solidFill>
                <a:srgbClr val="000000"/>
              </a:solidFill>
              <a:latin typeface="Arial"/>
            </a:endParaRPr>
          </a:p>
        </p:txBody>
      </p:sp>
      <p:sp>
        <p:nvSpPr>
          <p:cNvPr id="169" name="PlaceHolder 2"/>
          <p:cNvSpPr>
            <a:spLocks noGrp="1"/>
          </p:cNvSpPr>
          <p:nvPr>
            <p:ph/>
          </p:nvPr>
        </p:nvSpPr>
        <p:spPr>
          <a:xfrm>
            <a:off x="468360" y="1052640"/>
            <a:ext cx="8229600" cy="5472000"/>
          </a:xfrm>
          <a:prstGeom prst="rect">
            <a:avLst/>
          </a:prstGeom>
          <a:noFill/>
          <a:ln w="0">
            <a:noFill/>
          </a:ln>
        </p:spPr>
        <p:txBody>
          <a:bodyPr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микроЭВМ применяются три режима ввода/вывода:</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программно-управляемый ВВ (называемый также программным или нефорсированным ВВ)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ВВ по прерываниям (форсированный ВВ)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прямой доступ к памяти. </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вый из них характеризуется тем, что инициирование и управление ВВ осуществляется программой, выполняемой процессором, а внешние устройства играют сравнительно пассивную роль и сигнализируют только о своем состоянии, в частности, о готовности к операциям ввода/вывода. Во втором режиме ВВ инициируется не процессором, а внешним устройством, генерирующим специальный сигнал прерывания. Реагируя на этот сигнал готовности устройства к передаче данных, процессор передает управление подпрограмме обслуживания устройства, вызвавшего прерывание. Действия, выполняемые этой подпрограммой, определяются пользователем, а непосредственными операциями ВВ управляет процессор. Наконец, в режиме прямого доступа к памяти, который используется, когда пропускной способности процессора недостаточно, действия процессора приостанавливаются, он отключается от системной шины и не участвует в передачах данных между основной памятью и быстродействующим ВУ. </a:t>
            </a:r>
            <a:endParaRPr b="0" lang="en-US" sz="1600" spc="-1" strike="noStrike">
              <a:solidFill>
                <a:srgbClr val="000000"/>
              </a:solidFill>
              <a:latin typeface="Arial"/>
            </a:endParaRPr>
          </a:p>
        </p:txBody>
      </p:sp>
    </p:spTree>
  </p:cSld>
  <p:transition>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57200" y="1052640"/>
            <a:ext cx="8229600" cy="273672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метим, что во всех вышеуказанных случаях основные действия, выполняемые на системной магистрали ЭВМ, подчиняются двум основным принципам.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В процессе взаимодействия любых двух устройств ЭВМ одно из них обязательно выполняет активную, управляющую роль и является задатчиком, второе оказывается управляемым, исполнителем. Чаще всего задатчиком является процессор.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Другим важным принципом, заложенным в структуру интерфейса, является принцип квитирования (запроса - ответа): каждый управляющий сигнал, посланный задатчиком, подтверждается сигналом исполнителя. При отсутствии ответного сигнала исполнителя в течение заданного интервала времени формируется так называемый тайм-аут, задатчик фиксирует ошибку обмена и прекращает данную операцию.</a:t>
            </a:r>
            <a:r>
              <a:rPr b="0" lang="ru-RU" sz="1600" spc="-1" strike="noStrike">
                <a:solidFill>
                  <a:srgbClr val="000000"/>
                </a:solidFill>
                <a:latin typeface="Arial"/>
              </a:rPr>
              <a:t> </a:t>
            </a:r>
            <a:endParaRPr b="0" lang="en-US" sz="1600" spc="-1" strike="noStrike">
              <a:solidFill>
                <a:srgbClr val="000000"/>
              </a:solidFill>
              <a:latin typeface="Arial"/>
            </a:endParaRPr>
          </a:p>
        </p:txBody>
      </p:sp>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24000" y="1341000"/>
            <a:ext cx="8229600" cy="4753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анный режим характеризуется тем, что все действия по вводу/выводу реализуются командами прикладной программы. Наиболее простыми эти действия оказываются для "всегда готовых" внешних устройств, например индикатора на светодиодах. При необходимости ВВ в соответствующем месте программы используются команды IN или OUT. Такая передача данных называется синхронным или безусловным ВВ. Однако для большинства ВУ до выполнения операций ВВ надо убедиться в их готовности к обмену, т.е. ВВ является асинхронным. Общее состояние устройства характеризуется флагом готовности READY, называемым также флагом готовности/занятости (READY/BUSY). Иногда состояния готовности и занятости идентифицируются отдельными флагами READY и BUSY, входящими в слово состояния устройства. Процессор проверяет флаг готовности с помощью одной или нескольких команд. Если флаг установлен, то инициируются собственно ввод или вывод одного или нескольких слов данных. Когда же флаг сброшен, процессор выполняет цикл из 2-3 команд с повторной проверкой флага READY до тех пор, пока устройство не будет готово к операциям ВВ (рис. 3.9). Данный цикл называется циклом ожидания готовности ВУ и реализуется в различных процессорах по-разному. </a:t>
            </a:r>
            <a:endParaRPr b="0" lang="en-US" sz="1600" spc="-1" strike="noStrike">
              <a:solidFill>
                <a:srgbClr val="000000"/>
              </a:solidFill>
              <a:latin typeface="Arial"/>
            </a:endParaRPr>
          </a:p>
        </p:txBody>
      </p:sp>
      <p:sp>
        <p:nvSpPr>
          <p:cNvPr id="172" name="Rectangle 8"/>
          <p:cNvSpPr/>
          <p:nvPr/>
        </p:nvSpPr>
        <p:spPr>
          <a:xfrm>
            <a:off x="1253520" y="691200"/>
            <a:ext cx="49370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граммно-управляемый ввод/вывод. </a:t>
            </a:r>
            <a:endParaRPr b="0" lang="en-US" sz="2000" spc="-1" strike="noStrike">
              <a:solidFill>
                <a:srgbClr val="000000"/>
              </a:solidFill>
              <a:latin typeface="Arial"/>
            </a:endParaRPr>
          </a:p>
        </p:txBody>
      </p:sp>
    </p:spTree>
  </p:cSld>
  <p:transition>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24000" y="5373720"/>
            <a:ext cx="8229600" cy="936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сновной недостаток программного ВВ связан с непроизводительными потерями времени процессора в циклах ожидания. К достоинствам следует отнести простоту его реализации, не требующей дополнительных аппаратных средств.</a:t>
            </a:r>
            <a:r>
              <a:rPr b="0" lang="ru-RU" sz="1600" spc="-1" strike="noStrike">
                <a:solidFill>
                  <a:srgbClr val="000000"/>
                </a:solidFill>
                <a:latin typeface="Arial"/>
              </a:rPr>
              <a:t> </a:t>
            </a:r>
            <a:endParaRPr b="0" lang="en-US" sz="1600" spc="-1" strike="noStrike">
              <a:solidFill>
                <a:srgbClr val="000000"/>
              </a:solidFill>
              <a:latin typeface="Arial"/>
            </a:endParaRPr>
          </a:p>
        </p:txBody>
      </p:sp>
      <p:pic>
        <p:nvPicPr>
          <p:cNvPr id="174" name="Picture 6" descr="pic3"/>
          <p:cNvPicPr/>
          <p:nvPr/>
        </p:nvPicPr>
        <p:blipFill>
          <a:blip r:embed="rId1"/>
          <a:stretch/>
        </p:blipFill>
        <p:spPr>
          <a:xfrm>
            <a:off x="1835280" y="907920"/>
            <a:ext cx="4897440" cy="3673440"/>
          </a:xfrm>
          <a:prstGeom prst="rect">
            <a:avLst/>
          </a:prstGeom>
          <a:ln w="0">
            <a:noFill/>
          </a:ln>
        </p:spPr>
      </p:pic>
      <p:sp>
        <p:nvSpPr>
          <p:cNvPr id="175" name="Rectangle 7"/>
          <p:cNvSpPr/>
          <p:nvPr/>
        </p:nvSpPr>
        <p:spPr>
          <a:xfrm>
            <a:off x="699480" y="4797000"/>
            <a:ext cx="70891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9. Цикл программного ожидания готовности внешнего устройства.</a:t>
            </a:r>
            <a:endParaRPr b="0" lang="en-US" sz="1600" spc="-1" strike="noStrike">
              <a:solidFill>
                <a:srgbClr val="000000"/>
              </a:solidFill>
              <a:latin typeface="Arial"/>
            </a:endParaRPr>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899640" y="549360"/>
            <a:ext cx="5040360" cy="3585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рганизация прерываний в микроЭВМ. </a:t>
            </a:r>
            <a:endParaRPr b="0" lang="en-US" sz="2000" spc="-1" strike="noStrike">
              <a:solidFill>
                <a:srgbClr val="000000"/>
              </a:solidFill>
              <a:latin typeface="Arial"/>
            </a:endParaRPr>
          </a:p>
        </p:txBody>
      </p:sp>
      <p:sp>
        <p:nvSpPr>
          <p:cNvPr id="177" name="Rectangle 8"/>
          <p:cNvSpPr/>
          <p:nvPr/>
        </p:nvSpPr>
        <p:spPr>
          <a:xfrm>
            <a:off x="179280" y="1114560"/>
            <a:ext cx="8740800" cy="5447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дной из разновидностей программно-управляемого обмена данными с ВУ в микроЭВМ является обмен с прерыванием программы, отличающийся от асинхронного программно-управляемого обмена тем, что переход к выполнению команд, физически реализующих обмен данными, осуществляется с помощью специальных аппаратных средств. Команды обмена данными в этом случае выделяют в отдельный программный модуль - подпрограмму обработки прерывания. Задачей аппаратных средств обработки прерывания в процессоре микроЭВМ как раз и является приостановка выполнения одной программы (ее еще называют основной программой) и передача управления подпрограмме обработки прерывания. Действия, выполняемые при этом процессором, как правило, те же, что и при обращении к подпрограмме. Только при обращении к подпрограмме они инициируются командой, а при обработке прерывания - управляющим сигналом от ВУ, который называют "Запрос на прерывание" или "Требование прерывани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а важная особенность обмена с прерыванием программы позволяет организовать обмен данными с ВУ в произвольные моменты времени, не зависящие от программы, выполняемой в микроЭВМ. Таким образом, появляется возможность обмена данными с ВУ в реальном масштабе времени, определяемом внешней по отношению к микроЭВМ средой. Обмен с прерыванием программы существенным образом экономит время процессора, затрачиваемое на обмен. Это происходит за счет того, что исчезает необходимость в организации программных циклов ожидания готовности ВУ (см. примеры 1.1 и 1.2, Параллельная передача данных), на выполнение которых тратится значительное время, особенно при обмене с медленными ВУ. </a:t>
            </a:r>
            <a:endParaRPr b="0" lang="en-US" sz="1600" spc="-1" strike="noStrike">
              <a:solidFill>
                <a:srgbClr val="000000"/>
              </a:solidFill>
              <a:latin typeface="Arial"/>
            </a:endParaRPr>
          </a:p>
        </p:txBody>
      </p:sp>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250560" y="765000"/>
            <a:ext cx="8713800" cy="578808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рывание программы по требованию ВУ не должно оказывать на прерванную программу никакого влияния кроме увеличения времени ее выполнения за счет приостановки на время выполнения подпрограммы обработки прерывания. Поскольку для выполнения подпрограммы обработки прерывания используются различные регистры процессора (счетчик команд, регистр состояния и т.д.), то информацию, содержащуюся в них в момент прерывания, необходимо сохранить для последующего возврата в прерванную программу.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ычно задача сохранения содержимого счетчика команд и регистра состояния процессора возлагается на аппаратные средства обработки прерывания. Сохранение содержимого других регистров процессора, используемых в подпрограмме обработки прерывания, производится непосредственно в подпрограмме. Отсюда следует достаточно очевидный факт: чем больший объем информации о прерванной программе сохраняется программным путем, тем больше время реакции микроЭВМ на сигнал прерывания, и наоборот. Предпочтительными с точки зрения повышения производительности микроЭВМ (сокращения времени выполнения подпрограмм обработки, а, следовательно, и основной программы) являются уменьшение числа команд, обеспечивающих сохранение информации о прерванной программе, и реализация этих функций аппаратными средствами. Формирование сигналов прерываний - запросов ВУ на обслуживание происходит в контроллерах соответствующих ВУ. В простейших случаях в качестве сигнала прерывания может использоваться сигнал "Готовность ВУ", поступающий из контроллера ВУ в системный интерфейс микроЭВМ. Однако такое простое решение обладает существенным недостатком - процессор не имеет возможности управлять прерываниями, т. е. разрешать или запрещать их для отдельных ВУ. В результате организация обмена данными в режиме прерывания с несколькими ВУ существенно усложняется.</a:t>
            </a:r>
            <a:r>
              <a:rPr b="0" lang="ru-RU" sz="1600" spc="-1" strike="noStrike">
                <a:solidFill>
                  <a:srgbClr val="000000"/>
                </a:solidFill>
                <a:latin typeface="Arial"/>
              </a:rPr>
              <a:t> </a:t>
            </a:r>
            <a:endParaRPr b="0" lang="en-US" sz="16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71280" y="475920"/>
            <a:ext cx="5554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граммная модель внешнего устройства. </a:t>
            </a:r>
            <a:endParaRPr b="0" lang="en-US" sz="2000" spc="-1" strike="noStrike">
              <a:solidFill>
                <a:srgbClr val="000000"/>
              </a:solidFill>
              <a:latin typeface="Arial"/>
            </a:endParaRPr>
          </a:p>
        </p:txBody>
      </p:sp>
      <p:sp>
        <p:nvSpPr>
          <p:cNvPr id="130" name="PlaceHolder 2"/>
          <p:cNvSpPr>
            <a:spLocks noGrp="1"/>
          </p:cNvSpPr>
          <p:nvPr>
            <p:ph/>
          </p:nvPr>
        </p:nvSpPr>
        <p:spPr>
          <a:xfrm>
            <a:off x="468360" y="1125360"/>
            <a:ext cx="8229600" cy="5328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дключение внешних устройств к системной шине осуществляется посредством электронных схем, называемых контроллерами ВВ (интерфейсами ВВ). Они согласуют уровни электрических сигналов, а также преобразуют машинные данные в формат, необходимый устройству, и наоборот. Обычно контроллеры ВВ конструктивно оформляются вместе с процессором в виде интерфейсных плат.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процессе ввода/вывода передается информация двух видов: управляющие данные (слова) и собственно данные, или данные-сообщения. Управляющие данные от процессора, называемые также командными словами или приказами, инициируют действия, не связанные непосредственно с передачей данных, например запуск устройства, запрещение прерываний и т.п. Управляющие данные от внешних устройств называются словами состояния; они содержат информацию об определенных признаках, например о готовности устройства к передаче данных, о наличии ошибок при обмене и т.п. Состояние обычно представляется в декодированной форме - один бит для каждого признака. Регистр, содержащий группу бит, к которой процессор обращается в операциях ВВ, образует порт ВВ.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ким образом, наиболее общая программная модель внешнего устройства, которое может выполнять ввод и вывод, содержит четыре регистра ВВ: регистр выходных данных (выходной порт), регистр входных данных (входной порт), регистр управления и регистр состояния (рис. 3.1).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476000" y="6092640"/>
            <a:ext cx="554508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ис. 3.10. Фрагмент блок-схемы контроллера ВУ с разрядом.</a:t>
            </a:r>
            <a:endParaRPr b="0" lang="en-US" sz="1400" spc="-1" strike="noStrike">
              <a:solidFill>
                <a:srgbClr val="000000"/>
              </a:solidFill>
              <a:latin typeface="Arial"/>
            </a:endParaRPr>
          </a:p>
        </p:txBody>
      </p:sp>
      <p:pic>
        <p:nvPicPr>
          <p:cNvPr id="180" name="Picture 5" descr="pic3"/>
          <p:cNvPicPr/>
          <p:nvPr/>
        </p:nvPicPr>
        <p:blipFill>
          <a:blip r:embed="rId1"/>
          <a:stretch/>
        </p:blipFill>
        <p:spPr>
          <a:xfrm>
            <a:off x="1258920" y="620640"/>
            <a:ext cx="5905440" cy="5440320"/>
          </a:xfrm>
          <a:prstGeom prst="rect">
            <a:avLst/>
          </a:prstGeom>
          <a:ln w="0">
            <a:noFill/>
          </a:ln>
        </p:spPr>
      </p:pic>
    </p:spTree>
  </p:cSld>
  <p:transition>
    <p:checke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68360" y="764640"/>
            <a:ext cx="8424720" cy="5759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зрешение прерывания" в регистре состояния и управлени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решения этой проблемы регистр состояния и управления контроллера ВУ (рис. 3.10) дополняют еще одним разрядом - "Разрешение прерывания". Запись 1 или 0 в разряд "Разрешение прерывания" производится программным путем по одной из линий шины данных системного интерфейса. Управляющий сигнал системного интерфейса "Запрос на прерывание" формируется с помощью схемы совпадения только при наличии единиц в разрядах "Готовность ВУ" и "Разрешение прерывания" регистра состояния и управления контроллера. Аналогичным путем решается проблемам управления прерываниями в микроЭВМ, в целом. Для этого в регистре состояния процессора выделяется разряд, содержимое которого определяет, разрешены или запрещены прерывания от внешних устройств. Значение этого разряда может устанавливаться программным путем. В микроЭВМ обычно используется одноуровневая система прерываний, т. е. сигналы "Запрос на прерывание" от всех ВУ поступают на один вход процессора. Поэтому возникает проблема идентификации ВУ, запросившего обслуживание, и реализации заданной очередности (приоритета) обслуживания ВУ при одновременном поступлении нескольких сигналов прерывания. Существуют два основных способа идентификации ВУ, запросивших обслуживания: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программный опрос регистров состояния (разряд "Готовность ВУ") контроллеров всех ВУ;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использование векторов прерыван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рганизация прерываний с программным опросом готовности предполагает наличие в памяти микроЭВМ единой подпрограммы обслуживания прерываний от всех внешних устройств. Структура такой подпрограммы приведена на рис. 3.11. </a:t>
            </a:r>
            <a:endParaRPr b="0" lang="en-US" sz="1600" spc="-1" strike="noStrike">
              <a:solidFill>
                <a:srgbClr val="000000"/>
              </a:solidFill>
              <a:latin typeface="Arial"/>
            </a:endParaRPr>
          </a:p>
        </p:txBody>
      </p:sp>
    </p:spTree>
  </p:cSld>
  <p:transition>
    <p:checke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42920" y="6093000"/>
            <a:ext cx="712944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1. Структура единой программы прерываний и ее связь с основной программой.</a:t>
            </a:r>
            <a:endParaRPr b="0" lang="en-US" sz="1600" spc="-1" strike="noStrike">
              <a:solidFill>
                <a:srgbClr val="000000"/>
              </a:solidFill>
              <a:latin typeface="Arial"/>
            </a:endParaRPr>
          </a:p>
        </p:txBody>
      </p:sp>
      <p:pic>
        <p:nvPicPr>
          <p:cNvPr id="183" name="Picture 7" descr="pic3"/>
          <p:cNvPicPr/>
          <p:nvPr/>
        </p:nvPicPr>
        <p:blipFill>
          <a:blip r:embed="rId1"/>
          <a:stretch/>
        </p:blipFill>
        <p:spPr>
          <a:xfrm>
            <a:off x="1763640" y="620640"/>
            <a:ext cx="4857840" cy="5334120"/>
          </a:xfrm>
          <a:prstGeom prst="rect">
            <a:avLst/>
          </a:prstGeom>
          <a:ln w="0">
            <a:noFill/>
          </a:ln>
        </p:spPr>
      </p:pic>
    </p:spTree>
  </p:cSld>
  <p:transition>
    <p:checke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250560" y="664920"/>
            <a:ext cx="8713800" cy="6003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служивание ВУ с помощью единой подпрограммы обработки прерываний производится следующим образом. В конце последнего машинного цикла выполнения очередной команды основной программы процессор проверяет наличие требования прерывания от ВУ. Если сигнал прерывания есть и в процессоре прерывание разрешено, то процессор переключается на выполнение подпрограммы обработки прерываний. После сохранения содержимого регистров процессора, используемых в подпрограмме, начинается последовательный опрос регистров состояния контроллеров всех ВУ, работающих в режиме прерывания. Как только подпрограмма обнаружит готовое к обмену ВУ, сразу выполняются действия по его обслуживанию. Завершается подпрограмма обработки прерывания после опроса готовности всех ВУ и восстановления содержимого регистров процессора.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оритет ВУ в микроЭВМ с программным опросом готовности внешнего устройства однозначно определяется порядком их опроса в подпрограмме обработки прерываний. Чем раньше в подпрограмме опрашивается готовность ВУ, тем меньше время реакции на его запрос и выше приоритет. Необходимость проверки готовности всех внешних устройств существенно увеличивает время обслуживания тех ВУ, которые опрашиваются последними. Это является основным недостатком рассматриваемого способа организации прерываний. Поэтому обслуживание прерываний с опросом готовности ВУ используется только в тех случаях, когда отсутствуют жесткие требования на время обработки сигналов прерывания внешних устройств. Организация системы прерываний в микроЭВМ с использованием векторов прерываний позволяет устранить указанный недостаток. При такой организации системы прерываний ВУ, запросившее обслуживания, само идентифицирует себя с помощью вектора прерывания - адреса ячейки основной памяти микроЭВМ, в которой хранится либо первая команда подпрограммы обслуживания прерывания данного ВУ, либо адрес начала такой подпрограммы. Таким образом, процессор, получив вектор прерывания, сразу переключается на выполнение требуемой подпрограммы обработки прерывания. В микроЭВМ с векторной системой прерывания каждое ВУ должно иметь собственную подпрограмму обработки прерывания. </a:t>
            </a:r>
            <a:endParaRPr b="0" lang="en-US" sz="1600" spc="-1" strike="noStrike">
              <a:solidFill>
                <a:srgbClr val="000000"/>
              </a:solidFill>
              <a:latin typeface="Arial"/>
            </a:endParaRPr>
          </a:p>
        </p:txBody>
      </p:sp>
    </p:spTree>
  </p:cSld>
  <p:transition>
    <p:checke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468360" y="549360"/>
            <a:ext cx="8229600" cy="17272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зличают векторные системы с интерфейсным и внеинтерфейсным вектором. В первом случае вектор прерывания формирует контроллер ВУ, запросившего обслуживания, во втором - контроллер прерываний, общий для всех устройств, работающих в режиме прерываний (IBM-совместимые персональные компьютеры). Рассмотрим организацию векторной системы с интерфейсным вектором. Вектор прерывания выдается контроллером не одновременно с запросом на прерывание, а только по разрешению процессора, как это реализовано в схеме на рис. 3.12. </a:t>
            </a:r>
            <a:endParaRPr b="0" lang="en-US" sz="1600" spc="-1" strike="noStrike">
              <a:solidFill>
                <a:srgbClr val="000000"/>
              </a:solidFill>
              <a:latin typeface="Arial"/>
            </a:endParaRPr>
          </a:p>
        </p:txBody>
      </p:sp>
      <p:pic>
        <p:nvPicPr>
          <p:cNvPr id="186" name="Picture 11" descr="pic3"/>
          <p:cNvPicPr/>
          <p:nvPr/>
        </p:nvPicPr>
        <p:blipFill>
          <a:blip r:embed="rId1"/>
          <a:stretch/>
        </p:blipFill>
        <p:spPr>
          <a:xfrm>
            <a:off x="4162320" y="2190600"/>
            <a:ext cx="4981680" cy="4667400"/>
          </a:xfrm>
          <a:prstGeom prst="rect">
            <a:avLst/>
          </a:prstGeom>
          <a:ln w="0">
            <a:noFill/>
          </a:ln>
        </p:spPr>
      </p:pic>
      <p:sp>
        <p:nvSpPr>
          <p:cNvPr id="187" name="Rectangle 12"/>
          <p:cNvSpPr/>
          <p:nvPr/>
        </p:nvSpPr>
        <p:spPr>
          <a:xfrm>
            <a:off x="1476360" y="5877720"/>
            <a:ext cx="263520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2. Формирование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екторов прерывани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контроллере ВУ.</a:t>
            </a:r>
            <a:endParaRPr b="0" lang="en-US" sz="1600" spc="-1" strike="noStrike">
              <a:solidFill>
                <a:srgbClr val="000000"/>
              </a:solidFill>
              <a:latin typeface="Arial"/>
            </a:endParaRPr>
          </a:p>
        </p:txBody>
      </p:sp>
      <p:sp>
        <p:nvSpPr>
          <p:cNvPr id="188" name="Rectangle 13"/>
          <p:cNvSpPr/>
          <p:nvPr/>
        </p:nvSpPr>
        <p:spPr>
          <a:xfrm>
            <a:off x="187560" y="2210040"/>
            <a:ext cx="4120560" cy="2770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о делается для того, чтобы исключит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одновременную выдачу векторов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прерывания от нескольких В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ответ на сигнал контроллера В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Запрос на прерывание" процессор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формирует управляющий сигнал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Предоставление прерывания (вх.)",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который разрешает контроллеру В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запросившему обслуживание, выдач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ектора прерывания в шину адрес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системного интерфейса. </a:t>
            </a:r>
            <a:endParaRPr b="0" lang="en-US" sz="1600" spc="-1" strike="noStrike">
              <a:solidFill>
                <a:srgbClr val="000000"/>
              </a:solidFill>
              <a:latin typeface="Arial"/>
            </a:endParaRPr>
          </a:p>
        </p:txBody>
      </p:sp>
    </p:spTree>
  </p:cSld>
  <p:transition>
    <p:checke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539640" y="620640"/>
            <a:ext cx="8229600" cy="3672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этого в контроллере используются регистр вектора прерывания и схема совпадения И3. Регистр вектора прерывания обычно реализуется с помощью перемычек или переключателей, что позволяет пользователю устанавливать для конкретных ВУ требуемые значения векторов прерыван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правляющий сигнал "Предоставление прерывания (вых.)" формируется в контроллере ВУ с помощью схемы совпадения И2. Этот сигнал используется для организации последовательного аппаратного опроса готовности ВУ и реализации тем самым требуемых приоритетов ВУ. Процессор при поступлении в него по общей линии системного интерфейса "Запрос на прерывание" сигнала прерывания формирует управляющий сигнал "Предоставление прерывания (вх.)", который поступает сначала в контроллер ВУ с наивысшим приоритетом (рис. 3.13). Если это устройство не требовало обслуживания, то его контроллер пропускает сигнал "Предоставление прерывания" на следующий контроллер, иначе дальнейшее распространение сигнала прекращается и контроллер выдает вектор прерывания на адресноинформационную шину. </a:t>
            </a:r>
            <a:endParaRPr b="0" lang="en-US" sz="1600" spc="-1" strike="noStrike">
              <a:solidFill>
                <a:srgbClr val="000000"/>
              </a:solidFill>
              <a:latin typeface="Arial"/>
            </a:endParaRPr>
          </a:p>
        </p:txBody>
      </p:sp>
      <p:pic>
        <p:nvPicPr>
          <p:cNvPr id="190" name="Picture 4" descr="pic3"/>
          <p:cNvPicPr/>
          <p:nvPr/>
        </p:nvPicPr>
        <p:blipFill>
          <a:blip r:embed="rId1"/>
          <a:srcRect l="0" t="15866" r="0" b="24173"/>
          <a:stretch/>
        </p:blipFill>
        <p:spPr>
          <a:xfrm>
            <a:off x="1979640" y="3860640"/>
            <a:ext cx="4762440" cy="1714680"/>
          </a:xfrm>
          <a:prstGeom prst="rect">
            <a:avLst/>
          </a:prstGeom>
          <a:ln w="0">
            <a:noFill/>
          </a:ln>
        </p:spPr>
      </p:pic>
      <p:sp>
        <p:nvSpPr>
          <p:cNvPr id="191" name="Rectangle 5"/>
          <p:cNvSpPr/>
          <p:nvPr/>
        </p:nvSpPr>
        <p:spPr>
          <a:xfrm>
            <a:off x="611280" y="5732640"/>
            <a:ext cx="7632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ис. 3.13. Реализация приоритетов ВУ в микроЭВМ с векторной системой прерывани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 интерфейсным вектором (ППР (вх.) - "Предоставление прерывания (входной)";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ПР (вых.) - Предоставление прерывания (выходной)"). </a:t>
            </a:r>
            <a:endParaRPr b="0" lang="en-US" sz="1400" spc="-1" strike="noStrike">
              <a:solidFill>
                <a:srgbClr val="000000"/>
              </a:solidFill>
              <a:latin typeface="Arial"/>
            </a:endParaRPr>
          </a:p>
        </p:txBody>
      </p:sp>
    </p:spTree>
  </p:cSld>
  <p:transition>
    <p:checke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611280" y="692280"/>
            <a:ext cx="8229600" cy="5400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ппаратный опрос готовности ВУ производится гораздо быстрее, нежели программный. Но если обслуживания запросили одновременно два или более ВУ, обслуживание менее приоритетных ВУ будет отложено на время обслуживания более приоритетных, как и в системе прерывания с программным опросом. Рассмотренная векторная система прерываний практически полностью соответствует системе прерываний, реализованной в микроЭВМ "Электроника-60". Восьмиразрядный вектор прерывания в "Электронике-60" указывает одну из ячеек памяти с адресами от 0 до (376)8, в которой размещается адрес начала подпрограммы обработки прерывания. В следующей за указанной вектором прерывания ячейке памяти хранится новое содержимое регистра состояния процессора, загружаемое в него при переключении на подпрограмму обработки прерывания. Один из бит нового содержимого регистра состояния процессора запрещает или разрешает прерывания от других ВУ, что позволяет ВУ с более высоким приоритетом прерывать подпрограммы обслуживания ВУ с меньшим приоритетом и наоборот. Векторная система с внеинтерфейсным вектором прерывания используется в IBM-совместимых персональных компьютерах. В этих компьютерах контроллеры внешних устройств не имеют регистров для хранения векторов прерывания, а для идентификации устройств, запросивших обслуживания, используется общий для всех ВУ контроллер прерываний. Ниже приведен пример контроллера прерываний INTEL 8559A. БИС программируемого контроллера прерываний (ПКП) представляет собой устройство, реализующее до восьми уровней запросов на прерывания с возможностью программного маскирования и изменения порядка обслуживания прерываний. За счет каскадного включения БИС ПКП число уровней прерывания может быть расширено до 64 (в архитектуре персонального компьютера IBM PC AT - 16).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1619280" y="5589360"/>
            <a:ext cx="5410080" cy="431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4. Контроллер прерываний Intel 8259A.</a:t>
            </a:r>
            <a:endParaRPr b="0" lang="en-US" sz="1600" spc="-1" strike="noStrike">
              <a:solidFill>
                <a:srgbClr val="000000"/>
              </a:solidFill>
              <a:latin typeface="Arial"/>
            </a:endParaRPr>
          </a:p>
        </p:txBody>
      </p:sp>
      <p:pic>
        <p:nvPicPr>
          <p:cNvPr id="194" name="Picture 5" descr="pic3"/>
          <p:cNvPicPr/>
          <p:nvPr/>
        </p:nvPicPr>
        <p:blipFill>
          <a:blip r:embed="rId1"/>
          <a:stretch/>
        </p:blipFill>
        <p:spPr>
          <a:xfrm>
            <a:off x="1835280" y="549360"/>
            <a:ext cx="4897440" cy="4832280"/>
          </a:xfrm>
          <a:prstGeom prst="rect">
            <a:avLst/>
          </a:prstGeom>
          <a:ln w="0">
            <a:noFill/>
          </a:ln>
        </p:spPr>
      </p:pic>
    </p:spTree>
  </p:cSld>
  <p:transition>
    <p:checke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68360" y="765000"/>
            <a:ext cx="8229600" cy="4896000"/>
          </a:xfrm>
          <a:prstGeom prst="rect">
            <a:avLst/>
          </a:prstGeom>
          <a:noFill/>
          <a:ln w="0">
            <a:noFill/>
          </a:ln>
        </p:spPr>
        <p:txBody>
          <a:bodyPr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состав БИС входят: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GI - регистр запретов прерываний; хранит все уровни, на которые поступают запросы IRQx;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PRB - схема принятия решений по приоритетам; схема идентифицирует приоритет запросов и выбирает запрос с наивысшим приоритетом;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ISR - регистр обслуживаемых прерываний; сохраняет уровни запросов прерываний, находящиеся на обслуживании ПКП;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GM - регистр маскирования прерываний; обеспечивает запрещение одной или нескольких линий запросов прерывания;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BD - буфер данных; предназначен для сопряжения ПКП с системной шиной данных;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WCU - блок управления записью/чтением; принимает управляющие сигналы от микропроцессора и задает режим функционирования ПКП;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CMP - схема каскадного буфера-компаратора; используется для включения в систему нескольких ПКП;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CU - схема управления; вырабатывает сигналы прерывания и формирует трехбайтовую команду CALL для выдачи на шину данных. </a:t>
            </a:r>
            <a:endParaRPr b="0" lang="en-US" sz="1600" spc="-1" strike="noStrike">
              <a:solidFill>
                <a:srgbClr val="000000"/>
              </a:solidFill>
              <a:latin typeface="Arial"/>
            </a:endParaRPr>
          </a:p>
        </p:txBody>
      </p:sp>
    </p:spTree>
  </p:cSld>
  <p:transition>
    <p:checker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68360" y="691920"/>
            <a:ext cx="8229600" cy="2376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становка ПКП в исходное состояние и "настройка" его на определенный режим обслуживания прерываний происходит с помощью двух типов команд: команд инициализации (ICW) и команд управления операциями (OCW). Программируемый контроллер прерываний (ПКП) имеет 16 входов запросов прерываний (IRQ 0 - IRQ 15). Контроллер состоит из двух каскадно включенных контроллеров - выход INTR (запрос на прерывание) второго контроллера подключен ко входу IRQ 2 первого контроллера. В качестве примера отметим, что к линии IRQ 0 подключен системный таймер, к линии IRQ 1 - клавиатура, к линии IRQ 8 - часы реального времени и т.д. Упрощенная схема взаимодействия контроллера прерываний с процессором и контроллером шины имеет следующий вид. </a:t>
            </a:r>
            <a:endParaRPr b="0" lang="en-US" sz="1600" spc="-1" strike="noStrike">
              <a:solidFill>
                <a:srgbClr val="000000"/>
              </a:solidFill>
              <a:latin typeface="Arial"/>
            </a:endParaRPr>
          </a:p>
        </p:txBody>
      </p:sp>
      <p:sp>
        <p:nvSpPr>
          <p:cNvPr id="197" name="Rectangle 9"/>
          <p:cNvSpPr/>
          <p:nvPr/>
        </p:nvSpPr>
        <p:spPr>
          <a:xfrm>
            <a:off x="539640" y="5573160"/>
            <a:ext cx="465480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5. Упрощенная схема взаимодействи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контроллера прерываний с процессором 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контроллером шины в IBM-совместимых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персональных компьютерах класса AT.</a:t>
            </a:r>
            <a:endParaRPr b="0" lang="en-US" sz="1600" spc="-1" strike="noStrike">
              <a:solidFill>
                <a:srgbClr val="000000"/>
              </a:solidFill>
              <a:latin typeface="Arial"/>
            </a:endParaRPr>
          </a:p>
        </p:txBody>
      </p:sp>
      <p:pic>
        <p:nvPicPr>
          <p:cNvPr id="198" name="Picture 10" descr="pic3"/>
          <p:cNvPicPr/>
          <p:nvPr/>
        </p:nvPicPr>
        <p:blipFill>
          <a:blip r:embed="rId1"/>
          <a:srcRect l="18128" t="0" r="15914" b="8150"/>
          <a:stretch/>
        </p:blipFill>
        <p:spPr>
          <a:xfrm>
            <a:off x="5219640" y="2924280"/>
            <a:ext cx="3581640" cy="3744720"/>
          </a:xfrm>
          <a:prstGeom prst="rect">
            <a:avLst/>
          </a:prstGeom>
          <a:ln w="0">
            <a:noFill/>
          </a:ln>
        </p:spPr>
      </p:pic>
      <p:sp>
        <p:nvSpPr>
          <p:cNvPr id="199" name="Rectangle 11"/>
          <p:cNvSpPr/>
          <p:nvPr/>
        </p:nvSpPr>
        <p:spPr>
          <a:xfrm>
            <a:off x="395280" y="2926440"/>
            <a:ext cx="483552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а схема функционирует следующим образом.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Пусть в некоторый момент времен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контроллер клавиатуры с помощью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единичного сигнала по линии IRQ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известил контроллер прерывани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о своей готовности к обмену. </a:t>
            </a:r>
            <a:endParaRPr b="0" lang="en-US" sz="16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620640"/>
            <a:ext cx="8229600" cy="160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аждый из этих регистров должен иметь однозначный адрес, который идентифицируется дешифратором адреса. В зависимости от особенностей устройства общая модель конкретизируется, например, отдельные регистры состояния и управления объединяются в один регистр, в устройстве ввода (вывода) имеется только регистр входных (выходных) данных, для ввода и вывода используется двунаправленный порт. </a:t>
            </a:r>
            <a:endParaRPr b="0" lang="en-US" sz="1600" spc="-1" strike="noStrike">
              <a:solidFill>
                <a:srgbClr val="000000"/>
              </a:solidFill>
              <a:latin typeface="Arial"/>
            </a:endParaRPr>
          </a:p>
        </p:txBody>
      </p:sp>
      <p:pic>
        <p:nvPicPr>
          <p:cNvPr id="132" name="Picture 5" descr="pic3"/>
          <p:cNvPicPr/>
          <p:nvPr/>
        </p:nvPicPr>
        <p:blipFill>
          <a:blip r:embed="rId1"/>
          <a:stretch/>
        </p:blipFill>
        <p:spPr>
          <a:xfrm>
            <a:off x="1979640" y="2349360"/>
            <a:ext cx="5040360" cy="3294360"/>
          </a:xfrm>
          <a:prstGeom prst="rect">
            <a:avLst/>
          </a:prstGeom>
          <a:ln w="0">
            <a:noFill/>
          </a:ln>
        </p:spPr>
      </p:pic>
      <p:sp>
        <p:nvSpPr>
          <p:cNvPr id="133" name="Rectangle 6"/>
          <p:cNvSpPr/>
          <p:nvPr/>
        </p:nvSpPr>
        <p:spPr>
          <a:xfrm>
            <a:off x="1763640" y="5734080"/>
            <a:ext cx="523260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 Программная модель внешнего устройств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68360" y="620640"/>
            <a:ext cx="8229600" cy="5832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цессор, если маскируемые прерывания разрешены (т.е. установлен флаг прерываний IF в регистре флагов процессора), посылает на контроллер шины сигналы R# - чтение, C# - управление и IO# - ввод/вывод, определяющие тип цикла шины. Контроллер шины, в свою очередь, генерирует два сигнала подтверждения прерывания INTA# и направляет их на контроллер прерываний. По второму импульсу контроллер прерываний выставляет на шину данных восьмибитный номер вектора прерывания, соответствующий данной линии IRQ. В режиме реального адреса ("реальном" режиме) векторы прерываний хранятся в таблице векторов прерываний, которая находится в первом килобайте оперативной памяти. Под каждый вектор отведено 4 байта (2 байта под адрес сегмента и 2 байта под смещение), т.е. в таблице может содержаться 256 векторов. Адрес вектора в таблице - номер вектора - 4.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алее процессор считывает номер вектора прерывания. Сохраняет в стеке содержимое регистра флагов, сбрасывает флаг прерываний IF и помещает в стек адрес возврата в прерванную программу (регистры CS и IP). После этого процессор извлекает из таблицы векторов прерываний адрес подпрограммы обработки прерываний для данного устройства и приступает к ее выполнению. Процедура обработки аппаратного прерывания должна завершаться командой конца прерывания EOI (End of Interruption), посылаемой контроллеру прерываний. Для этого необходимо записать байт 20h в порт 20h (для первого контроллера) и в порт A0h (для второго). В IBM PC/XT/AT используется режим прерываний с фиксированными приоритетами. Высшим приоритетом обладает запрос по линии IRQ 0, низшим - IRQ 7. Так как второй контроллер подключен к линии IRQ 2 первого контроллера, то приоритеты линий IRQ в порядке убывания приоритета располагаются следующим образом: IRQ 0, IRQ 1, IRQ 8 - IRQ 15, IRQ 3 - IRQ 7. Если запрос на обслуживание посылают одновременно два устройства с разными приоритетами, то контроллер обслуживает запрос с большим приоритетом, а запрос с меньшим приоритетом блокирует. Блокировка сохраняется до получения команды EOI. </a:t>
            </a:r>
            <a:endParaRPr b="0" lang="en-US" sz="1600" spc="-1" strike="noStrike">
              <a:solidFill>
                <a:srgbClr val="000000"/>
              </a:solidFill>
              <a:latin typeface="Arial"/>
            </a:endParaRPr>
          </a:p>
        </p:txBody>
      </p:sp>
    </p:spTree>
  </p:cSld>
  <p:transition>
    <p:checker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258560" y="549000"/>
            <a:ext cx="526716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рганизация прямого доступа к памяти. </a:t>
            </a:r>
            <a:endParaRPr b="0" lang="en-US" sz="2000" spc="-1" strike="noStrike">
              <a:solidFill>
                <a:srgbClr val="000000"/>
              </a:solidFill>
              <a:latin typeface="Arial"/>
            </a:endParaRPr>
          </a:p>
        </p:txBody>
      </p:sp>
      <p:sp>
        <p:nvSpPr>
          <p:cNvPr id="202" name="PlaceHolder 2"/>
          <p:cNvSpPr>
            <a:spLocks noGrp="1"/>
          </p:cNvSpPr>
          <p:nvPr>
            <p:ph/>
          </p:nvPr>
        </p:nvSpPr>
        <p:spPr>
          <a:xfrm>
            <a:off x="457200" y="1052640"/>
            <a:ext cx="8229600" cy="52560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дним из способов обмена данными с ВУ является обмен в режиме прямого доступа к памяти (ПДП). В этом режиме обмен данными между ВУ и основной памятью микроЭВМ происходит без участия процессора. Обменом в режиме ПДП управляет не программа, выполняемая процессором, а электронные схемы, внешние по отношению к процессору. Обычно схемы, управляющие обменом в режиме ПДП, размещаются в специальном контроллере, который называется контроллером прямого доступа к памяти.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мен данными в режиме ПДП позволяет использовать в микроЭВМ быстродействующие внешние запоминающие устройства, такие, например, как накопители на жестких магнитных дисках, поскольку ПДП может обеспечить время обмена одним байтом данных между памятью и ВЗУ, равное циклу обращения к памяти. Для реализации режима прямого доступа к памяти необходимо обеспечить непосредственную связь контроллера ПДП и памяти микроЭВМ. Для этой цели можно было бы использовать специально выделенные шины адреса и данных, связывающие контроллер ПДП с основной памятью. Но такое решение нельзя признать оптимальным, так как это приведет к значительному усложнению микроЭВМ в целом, особенно при подключении нескольких ВЗУ. В целях сокращения количества линий в шинах микроЭВМ контроллер ПДП подключается к памяти посредством шин адреса и данных системного интерфейса. При этом возникает проблема совместного использования шин системного интерфейса процессором и контроллером ПДП. Можно выделить два основных способа ее решения: реализация обмена в режиме ПДП с "захватом цикла" и в режиме ПДП с блокировкой процессора. </a:t>
            </a:r>
            <a:endParaRPr b="0" lang="en-US" sz="1600" spc="-1" strike="noStrike">
              <a:solidFill>
                <a:srgbClr val="000000"/>
              </a:solidFill>
              <a:latin typeface="Arial"/>
            </a:endParaRPr>
          </a:p>
        </p:txBody>
      </p:sp>
    </p:spTree>
  </p:cSld>
  <p:transition>
    <p:checke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68360" y="836280"/>
            <a:ext cx="8229600" cy="5256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уществуют две разновидности прямого доступа к памяти с "захватом цикла". Наиболее простой способ организации ПДП состоит в том, что для обмена используются те машинные циклы процессора, в которых он не обменивается данными с памятью. В такие циклы контроллер ПДП может обмениваться данными с памятью, не мешая работе процессора. Однако возникает необходимость выделения таких циклов, чтобы не произошло временного перекрытия обмена ПДП с операциями обмена, инициируемыми процессором. В некоторых процессорах формируется специальный управляющий сигнал, указывающий циклы, в которых процессор не обращается к системному интерфейсу. При использовании других процессоров для выделения таких циклов необходимо применение в контроллерах ПДП специальных селектирующих схем, что усложняет их конструкцию. Применение рассмотренного способа организации ПДП не снижает производительности микроЭВМ, но при этом обмен в режиме ПДП возможен только в случайные моменты времени одиночными байтами или словами. Более распространенным является ПДП с "захватом цикла" и принудительным отключением процессора от шин системного интерфейса. Для реализации такого режима ПДП системный интерфейс микроЭВМ дополняется двумя линиями для передачи управляющих сигналов "Требование прямого доступа к памяти" (ТПДП) и "Предоставление прямого доступа к памяти" (ППДП). </a:t>
            </a:r>
            <a:endParaRPr b="0" lang="en-US" sz="1600" spc="-1" strike="noStrike">
              <a:solidFill>
                <a:srgbClr val="000000"/>
              </a:solidFill>
              <a:latin typeface="Arial"/>
            </a:endParaRPr>
          </a:p>
        </p:txBody>
      </p:sp>
    </p:spTree>
  </p:cSld>
  <p:transition>
    <p:checker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68360" y="765000"/>
            <a:ext cx="8229600" cy="5112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правляющий сигнал ТПДП формируется контроллером прямого доступа к памяти. Процессор, получив этот сигнал, приостанавливает выполнение очередной команды, не дожидаясь ее завершения, выдает на системный интерфейс управляющий сигнал ППДП и отключается от шин системного интерфейса. С этого момента все шины системного интерфейса управляются контроллером ПДП. Контроллер ПДП, используя шины системного интерфейса, осуществляет обмен одним байтом или словом данных с памятью микроЭВМ и затем, сняв сигнал ТПДП, возвращает управление системным интерфейсом процессору. Как только контроллер ПДП будет готов к обмену следующим байтом, он вновь "захватывает" цикл процессора и т.д. В промежутках между сигналами ТПДП процессор продолжает выполнять команды программы. Тем самым выполнение программы замедляется, но в меньшей степени, чем при обмене в режиме прерываний. Применение в микроЭВМ обмена данными с ВУ в режиме ПДП всегда требует предварительной подготовки, а именно: для каждого ВУ необходимо выделить область памяти, используемую при обмене, и указать ее размер, т.е. количество записываемых в память или читаемых из памяти байт (слов) информации. Следовательно, контроллер ПДП должен обязательно иметь в своем составе регистр адреса и счетчик байт (слов). Перед началом обмена с ВУ в режиме ПДП процессор должен выполнить программу загрузки. Эта программа обеспечивает запись в указанные регистры контроллера ПДП начального адреса выделенной ВУ памяти и ее размера в байтах или словах в зависимости от того, какими порциями информации ведется обмен. Сказанное не относится к начальной загрузке программ в память в режиме ПДП. В этом случае содержимое регистра адреса и счетчика байт слов устанавливается переключателями или перемычками непосредственно на плате контроллера. </a:t>
            </a:r>
            <a:endParaRPr b="0" lang="en-US" sz="1600" spc="-1" strike="noStrike">
              <a:solidFill>
                <a:srgbClr val="000000"/>
              </a:solidFill>
              <a:latin typeface="Arial"/>
            </a:endParaRPr>
          </a:p>
        </p:txBody>
      </p:sp>
    </p:spTree>
  </p:cSld>
  <p:transition>
    <p:checker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24000" y="549000"/>
            <a:ext cx="8640720" cy="647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лок-схема простого контроллера ПДП, обеспечивающего ввод данных в память микроЭВМ по инициативе ВУ в режиме ПДП "Захват цикла", приведена на рис. 3.16. </a:t>
            </a:r>
            <a:endParaRPr b="0" lang="en-US" sz="1600" spc="-1" strike="noStrike">
              <a:solidFill>
                <a:srgbClr val="000000"/>
              </a:solidFill>
              <a:latin typeface="Arial"/>
            </a:endParaRPr>
          </a:p>
        </p:txBody>
      </p:sp>
      <p:pic>
        <p:nvPicPr>
          <p:cNvPr id="206" name="Picture 7" descr="pic3"/>
          <p:cNvPicPr/>
          <p:nvPr/>
        </p:nvPicPr>
        <p:blipFill>
          <a:blip r:embed="rId1"/>
          <a:stretch/>
        </p:blipFill>
        <p:spPr>
          <a:xfrm>
            <a:off x="2050920" y="1197000"/>
            <a:ext cx="5185080" cy="4832280"/>
          </a:xfrm>
          <a:prstGeom prst="rect">
            <a:avLst/>
          </a:prstGeom>
          <a:ln w="0">
            <a:noFill/>
          </a:ln>
        </p:spPr>
      </p:pic>
      <p:sp>
        <p:nvSpPr>
          <p:cNvPr id="207" name="Rectangle 8"/>
          <p:cNvSpPr/>
          <p:nvPr/>
        </p:nvSpPr>
        <p:spPr>
          <a:xfrm>
            <a:off x="626400" y="6093000"/>
            <a:ext cx="769392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6. Контроллер ПДП для ввода данных из ВУ в режиме "Захват цикла"и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тключением процессора от шин системного интерфейса.</a:t>
            </a:r>
            <a:endParaRPr b="0" lang="en-US" sz="1600" spc="-1" strike="noStrike">
              <a:solidFill>
                <a:srgbClr val="000000"/>
              </a:solidFill>
              <a:latin typeface="Arial"/>
            </a:endParaRPr>
          </a:p>
        </p:txBody>
      </p:sp>
    </p:spTree>
  </p:cSld>
  <p:transition>
    <p:checker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457200" y="620640"/>
            <a:ext cx="8229600" cy="5832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ед началом очередного сеанса ввода данных из ВУ процессор загружает в регистры его контроллера следующую информацию: в счетчик байт - количество принимаемых байт данных, а в регистр адреса - начальный адрес области памяти для вводимых данных. Тем самым контроллер подготавливается к выполнению операции ввода данных из ВУ в память микроЭВМ в режиме ПДП. Байты данных из ВУ поступают в регистр данных контроллера в постоянном темпе. При этом каждый байт сопровождается управляющим сигналом из ВУ "Ввод данных", который обеспечивает запись байта данных в регистр данных контроллера. По этому же сигналу и при ненулевом состоянии счетчика байт контроллер формирует сигнал ТПДП. По ответному сигналу процессора ППДП контроллер выставляет на шины адреса и данных системного интерфейса содержимое своих регистров адреса и данных соответственно. Формируя управляющий сигнал "Вывод", контроллер ПДП обеспечивает запись байта данных из своего регистра данных в память микроЭВМ. Сигнал ППДП используется в контроллере и для модификации счетчика байт и регистра адреса. По каждому сигналу ППДП из содержимого счетчика байт вычитается единица, и как только содержимое счетчика станет равно нулю, контроллер прекратит формирование сигналов "Требование прямого доступа к памяти".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примере простого контроллера ПДП мы рассмотрели только процесс подготовки контроллера и непосредственно передачу данных в режиме ПДП. На практике любой сеанс обмена данными с ВУ в режиме ПДП всегда инициируется программой, выполняемой процессором, и включает два следующих этапа.</a:t>
            </a:r>
            <a:endParaRPr b="0" lang="en-US" sz="1600" spc="-1" strike="noStrike">
              <a:solidFill>
                <a:srgbClr val="000000"/>
              </a:solidFill>
              <a:latin typeface="Arial"/>
            </a:endParaRPr>
          </a:p>
        </p:txBody>
      </p:sp>
    </p:spTree>
  </p:cSld>
  <p:transition>
    <p:checker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57200" y="620280"/>
            <a:ext cx="8229600" cy="597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На этапе подготовки ВУ к очередному сеансу обмена процессор в режиме программно-управляемого обмена опрашивает состояние ВУ (проверяет его готовность к обмену) и посылает в ВУ команды, обеспечивающие подготовку ВУ к обмену. Такая подготовка может сводиться, например, к перемещению головок на требуемую дорожку в накопителе на жестком диске. Затем выполняется загрузка регистров контроллера ПДП. На этом подготовка к обмену в режиме ПДП завершается, и процессор переключается на выполнение другой программы.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Обмен данными в режиме ПДП начинается после завершения подготовительных операций в ВУ по инициативе либо ВУ, как это было рассмотрено выше, либо процессора. В этом случае контроллер ПДП необходимо дополнить регистром состояния и управления, содержимое которого будет определять режим работы контроллера ПДП. Один из разрядов этого регистра будет инициировать обмен данными с ВУ. Загрузка информации в регистр состояния и управления контроллера ПДП производится программным путем.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иболее распространенным является обмен в режиме прямого доступ к памяти с блокировкой процессора. Он отличается от ПДП с "захватом цикла" тем, что управление системным интерфейсом передается контроллеру ПДП не на время обмена одним байтом, а на время обмена блоком данных. Такой режим ПДП используется в тех случаях, когда время обмена одним байтом с ВУ сопоставимо с циклом системной шины.</a:t>
            </a:r>
            <a:endParaRPr b="0" lang="en-US" sz="1600" spc="-1" strike="noStrike">
              <a:solidFill>
                <a:srgbClr val="0000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Прямоугольник 2"/>
          <p:cNvSpPr/>
          <p:nvPr/>
        </p:nvSpPr>
        <p:spPr>
          <a:xfrm>
            <a:off x="468360" y="620640"/>
            <a:ext cx="821520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епосредственные действия, связанные с вводом/выводом, реализуются одним из двух способов, различающихся адресацией регистров ВВ. Интерфейс с изолированными шинами характеризуется раздельной адресацией памяти и внешних устройств при обмене информацией. Изолированный ВВ предполагает наличие специальных команд ввода/вывода, общий формат которых показан на рис. 3.2. При выполнении команды ввода IN содержимое адресуемого входного регистра PORT передается во внутренний регистр REG процессора, а при выполнении команды OUT содержимое регистра REG передается в выходной порт PORT. В процессоре могут быть и другие команды, относящиеся к ВВ и связанные с проверкой и модификацией содержимого регистра управления и состояния. </a:t>
            </a:r>
            <a:endParaRPr b="0" lang="en-US" sz="1600" spc="-1" strike="noStrike">
              <a:solidFill>
                <a:srgbClr val="000000"/>
              </a:solidFill>
              <a:latin typeface="Arial"/>
            </a:endParaRPr>
          </a:p>
        </p:txBody>
      </p:sp>
      <p:pic>
        <p:nvPicPr>
          <p:cNvPr id="135" name="Picture 6" descr="pic3"/>
          <p:cNvPicPr/>
          <p:nvPr/>
        </p:nvPicPr>
        <p:blipFill>
          <a:blip r:embed="rId1"/>
          <a:stretch/>
        </p:blipFill>
        <p:spPr>
          <a:xfrm>
            <a:off x="2556000" y="3141720"/>
            <a:ext cx="3809880" cy="2857320"/>
          </a:xfrm>
          <a:prstGeom prst="rect">
            <a:avLst/>
          </a:prstGeom>
          <a:ln w="0">
            <a:noFill/>
          </a:ln>
        </p:spPr>
      </p:pic>
      <p:sp>
        <p:nvSpPr>
          <p:cNvPr id="136" name="Rectangle 7"/>
          <p:cNvSpPr/>
          <p:nvPr/>
        </p:nvSpPr>
        <p:spPr>
          <a:xfrm>
            <a:off x="1908000" y="6021360"/>
            <a:ext cx="495936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2. Команды ввода/вывода (общий форма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620280"/>
            <a:ext cx="8229600" cy="552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етрудно заметить, что в этом способе адресное пространство портов ввода и вывода изолировано от адресного пространства памяти, т.е. в ЭВМ один и тот же адрес могут иметь порт ВВ и ячейка памяти. Разделение адресных пространств осуществляется с помощью управляющих сигналов, относящихся к системам ВВ и памяти (MEMRD# - считывание данных из памяти, MEMWR# - запись данных в память, IORD# - чтение порта ВВ, IOWR# - запись в порт ВВ) (# - активный низкий уровень сигналов). В ЭВМ, рассчитанной на изолированный ВВ, нетрудно перейти к ВВ, отображенному на память. Если, например, адресное пространство памяти составляет 64 Кбайт, а для программного обеспечения достаточно 32 Кбайт, то область адресов от 0 до 32 К-1 используется для памяти, от 32 К до 64 К-1 - для ввода/вывода. При этом признаком, дифференцирующим обращения к памяти и портам ВВ, может быть старший бит адреса. </a:t>
            </a:r>
            <a:br>
              <a:rPr sz="1600"/>
            </a:br>
            <a:r>
              <a:rPr b="0" lang="ru-RU" sz="1600" spc="-1" strike="noStrike">
                <a:solidFill>
                  <a:srgbClr val="000000"/>
                </a:solidFill>
                <a:latin typeface="Arial"/>
              </a:rPr>
              <a:t>Таким образом, интерфейс с общими шинами (ввод/вывод с отображением на память) имеет организацию, при которой часть общего адресного пространства отводится для внешних устройств, регистры которых адресуются так же, как и ячейки памяти. В этом случае для адресации портов ВВ используются полные адресные сигналы: READ - чтение, WRITE - запись. В операционных системах ЭВМ имеется набор подпрограмм (драйверов ВВ), управляющих операциями ВВ стандартных внешних устройств. Благодаря им пользователь может не знать многих особенностей ВУ и интерфейсов ВВ, а применять четкие программные протоколы.</a:t>
            </a:r>
            <a:endParaRPr b="0" lang="en-US" sz="16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332000" y="404280"/>
            <a:ext cx="3744720" cy="45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орматы передачи данных. </a:t>
            </a:r>
            <a:endParaRPr b="0" lang="en-US" sz="2000" spc="-1" strike="noStrike">
              <a:solidFill>
                <a:srgbClr val="000000"/>
              </a:solidFill>
              <a:latin typeface="Arial"/>
            </a:endParaRPr>
          </a:p>
        </p:txBody>
      </p:sp>
      <p:sp>
        <p:nvSpPr>
          <p:cNvPr id="139" name="PlaceHolder 2"/>
          <p:cNvSpPr>
            <a:spLocks noGrp="1"/>
          </p:cNvSpPr>
          <p:nvPr>
            <p:ph/>
          </p:nvPr>
        </p:nvSpPr>
        <p:spPr>
          <a:xfrm>
            <a:off x="468360" y="981000"/>
            <a:ext cx="8229600" cy="5616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ссмотрим некоторые общие вопросы, связанные с обменом данными между ВУ и микроЭВМ. Существуют два способа передачи слов информации по линиям данных: параллельный, когда одновременно пересылаются все биты слова, и последовательный, когда биты слова, пересылаются поочередно, начиная, например, с его младшего разряда. Так как между отдельными проводниками шины для параллельной передачи данных существует электрическая емкость, то при изменении сигнала, передаваемого по одному из проводников, возникает помеха (короткий выброс напряжения) на других проводниках. С увеличением длины шины (увеличением емкости проводников) помехи возрастают и могут восприниматься приемником как сигналы. Поэтому рабочее расстояние для шины параллельной передачи данных ограничивается длиной 1-2 м, и только за счет существенного удорожания шины или снижения скорости передачи длину шины можно увеличить до 10-20 м. Указанное обстоятельство и желание использовать для дистанционной передачи информации телеграфные и телефонные линии обусловили широкое распространение способа последовательного обмена данными между ВУ и микроЭВМ и между несколькими микроЭВМ. Возможны два режима последовательной передачи данных: синхронный и асинхронный. При синхронной последовательной передаче каждый передаваемый бит данных сопровождается импульсом синхронизации, информирующим приемник о наличии на линии информационного бита. Следовательно, между передатчиком и приемником должны быть протянуты минимум три провода: два для передачи импульсов синхронизации и бит данных, а также общий заземленный проводник. Если же передатчик (например, микроЭВМ) и приемник (например, дисплей) разнесены на несколько метров, то каждый из сигналов (информационный и синхронизирующий) придется посылать либо по экранированному (телевизионному) кабелю, либо с помощью витой пары проводов, один из которых заземлен или передает сигнал, инверсный основному. </a:t>
            </a:r>
            <a:endParaRPr b="0" lang="en-US" sz="16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Прямоугольник 3"/>
          <p:cNvSpPr/>
          <p:nvPr/>
        </p:nvSpPr>
        <p:spPr>
          <a:xfrm>
            <a:off x="571680" y="642960"/>
            <a:ext cx="821520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инхронная последовательная передача начинается с пересылки в приемник одного или двух символов синхронизации (не путать с импульсами синхронизации). Получив такой символ (символы), приемник начинает прием данных и их преобразование в параллельный формат. Естественно, что при такой организации синхронной последовательной передачи она целесообразна лишь для пересылки массивов слов, а не отдельных символов. Это обстоятельство, а также необходимость использования для обмена сравнительно дорогих (четырехпроводных или кабельных) линий связи помешало широкому распространению синхронной последовательности передачи данных. Асинхронная последовательная передача данных означает, что у передатчика и приемника нет общего генератора синхроимпульсов и что синхронизирующий сигнал не посылается вместе с данными. Как же в таком случае приемник будет узнавать о моментах начала и завершения передачи бит данных. Опишем простую процедуру, которую можно использовать, если передатчик и приемник асинхронной последовательной передачи данных согласованы по формату и скорости передач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андартный формат асинхронной последовательной передачи данных, используемый в ЭВМ и ВУ, содержит n пересылаемых бит информации (при пересылке символов n равно 7 или 8 битам) и 3-4 дополнительных бита: стартовый бит, бит контроля четности (или нечетности) и 1 или 2 стоповых бита (рис. 3.3,а). Бит четности (или нечетности) может отсутствовать. Когда передатчик бездействует (данные не посылаются на линию), на линии сохраняется уровень сигнала, соответствующий логической 1. </a:t>
            </a:r>
            <a:endParaRPr b="0" lang="en-US" sz="16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55640" y="4941360"/>
            <a:ext cx="69832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3. Формат асинхронной последовательной передачи данных.</a:t>
            </a:r>
            <a:br>
              <a:rPr sz="1600"/>
            </a:br>
            <a:endParaRPr b="0" lang="en-US" sz="1600" spc="-1" strike="noStrike">
              <a:solidFill>
                <a:srgbClr val="000000"/>
              </a:solidFill>
              <a:latin typeface="Arial"/>
            </a:endParaRPr>
          </a:p>
        </p:txBody>
      </p:sp>
      <p:pic>
        <p:nvPicPr>
          <p:cNvPr id="142" name="Picture 7" descr="pic3"/>
          <p:cNvPicPr/>
          <p:nvPr/>
        </p:nvPicPr>
        <p:blipFill>
          <a:blip r:embed="rId1"/>
          <a:stretch/>
        </p:blipFill>
        <p:spPr>
          <a:xfrm>
            <a:off x="1258920" y="981000"/>
            <a:ext cx="5977080" cy="3751200"/>
          </a:xfrm>
          <a:prstGeom prst="rect">
            <a:avLst/>
          </a:prstGeom>
          <a:ln w="0">
            <a:noFill/>
          </a:ln>
        </p:spPr>
      </p:pic>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3:07:22Z</dcterms:modified>
  <cp:revision>106</cp:revision>
  <dc:subject/>
  <dc:title>Микропроцессорные системы</dc:title>
</cp:coreProperties>
</file>