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6162-5879-4C5E-9526-0DADC2DC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358-F179-4722-B0CF-6E1DE84B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8B6-7DB0-4FF4-901D-915160215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D9AB-2D9C-44A5-8417-670C092B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DB08-81F0-4AB1-95ED-74F6CC5D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5BEB-3B58-4ADD-9E63-623995ED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85F2-7668-4486-A366-2B1C85C2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15B1-F79B-4813-A574-A2B0F9CE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315F-FF1D-4ED8-AA6D-5A5F871E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CA60-C7FD-4D7C-B56E-D1587722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DE77-273E-491B-A406-DB4B853C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F97-27B2-4225-A8E4-D8FA03B8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671A-96FA-4884-9663-4C2BA53A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0C03-3EC1-4A63-BA21-C39ACF49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0157-63F8-489A-80ED-D61CBDCE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B2EB-D562-49F3-8191-BEF4BC77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C1D1-F61C-49C5-A837-C0684CDC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2C3A9-09BB-4CC7-81FA-8C6B1DDA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F17A7-2061-4351-9B97-F7A06FCE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312B8-2748-4583-8AD3-57275E3C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F52877-819C-48BB-B89E-CF2C1DF1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7CA89-30E1-4092-8DA3-730787DF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69E-5D2F-42D8-B445-6964D411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84E16-1C5C-4EA8-B0D9-45ED0F24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BC199-A50D-461B-BAF8-790A6958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139CE-A72D-4DC7-862A-F0B4E472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2BD62-C98B-424C-8B87-3966EA0D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AE794-CEF4-40F0-A302-117DF2C9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AA7F5-FC8F-4121-AEFF-9F9C6A37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24FD5-C998-4F95-972E-B264DFA5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95B3-520C-47E7-8A97-7448DB77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8DE70-2BAC-4ED8-B742-4FABF99F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2BB06-9600-446F-A90D-C60EE42A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F64-BEF6-4497-9A01-32BA655B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468E7-B3FD-4930-B264-8F712436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97F3C-DC93-48C8-8B91-954FDE96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88576-FCD3-4083-8E14-61633D32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A7C6A-C056-40E3-8F1B-8ACFD99C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998E2-F089-4A3C-BB5A-24B3E77A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4E5DD-B053-4931-8840-37F7EF39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D3C01-B30F-4AF7-ADF2-FC6CEC16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515C6-3128-494D-9A46-A2641175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903F9-B1C8-486F-A9DE-9C3D6108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7C90A-5F94-433B-8327-044A4822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194-F9F0-4C2C-93A6-30E61CE0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94E07-0D78-4343-8B30-64C5212C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FF599-144E-47C4-9EF6-6DEB07A6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FB4DA-9DB9-46DE-ADDB-4FC2FEC3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6B8BF-0FE6-46A9-AAEE-C09545FA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6FF159-1A19-468C-B887-B39CCCF5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E614DB-90F4-4AF1-B166-2E5488F0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53DBD-8FF2-4C3A-8127-03989154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8F4D5B-2B9A-48FD-B623-EB10EB2E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310AE-7785-4867-BA03-45EC276E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D70AC-62C0-4637-BE76-45FE13EF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148-3192-4F2B-B1E8-B880D5B6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62A05-C6A9-474E-8FE0-D67A4543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13BB54-F91B-495E-AF2C-E2664B36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946061-AD78-4011-8BF5-E462737E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3278F-FD72-4C3C-B9DC-0DD20C1A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03FF3B-E3AC-46C4-8F28-3870C7F4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E9314-4715-4907-84F7-3261E5EC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30D1CF-4E25-47B7-9243-659F3851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D0A51-9FCF-4657-8C2B-B6086B09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14B27-2825-457D-A6A3-6DAD2F49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F87D5-23F2-4793-8175-AAFFA868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62A-4632-4050-9494-2E94BF5B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5B9D94-7F3D-486A-9539-5F3F2DE5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CD7246-3D21-4733-BFC6-609BCBE7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BDAEE7-FC7C-4C28-BEA8-1644D4C0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15FE6D-7468-4A24-A90B-8BB238B9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DE39F0-236B-4AD0-854B-75FE98CD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C95430-EED6-4D20-88C1-12B5AA07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A58C37-8AE0-44E5-8234-6C139DA4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5657A2-D68D-4451-A0C6-EE8B9CD1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5BFC3D-9EC5-452C-B0C3-5CD0D890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D8B16-9C89-49C6-B2FC-250D77E4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60E-0D26-4E2B-995C-FACD8A6A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FCCDC2-940F-45BA-BCEE-5338FC9B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DA704-C164-40E5-B462-4A0081D8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2B8613-913B-4AF4-8F4C-02247E52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75FDEB-3DD6-483E-89BA-FED4B6F6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54660E-9972-46F3-80B3-B1B7D299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433-D3ED-4399-BB01-63E2D245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1D3C-C47A-456C-8646-02ABDB53FB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D915-D2E6-4532-80D9-DF8027E36E6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3BDA-12B1-44B3-BC83-E725977F136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8379-8C8E-468E-83F4-69CD6ED0F6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D321-24B2-4D2A-B5E2-2F6F2FDFE0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D1F2-D608-4AF9-BC6B-3FA1CB31758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0B38-2E6B-4B1B-967D-67D2AC4E671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ДНОКРИСТАЛЬНЫЕ МИКРОЭВМ ТИП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3640" y="1989000"/>
            <a:ext cx="7467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это серия с ядром 80С51В. В странах СНГ МК51 выпускаются на базе  n-МОП технологии (серия 1816) и КМОП технологии (серия 18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9"/>
          <p:cNvPicPr/>
          <p:nvPr/>
        </p:nvPicPr>
        <p:blipFill>
          <a:blip r:embed="rId1"/>
          <a:stretch/>
        </p:blipFill>
        <p:spPr>
          <a:xfrm>
            <a:off x="1571760" y="2786040"/>
            <a:ext cx="5549760" cy="32860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3005640" y="614376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0. Структура МК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Заголовок 3"/>
          <p:cNvSpPr/>
          <p:nvPr/>
        </p:nvSpPr>
        <p:spPr>
          <a:xfrm>
            <a:off x="45720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D:\vvsu.gif"/>
          <p:cNvPicPr/>
          <p:nvPr/>
        </p:nvPicPr>
        <p:blipFill>
          <a:blip r:embed="rId2"/>
          <a:stretch/>
        </p:blipFill>
        <p:spPr>
          <a:xfrm>
            <a:off x="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ВНЕШНИЕ УСТРОЙСТВ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"внешним" устройствам МК51 отнес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параллельных двунаправленных порта ввода/вывода P0..P3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 SBUF и регистр управления SCON последовательного  канал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ы/счетчики T0,  T1,  их регистр управления TCON и регистр режимов TMO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управления подсистемой прерываний: регистр приоритетов IP и регистр маски 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 управления машиной PC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ит дуплексный последовательный канал связи с буферизацией,  который может быть запрограммирован для работы в одном из четырех режи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0" - синхронный ввод/вывод с частотой OSC/1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1" - асинхронный с 8-бит. кадром, частота k*f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2" - асинхронный с 9-бит. кадром, частота k*OSC/3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3" - асинхронный с 9-бит. кадром, частота k*f; где k {1, 1/2}, f - частота переполнения T1 (FOV), деленная на 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ПОДСИСТЕМА ПРЕРЫВАНИЙ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хитектура МК51 поддерживает двухуровневую радиальную приоритетную подсистему прерываний (ПП) с шестью  источниками  запросов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ема внешних прерываний служат входы INT0\,  INT1\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чниками внутренних запросов могут служить сигналы переполнения таймеров T0,  T1 и сигнал окончания работы последовательного ка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СИСТЕМА КОМАНД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команд включает 111 команд - однобайтовых (49), двухбайтовых  (45)  и трехбайтовых (17).  Все команды выполняются за 1 или 2 МЦ (16 тактов CLK в каждом), за исключением команд умножения и деления MUL и DIV,  для выполнения которых требуется 4 МЦ. Большинство двухбайтовых команд - одноцикловые,  а все трехбайтовые -двухцикловые. За  один  МЦ  в МК51 можно вводить до двух байтов программного к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работает с данными четырех основных типов - битами,  полубайтами (4 бита),  байтами и адресами (16 бит).  Наиболее  часто используемой единицей данных является байт: внутренние магистрали данных имеют 8-битный размер.  Программная память, внутренняя память и внешняя память данных запоминают и возвращают данные в виде байтов. Кроме этого, имеется много команд, которые работают с одиночными битами.  Бит может быть установлен, очищен, проинвертирован,  логически скомбинирован с флагом переноса и проверен для выполнения последующих переходов.  Полубайт (двоично-десятичная упакованная цифра) обычно мало применяется в МК51,  но  двоично-десятичная арифметика может выполняться без преобразования операндов в двоичное предст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ы, которые  используют  16-битные адреса,  имеют дело с указателем данных (16-битный регистр DPTR ) и с программным  счетчиком (переходы и вызовы подпрограммы).  Использование команд сложения с битом переноса (ADDC) и вычитание с заемом  (SUBB)  делает программирование 16-битной арифметики относительно просты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но-доступными объектами в составе ОМЭВМ являются: аппаратные регистры, четыре банка по восемь регистров R0..R7,R0..R7 и 128 ячеек внутренней памяти данных - с адресами 00H..7FH.  Кроме того,  по  специальным  командам  MOVX  и MOVC может быть доступна внешняя память данных и программ. В МК51 возможна битовая адресация аппаратных регистров и части внутренней памя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рограммировании следует иметь в виду, что в качестве регистров R0..R7 банка 0 используются ячейки внутренней памяти  данных с адресами 00H..07H,  банка 1 - 08Н..0FН, банка 2 - 10Н..17Н, банка 3 - 18Н..1F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истеме команд МК51 используются  регистровая, прямая, косвенная и непосредственная адрес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гистровой  адресации  операнды  находятся  в регистрах, имена которых определяются кодом операции команды.  Эта  адресация используется  для  обращения  к регистрам выбранного банка рабочих регистров,  к регистрам А,  В,  DPTR и к флагу переноса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прямому  адресу  можно обращаться к аппаратным регистрам и внутренней памяти.  Используется также прямая  битовая  адресаци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свенно можно  адресоваться  к  ячейкам внутренней и внешней памяти данных через регистры R0,R1 текущего ба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любой ячейке внешней памяти (данных и программ) можно обратиться с использованием регистра DPT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типу операций можно выделить следующие классы команд:  пересылки;  арифметические и логические; передачи управления; специальные кома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5294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МИКРОКОНТРОЛЛЕР PIC ФИРМЫ PARALL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9640" y="836280"/>
            <a:ext cx="74678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собо малый микроконтроллер. Простейший микроконтроллер имеет 8 выводов. Микроконтроллер 8-ми разрядный с Гарвардской архитектурой, что повышает производительность. Одновременно считывается команда и происходит обращение за данными. В некоторых микроконтроллерах есть операции умножения, деления, операции с плавающей точкой. Система команд компактная – не более 51 команды (LOW, LITLE и HIGH – 51 команда). Есть банки регистров как МК5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ПЗУ разных типов и перифирийные устройства (АЦП, ЦАП). В составе перифирийных устройств имеется несколько выводов последовательного интерфейса – обычный RS232, интерфейс I2C фирмы Philips, SPI. 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ы PIC могут быть использованы как ?умные? перифирийные устройства, т.е. SLAVE – контроллер может быть подсоединен к управляющему контроллеру PIC как обычное перифирийное устройство через порт (или линю данных). Очень развиты перифирийные средства коммуникации (I2C, SPI, RS232, порт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снове PIC может быть организованна сеть микроконтроллеров (через шину I2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SPI и I2C общая особенность: для передачи используется два пров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фейс SPI работает со стробиованием по фронту сигнала (клока), т.е. по одной линии передаются данные, по другой – кло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I2C стробирование осуществляется по уровню. В обоих интерфейсах Master обеспечивает выдачу сигналов так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К51 используются следующие сигн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E  - строб адр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EN\  - строб чтения внешней памяти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D\,WR\- стробы чтения и записи внешней памяти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A\  - разрешение обращения во внутреннюю память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0,T1 - входы счетчиков внешних событ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NT0,INT1- запросы внешних радиальны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xD - вход данных последовательного кан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xD - выход данных последовательного ка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ят параллельные 8-разрядные квазидвунаправленные порты P0..P3. Порт Р3 может быть использован для ввода и вывода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  образом,  в циклах обращения к внешним ресурсам на линиях порта P3 работают управляющие сигналы, а при отсутствии необходимости  управления внешними  ресурсами эти же линии могут быть использованы как линии по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АРХИТЕКТУРНЫЕ ОСОБЕННОСТИ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  позволяет управлять пятью (частично пересекающимися) адресными пространствами памяти,  четыре из которых являются областями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SEG   - пространство регистров (4*8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SEG   - пространство внутренней памяти данных (256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SEG   - битовое пространство данных (256 би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XSEG   - пространство внешней памяти данных (до 64К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SEG   - пространство программного кода (до 64К бай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а RSEG и BSEG частично пересекаются, физически совмещаются с DSEG и образуют единую внутреннюю среду для  хранения  данных.  Это позволяет одни и те же данные рассматривать с разных позиций (ячейка памяти,  регистр,  битовое поле, порт ввода/вывода и т.п.)  и организовывать наиболее удобный для данного случая доступ к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но, что  все порты ввода/вывода,  системные регистры, таймеры так же отображены на пространство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регистров  представлено четырьмя банками регистров по 8 в каждом,  а так же 16-разрядными программным счетчиком PC и регистром косвенного адреса DPTR,  8-разрядными аккумуляторами A и B, указателем стека SP и регистром PS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регистры, кроме PC, отображаются на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7] - CY - перенос из старшего (7)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6] - AC - перенос из третьего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5] - F0 - флаг пользова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ме того, формат PSW включает двухбитовое поле PSW[4:3] - RS номера  банка  регистров  и  флаги  арифметического  переполнения OV (PSW[2]) и четности P (PSW[0]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лаги CY,  AC  и  OV  отражают  признаки результата последней арифметической операции,  а P - четность содержимого  аккумулятора A. Расширение  аккумулятора B используется в командах умножения и деления, а в остальных операциях - как обычная ячейка памяти. Программный счетчик  адресует  пространство  памяти  программ CSEG объемом до 64K байт, причем переход из области внутренней памяти программ к внешней осуществляется автомати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данных DPTR используется для обращения к XSEG и при пересылке  констант из CSEG в A.  Кроме того,  содержимое DPTR используется а  качестве  смещения  в  команде  перех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стека SP образует системный стек  глубиной  до  256 байт. SP хранит адрес последнего занесенного байта и растет при записи в сторону больших ад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R0,  R1 каждого банка используются в качестве указателей данных. При сбросе машины в A,  B,  PC и DPTR загружаюся 0h, а в SP - 07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РГАНИЗАЦИЯ ВНУТРЕННЕЙ ПАМЯТИ ДАННЫХ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1412640"/>
            <a:ext cx="7467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DSEG включает  в себя 256 ячеек памяти,  часть из которых является одновременно элементами других пространств.  Так,  первые  32 байта ОЗУ занимают 4 банка.  Служебные регистры,  порты ввода/вывода, таймеры, аккумуляторы и др. так же совмещены с ячейками памяти и полями битового сегмента.  Это дает возможность обращения к одному физическому объекту  разными  способами.  Так,  к  ячейке DSEG[E0]  можно  обратиться по прямому и косвенному адресу,  обратиться как к аккумулятору A и как к полю BSEG[E0..E7]  (к  каждому биту в отдельност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9"/>
          <p:cNvPicPr/>
          <p:nvPr/>
        </p:nvPicPr>
        <p:blipFill>
          <a:blip r:embed="rId1"/>
          <a:stretch/>
        </p:blipFill>
        <p:spPr>
          <a:xfrm>
            <a:off x="684360" y="3860640"/>
            <a:ext cx="4330440" cy="23893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517680" y="635796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1. Пространство внутренней памяти данных DS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 адресуется PC[15:0] и может составлять до 64К байт,  причем младшие 4 К могут располагаться  непосредственно на кристалле, а остальная память внешнее ЗУ. С точки зрения программиста внешняя и внутренняя  память  программ представляют единое адресное простра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«особые точки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E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ET   0000h - стартовый адр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0   0003h - внешнее прерывание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0  000Bh - прерывание от таймера/счетчика T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1   0013h - внешнее прерывание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1  001Bh - прерывание от таймера/счетчика 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INT      0023h - прерывание последовательного пор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СИНХРОНИЗАЦИЯ МИКРОЭВМ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148392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е МК51 осуществляется от одного источника +5В. Кварцевый резонатор 3,5..12 МГц подключается к выводам Х1, Х2; возможно подключение внешнего тактового генератора через Х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OSC/2 - основная внутренняя тактовая частота CLK.  Первая половина периода CLK фаза P1,  вторая - P2.  Каждый машинный  цикл состоит из шести периодов CLK: состояний S1, S2, .. S6 или двенадцати периодов OSC,  называемых фазами S1P1,  S1P2,  S2P1,  .. S6P, S6P2.  Каждый машинный цикл сопровождается генерацией двух стробов ALE длительностью в один период  CLK  -  S1P2..S2P1,  S4P2..  S5P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(КЦ) содержит один или несколько машинных циклов  (МЦ)  и отсчитывается от S1P1.  По фазе S1P2 в IR фиксируется код операции, второй байт двухбайтовой команды читается в S4P2 того же МЦ,  третий байт трехбайтовой - в S1P2 следующего МЦ.  Таким образом,  для ввода каждого байта команды требуется один полуцик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  время  всех оставшихся полуциклов в фазах S1P2 и S4P2 читается код операции следующей размещенной в памяти команды,  однако он не помещается в IR и не инкрементируется PC. Текущий КЦ всегда завершается в S6P2. Вслед за этим начинается S1, в котором в IR вводится новый бай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щение к внешней памяти данных XSEG по команде MOVX требует  второго МЦ,  в котором не вырабатывается первый строб ALE.  На рис. 3.7 приведена временная диаграмма обращения к XSEG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ведение МК51 в исходное состояние необходимо  подать на  вход  RST  импульс H-уровня длительностью не менее 24 периодов OSC (два МЦ) при условии что генератор запущен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10:49Z</dcterms:modified>
  <cp:revision>55</cp:revision>
  <dc:subject/>
  <dc:title>Микропроцессоры и микроконтроллеры </dc:title>
</cp:coreProperties>
</file>