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5207-1544-4B90-A1A8-3F66385D85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7A97-C8B7-4D87-8F24-09657ED3AE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D783-D47E-4F18-A758-653D1E2311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352E-393A-4A6E-9946-5D68872E1F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9331-2EA6-499F-A700-9F2028031C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8980-755C-4027-9185-127A014D3E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4B20-2111-4184-B185-015DD969A7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ED1E-9F44-4036-806C-8DB70A7AF9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2F60-3649-48B7-8D83-FDA83CEF3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CD3-763A-4F0C-90D8-BA388D4177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6AE-6313-4988-9B74-6F1A3DD877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C276-90D0-4BAA-89D7-81F4B90469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94B4-19CA-46E3-B9B1-4610C898EB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316-03F5-4DE2-9B11-2F529A5B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D4D-8333-4E3A-9A70-F259981F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CA7-3FFE-40E4-85A0-BE09266E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FC0-F864-4B02-B7D2-BA32F506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6F29-36A8-4088-A9AA-FA1B5873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7667-A641-4FEC-8E41-305D03E1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E5A5-9C30-489D-9C23-6F19A214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3129-95D7-4B3A-A0DE-C19DC26A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FD1E-2775-41C8-A3E7-3FBB2CCA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DBF2-C878-49B4-B2E2-DBBF6CDA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094D-4CC1-4688-8E45-43CA84A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F5F-3D55-4D65-B1CE-66FE37A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3358-DEDB-4B43-8E79-975448E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B9F9-1755-4D41-A503-FE21F13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949C-35DF-428A-B097-67976D7E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8AF4-199B-4836-BD70-9A27AD11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FC7D-4298-40C9-AEC7-E2C9E834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E79B-DD22-427A-B143-6BD41FA6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A86E-152F-41B7-BB07-B3FEB29C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E448-D3C2-4213-A072-D61BFBDF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CB99-A235-47CB-9800-54F09562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B26F-C5D5-4EE6-8C4C-440AD737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A5E-6FF9-4B9D-A726-210EB7E5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2121-9B0E-4395-8CC6-0F07ACE9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8EE8-88D6-40A5-B2B1-CC84E14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18FDA-45AD-40D0-8A00-DEA27EEF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923F-E773-49AB-AE4E-600E6C3B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AFFE6-0ECE-4B49-85F5-88635AD1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A621-48B8-48BE-ACDA-A745798B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DC54C-E612-44EB-818A-B201D2FE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8A2F9-7217-4C09-8278-354C716B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2149-DF8C-4E3D-9125-123C7198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8E36-FF62-4873-B880-6473FE70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5EA-E73A-474F-8200-FCAC5C4A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2A8A-7462-4281-8223-51557F09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927B6-F485-4B9E-92EF-6F66D672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6004-3815-41FE-B371-0EC040D7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5F0BC-DB78-41C7-BC0E-833F9736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2E5BB-C48F-4B09-91E9-C9142620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40D1-7792-47B3-B1C1-EDEF4F4F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B938F-6BFB-44DF-B173-C990662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05C02-BCD0-4953-98AA-6FA37861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F0ED-B8C5-4D4B-B1BC-E2A32132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94C-0918-4CDD-BF83-ACC208AE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9CB-7D2F-4E8C-BBB7-55C56650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8C9-2906-4C1D-B9E5-68A8753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8DE-5FB9-4A75-B73C-B1742E5F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138-863E-4458-A0EC-A1D142D6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2198-EC93-4765-872A-9005770AEF4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E3D9-0ABE-4FF0-9FA1-E5458DA9444F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87C2-DE46-4603-AB10-F7D910823D1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C055-4865-4A61-9E48-5C44F66B82F4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93B7-1EAF-4CF8-AEC6-077D75416A8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0757-B6CC-4AEA-8469-488E0C3C86CA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5b59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5b5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3a4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7e0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9d3b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5b59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5b5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9d3b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4EAF-9D84-4174-A5FF-722A829E104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8EB6-94A7-4ABA-9F1C-11F6E288B50C}" type="slidenum">
              <a:rPr b="0" lang="ru-RU" sz="9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5b59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утрен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Организацион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ммуникационные процес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ганизационное построение предприятия или фирм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ормы, правила и процедуры производственного процесс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пределение прав и ответствен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ерархию подчин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988640"/>
            <a:ext cx="404028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упают в качестве базы, на которую организация опирается в конкурентной борьбе и которую пытается расширить и укрепить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44720" y="1988640"/>
            <a:ext cx="4041720" cy="43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ы стать предметом внимания руководства, которое должно принять решение относительно устранения слабых сторон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5b592"/>
                </a:solidFill>
                <a:latin typeface="Trebuchet MS"/>
              </a:rPr>
              <a:t>SNW-</a:t>
            </a: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анали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ббревиатура трех английских слов (S - сильная позиция (сторона); N – нейтральная позиция; W – слабая позиция (сторон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качестве нейтральной позиции лучшего всего фиксировать среднерыночное состояние для данной конкретной ситуаци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етко фиксируется ситуационное среднерыночное состояние, то есть своеобразная нулевая точка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езы анализа внутрен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ильные и слабые стороны орган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NW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a5b592"/>
                </a:solidFill>
                <a:latin typeface="Trebuchet MS"/>
              </a:rPr>
              <a:t>Внутренняя среда организации</a:t>
            </a:r>
            <a:endParaRPr b="0" lang="en-US" sz="40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 часть общей среды, которая находится в ее пределах. Она оказывает постоянное и самое непосредственное воздействие на функционирование организации. Под внутренней средой понимается хозяйственный организм фирмы, включающий управленческий механизм, направленный на оптимизацию научно-технической и производственно-сбытов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Внутрифирменная диагностика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ерсонал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ультура и имидж организации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екорпоративное управле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a5b592"/>
                </a:solidFill>
                <a:latin typeface="Trebuchet MS"/>
              </a:rPr>
              <a:t>Маркетинговый потенциал</a:t>
            </a:r>
            <a:endParaRPr b="0" lang="en-US" sz="3200" spc="-1" strike="noStrike">
              <a:solidFill>
                <a:srgbClr val="a5b592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42960" y="1500120"/>
          <a:ext cx="7858080" cy="5159520"/>
        </p:xfrm>
        <a:graphic>
          <a:graphicData uri="http://schemas.openxmlformats.org/drawingml/2006/table">
            <a:tbl>
              <a:tblPr/>
              <a:tblGrid>
                <a:gridCol w="3922560"/>
                <a:gridCol w="3935520"/>
              </a:tblGrid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360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ие и качество ассорти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характеристики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продук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ция това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аковка това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ая ма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йскурантная ц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нс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е ц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о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выдачи кред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ви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персонал Рекл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и с обществен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ое продви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й 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 gridSpan="2"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ы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ры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 кан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распреде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 поддер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одажное обслужи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в торговых точк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продажное обслуж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персон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ение функций и обяза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a5b592"/>
                </a:solidFill>
                <a:latin typeface="Trebuchet MS"/>
              </a:rPr>
              <a:t>Производственный срез</a:t>
            </a:r>
            <a:endParaRPr b="0" lang="en-US" sz="44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е продукции, снабжения и ведения складского хозяйств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служивание технологического оборудов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уществление исследований и разработ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Финансов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ка ликвид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еспечение прибы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держание финансовой устойчив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е инвестиционных возможностей и тому подобно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Срез по персоналу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заимодействие менеджеров и рабочих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е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чеба и продвижение кадр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у результатов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отивацию и стимулирование труд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5b59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здания атмосферы и поддержки отношений в коллектив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87360" y="1220760"/>
          <a:ext cx="7958160" cy="5637240"/>
        </p:xfrm>
        <a:graphic>
          <a:graphicData uri="http://schemas.openxmlformats.org/drawingml/2006/table">
            <a:tbl>
              <a:tblPr/>
              <a:tblGrid>
                <a:gridCol w="3979800"/>
                <a:gridCol w="3978360"/>
              </a:tblGrid>
              <a:tr h="303120"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ая организационн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4120"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ильного лидера, который устанавливает принципы и нормы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ы посвящают значительное время объяснению этих принципов персоналу и постоянно подчеркивают важность исполь­зования этих принципов при принятии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соответствие между культурой и долгосрочными пла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превращает работу в образ жизни, воспиты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tabLst>
                          <a:tab algn="l" pos="0"/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мотивируя сотруд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явшиеся ценности и нормы поведения не меняются при появлении нового лид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рудники хорошо осведомлены об истории организации, с уважением относятся к традициям, ритуалам и организационным симво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уделяется внимание прежде всего разъяснению своей фирменной философии, пропаганде своих цен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71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людей как главного ресурса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рассматривается как средство суще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множество суб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общепризнанных ценностей и правил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уют традиции, ритуалы, организационные симв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деляется должного внимания формированию истории органи­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зированная обстановка на фирме, когда отдельные руководители проводят собственную политику и оказывают сопротивление необходимым измене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ждебное отношение ко всякого рода иннов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руководства, ориентирован­ный в большей степени на органи­зационную структуру, бюджет, систему контроля над персоналом в ущерб созданию корпоративной куль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убликациях выделя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tabLst>
                          <a:tab algn="l" pos="0"/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ном формальные колич­ственные аспекты деятельности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7000"/>
                        <a:buFont typeface="Arial"/>
                        <a:buChar char="•"/>
                        <a:tabLst>
                          <a:tab algn="l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еркивается важность экономических и технических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5b592"/>
                </a:solidFill>
                <a:latin typeface="Trebuchet MS"/>
              </a:rPr>
              <a:t>Культурный срез</a:t>
            </a:r>
            <a:endParaRPr b="0" lang="en-US" sz="3600" spc="-1" strike="noStrike">
              <a:solidFill>
                <a:srgbClr val="a5b592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7:43Z</dcterms:modified>
  <cp:revision>12</cp:revision>
  <dc:subject/>
  <dc:title>Theme 7</dc:title>
</cp:coreProperties>
</file>