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4E45-267A-42E1-B437-04800B308A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3C91-1D38-4C49-A554-A035F5850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E4E-12A1-426C-BA1B-61DB69E2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F1D-8A83-4BAE-A5E2-24379516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B84-0807-4C2B-9CC5-A84ED1C4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F0E-A597-484B-81F0-E0955436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32B7-54A9-4458-974E-F70CA4C0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D360-97A4-4A34-8A6E-62DAACD8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629C-E459-4F43-90A8-6A38CAE6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0A9D-804E-4276-9898-13930FB1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228C-5C90-4B0A-868A-BAA53DD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0996-BDF2-4E46-8078-696B6D4D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A255-8772-4741-BA64-927D5CA7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DC5-79B6-48F6-9B0C-15AEFFE0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CBBF-958D-4C44-B334-B1799B3B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ACEC-9426-4947-9696-F15F0A4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F66-2D90-4EDA-8F35-857D0AF3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6854-BF63-40BF-92A7-FCC7DC95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3CB8-B876-4B6C-8ADF-2F3BD1CE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89D9-B100-48C9-949D-F7A11415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1652-B587-4DF1-928E-407838BD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D960-0B50-409F-9EC4-50FC946B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AA32-03A7-4CD2-A4A1-719623C6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359E-2841-4022-8AD5-AB4A084C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09D-9ED3-4A51-970A-334DC2AA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FA139-8A25-460D-AD84-7B2B99BA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4970-C269-4DE7-A692-9A5B9ED7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48EC-E1B9-46AD-8F52-7C0CAB24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4A83-093D-4617-8CCE-D4F08875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490D-6AD3-475C-835D-0C756064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06B1-3178-438E-84B0-DA552DA5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A2A9-0DDD-44D6-B433-080E2258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2800-4F7C-4A8D-94C6-D05DE526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A2E2-0180-49DE-9018-CD93783E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F6F86-73A7-4E17-9CF2-2D19CE7A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25D-0A3F-4F19-8644-D250451E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E1B22-2BD3-4BE2-8D2F-0B3F523E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40F9-5AAC-4153-B640-DC4A662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EC451-C823-427A-A261-7E7AB645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456C-F89C-4108-93DC-8E106985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4601-B68E-4A4A-92AE-5611111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0F11-83C5-405C-BD56-2310900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F829-A474-486C-8693-FA91D72C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2E295-6057-4703-8270-50627A55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7123-9524-4895-A726-B5981DEB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A92-9172-4630-8A0E-D20A0441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170-7DEC-45AE-B9A8-4F99C950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20C-85EB-405E-99FD-AE279A0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D1A-37E2-430F-A1B4-BBD00D54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0E5-2D9F-4366-ADE4-862F64E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8C60-50A1-426A-8DD3-37741D286B1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701F-14C3-45E7-85D2-64296B71CEC5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6239-94B4-42BD-98F1-6264E0B1182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6F64-27C7-4083-B4EB-0671FE395CC9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48BE-8C98-46D5-B9A7-D7B57A8D2CC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F90E-9C95-4D60-AB35-3CC4FA6ADB3A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A093-208E-4B37-8138-011A90B10FD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CB0A-C252-45C4-951B-FF2FF061AA4A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a66ac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отка стратегии бизнес-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Интеграция стратегий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ополагающая конкурентная стратег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основываться на использовании основных идей базовых стратегий. В последнее время успеха добиваются компании нового типа, делающие ставки на соче­тание высокой производительности и высокого уровня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цель бизнес-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е преимущества и ключевые факторы успех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стратегии по М. Портер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грация делов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изнес-стратегия – это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тратегической ориентации фирмы, являет­ся выбором базовой стратегии конкуренции относительно определенной сферы бизне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ческая цель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выделяет целевой рынок и, соответ­ственно, масштаб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онкурентные преимуществ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способность организации производить и продавать свою продукцию (услуги) успешнее конкурент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еннее конкурентное преимущество (способность произвести товар аналогичный товарам конкурентов с более низкими затратами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ешнее конкурентное преимущество (способность придать товару большую ценность в глазах потребителей, за которую они готовы платить более высокую цен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ие конкурентные преимущества легче защитить на ры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факторы внутренней среды, которые позволяют организации достичь успеха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о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чие (логистика, управление персоналом, инновации и т.п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ФУ различны для различных отрас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азовые стратегии по М. Портеру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pic>
        <p:nvPicPr>
          <p:cNvPr id="236" name="Picture 2" descr="image3"/>
          <p:cNvPicPr/>
          <p:nvPr/>
        </p:nvPicPr>
        <p:blipFill>
          <a:blip r:embed="rId1"/>
          <a:stretch/>
        </p:blipFill>
        <p:spPr>
          <a:xfrm>
            <a:off x="571680" y="1928880"/>
            <a:ext cx="7916760" cy="442908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Стратегия лидерства по издержкам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рма пренебрегает различиями в сегментах и обращается ко всему рынку сразу с одним и тем же товар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и стандартной продукции массового спроса, когда возможности дифференциации ограничены и спрос эластичен по цене, а вероятность переключения потребителей товара на другие вели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Дифференциация -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пция, описывающая разнообразие 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нность для покупателе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это полезность или полное удовлетворе­ние, которое они получают при использовании товара, а также мини­мальные операционные издержки в течение всего срока его служб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направленности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ожно выделит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нновационную и маркетинговую стратегии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Фокусирование -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овая бизнес- стратегия, которая предполагает концентрацию на узком рыночном сегменте или конкретной группе покупателей, а также специализацию на определенной части продукции и/или географическом регион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ая цел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ается в удовлетворении потребностей выбранного сегмента с большей эффективностью, чем конкуренты, обслуживающие более широкий рыночный сег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9:35Z</dcterms:created>
  <dc:creator>И.В.</dc:creator>
  <dc:description/>
  <dc:language>en-US</dc:language>
  <cp:lastModifiedBy>Стародумова Инна</cp:lastModifiedBy>
  <dcterms:modified xsi:type="dcterms:W3CDTF">2015-09-29T02:30:43Z</dcterms:modified>
  <cp:revision>14</cp:revision>
  <dc:subject/>
  <dc:title>Разработка стратегии бизнес-уровня</dc:title>
</cp:coreProperties>
</file>