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96E9-CE72-49D2-83B3-6C3AB05EE6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E31-2DC6-4D9A-B51A-208E43CE03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B2D-5264-42BA-8E2D-2863273F1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CA49-92F8-4F94-A516-9CFAF0928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95A3-C853-4F4F-9FB1-165BD27140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827B-46B4-43A5-847B-423D94F57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C879-1EBA-4137-B1CB-80913BC42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0F8-6899-4504-A5E9-1154316203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934-AF2C-4CF6-8500-5F1BD14DC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36A-498B-48CF-82E3-5A470F836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867-674D-485A-89EB-975BC9C6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B54-8F71-4C5B-B621-2AD2BFC0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340-405E-4BC3-8242-E00FCC8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FC1-2B2B-442D-AD00-A22CCF84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21FF-42F3-4FB1-84C1-CD42F734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24E9-AE0C-4CEA-ABD0-EC49BCA5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CD53-E0BA-4FA2-9856-4E76539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BDB9-6FB0-46B2-BDA2-DBF7C02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E7A-77BB-4A56-A6A7-6A7D4518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ED84-8A8D-4C37-8DE7-A792628C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FA48-E34D-44A1-9E19-F01FB359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B91-5519-4AD4-8ECD-B5CA1842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9021-F6B6-413F-85C3-B9C6B92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65EB-AE62-4119-8590-D94D6CC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C7A2-9381-49F2-87E3-5189A9A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75E-BB71-4360-ACE4-A08C0900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913-B578-49DD-895D-CBDE0619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D20E-105E-4E7D-8B24-20252E62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9658-DCE5-4E21-BC4B-3ED56ED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AC976-8CE7-4248-BBC2-AFF9BE8C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918F-11F0-401A-96E9-C057B85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A232-CC81-4830-95A3-B1DC22C1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797-C99F-4F89-A279-5E4BE49F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A545-1F36-4A6F-9879-7BD9ABAA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BB0A-4704-43AB-B129-F6E166D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48A0-29F5-4E00-B4B7-7257ABC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683C2-49AD-4893-800D-8FCB0AD7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871E-75E7-479C-9A55-216B5E3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83EC-E147-4B8B-A3E7-1D30B1F4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1132-009C-4EFC-BA48-8FDEE33F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B4E6-F360-4033-8F7A-AA0ABBC5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9EFA0-E9EC-4630-9657-C623EC1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6B6C-46B9-414B-B0C4-CF95DC51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80C-8C57-47B0-8B4A-9FD05EBC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8156-5629-423C-B71F-BF841A5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73C6E-5184-467B-BE2E-BB4975FC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FC89-5329-464B-A3D9-96831C5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9B7A5-EDBB-42B6-B8D9-1B513951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71D84-49F8-4777-B855-03CBEC2A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8577-506E-47AA-BAB0-EE0E3D9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6613-74DF-4B4D-ACD0-1D3D2E66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D1DD-1C49-4680-82B0-473F38D8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B45D-C72E-4ACA-8A2D-C9D75208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FBA-7A1B-430A-B47F-79A6FB1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324-0CC7-4968-9BDC-6E152686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AE2-BD61-43A7-BE35-F883E51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FB8-4BA4-4994-A54F-9D47B3A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099-DF45-4B55-93AA-CAD46D8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E636-F021-41F4-9F51-89E37A75E33D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BD4-402A-4508-B3EA-7D5215D20188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12DA-43BF-4B7C-A1CB-CE82928EE079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18ab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18ab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a6b72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891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8abad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18ab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18ab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abad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18ab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18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071E-FE71-4BE5-B0F2-7EE3A63CEA4D}" type="slidenum">
              <a:rPr b="0" lang="ru-RU" sz="900" spc="-1" strike="noStrike">
                <a:solidFill>
                  <a:srgbClr val="418ab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18ab3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Реализация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</a:rPr>
              <a:t>Тема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е стадии выполнения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измен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й контро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18ab3"/>
                </a:solidFill>
                <a:uFillTx/>
                <a:latin typeface="Trebuchet MS"/>
              </a:rPr>
              <a:t>Деятельность по реализации стратегии:</a:t>
            </a:r>
            <a:endParaRPr b="0" lang="en-US" sz="36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билизация (3-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 и проработка (6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еализация преобразований (12-24 мес.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Новая стратегия предполагает новые критерии работы с клиентами, новые продукты, новые рабочие процессы, новые навыки, новые технологии и новую корпоративную культуру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79280" y="785520"/>
            <a:ext cx="87854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e5e5e"/>
                </a:solidFill>
                <a:latin typeface="Trebuchet MS"/>
              </a:rPr>
              <a:t>Проведение необходимых изменений способствует тому, что на предприятии создаются условия, необходимые для осуществления выбранной стратегии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404040"/>
                </a:solidFill>
                <a:uFillTx/>
                <a:latin typeface="Trebuchet MS"/>
              </a:rPr>
              <a:t>Типы стратегических изменени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альные измен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дикаль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ренное преобраз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ычные изме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Последовательность внутренних изменений </a:t>
            </a:r>
            <a:r>
              <a:rPr b="0" lang="ru-RU" sz="3200" spc="-1" strike="noStrike">
                <a:solidFill>
                  <a:srgbClr val="418ab3"/>
                </a:solidFill>
                <a:latin typeface="Trebuchet MS"/>
              </a:rPr>
              <a:t>в </a:t>
            </a:r>
            <a:r>
              <a:rPr b="1" lang="ru-RU" sz="3200" spc="-1" strike="noStrike">
                <a:solidFill>
                  <a:srgbClr val="418ab3"/>
                </a:solidFill>
                <a:latin typeface="Trebuchet MS"/>
              </a:rPr>
              <a:t>организации</a:t>
            </a:r>
            <a:endParaRPr b="0" lang="en-US" sz="3200" spc="-1" strike="noStrike">
              <a:solidFill>
                <a:srgbClr val="418ab3"/>
              </a:solidFill>
              <a:latin typeface="Trebuchet MS"/>
            </a:endParaRPr>
          </a:p>
        </p:txBody>
      </p:sp>
      <p:pic>
        <p:nvPicPr>
          <p:cNvPr id="232" name="Picture 2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395280" y="2276640"/>
            <a:ext cx="82011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8920" y="62028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струк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той или иной организационной структуры зависит от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мер и степень разнообразия деятельности, присущ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еографическое размещение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амизм внешней сред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371600" indent="-457200">
              <a:lnSpc>
                <a:spcPct val="90000"/>
              </a:lnSpc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, реализуемая предприятием.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620280"/>
            <a:ext cx="634860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Структурные изменения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— это часть организационного процесса, относящегося к изменениям в системе распределения полномочий и ответственности, координации и интеграции деятельности подразделений фирмы, управленческой иерархии и степени централизаци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476280"/>
            <a:ext cx="87854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рганизационная культур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деляют пять факторов, определяющих формирование и применение организационной культуры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енности и убеждения высшего руководств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еакция руководства на критические ситуаци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ношение к работе и стиль поведения руководител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альная база поощрения сотрудник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18ab3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ритерии отбора, назначения, продвижения и увольнения из организаци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3640" y="369360"/>
            <a:ext cx="677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18ab3"/>
                </a:solidFill>
                <a:latin typeface="Trebuchet MS"/>
              </a:rPr>
              <a:t>Процесс приведения организационной культуры в соответствие со стратегией фирмы</a:t>
            </a:r>
            <a:endParaRPr b="0" lang="en-US" sz="2900" spc="-1" strike="noStrike">
              <a:solidFill>
                <a:srgbClr val="418ab3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личительная особенность «великих компаний» — симбиоз деловой стратегии и корпоративной куль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Q:\Инна\В Г У Э С\Лекции\Стратегический менеджмент - бакалавры\media\image7.png"/>
          <p:cNvPicPr/>
          <p:nvPr/>
        </p:nvPicPr>
        <p:blipFill>
          <a:blip r:embed="rId1"/>
          <a:stretch/>
        </p:blipFill>
        <p:spPr>
          <a:xfrm>
            <a:off x="304920" y="2146320"/>
            <a:ext cx="8321400" cy="235728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3:11:31Z</dcterms:created>
  <dc:creator>Инна</dc:creator>
  <dc:description/>
  <dc:language>en-US</dc:language>
  <cp:lastModifiedBy>Толя</cp:lastModifiedBy>
  <dcterms:modified xsi:type="dcterms:W3CDTF">2014-12-01T07:21:20Z</dcterms:modified>
  <cp:revision>12</cp:revision>
  <dc:subject/>
  <dc:title>Theme 9</dc:title>
</cp:coreProperties>
</file>