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7F74-D4D8-4B9E-93E3-7B9D6A5BF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9D8C-7D85-442B-849D-9C34443BB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C49A-6136-43A4-9B36-245AD0DFE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292-672F-40B0-9821-08F47D9CE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1E9-7AFA-4245-88F4-481146B1F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6CAF-C675-4DA6-9300-895CFADB5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57A-1DDF-43F2-A2AF-C5CBC05DC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C11F-4BB9-4785-B9B9-2A657D743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B00-CB0D-4959-8241-82D9B71BA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527E-26F5-4F83-BE09-52AE245CC6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7F6-7D68-4305-9F14-ED85DB85DA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FC1-B4F2-41CA-AD58-DBA6BEC322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474-CC2D-4B3A-9450-D65F5315F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674-A324-411A-87C0-02EAFE69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AD8-F205-44EB-B3B3-9214245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F86-5157-4D2A-A534-37BDE9E1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D36-2347-4287-8DF0-82E2E5DB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F2F7-1650-4EE5-9D22-21F0B3DF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B4EA-67AB-4774-920F-A040E75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13C4-C226-49C3-8B72-1BFD648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2D2E-5E69-4CF0-8F53-5843DF52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4A73-78EB-4847-BE0C-C8BF544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CC03-3360-48BC-A8C8-1DD1C3F6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11DA-0BFB-4FB8-BCBF-6033DD7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B38-C5C8-473C-9FCC-0F77ACE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418-35C3-48E3-A65D-5DAA07AE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878-570E-4C22-B705-1D99DABA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ACA4-E93A-4D25-8BA1-DC5A342A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C33-A196-4177-AB22-CC038B09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95E-8EC0-4037-872E-499AEB83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AF81-6B40-47FA-9527-8FD87550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DC37-DD74-4241-9485-E7E4246A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2E59-F187-4AF4-9DEC-579A7F79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55CD-C0AF-4BB7-81BD-37A06C5A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4B5B-D277-4CCE-9AE8-D421F68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D1E-2E83-4B99-A6A3-29471EA5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526AB-00D3-4C35-8604-50CD6D6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CCD3-8874-4EA2-97C4-85789A59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6911-A0EC-4B37-9815-59F73C9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1C77-A60D-4EE5-8507-8C2C1B6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AAE9-928F-4812-8205-4DF8CA8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12D4-88C2-437D-B498-A03C400C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6E64-03FD-47D8-A15A-1F3EDB16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0FC1-D192-45D1-A23B-2CF60645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2F275-AB17-4351-9737-66147AAF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0D81-C19D-4C72-BE36-52FA309B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07D-C81E-4D9C-9CDC-BBAA1ED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830E-454C-4F36-BA28-043AEDB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33F4-8E24-49CB-BCEF-8E33EEB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D583-FFDE-49F4-8F8E-825CE29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E854-D75E-4906-BEFF-731CCF0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C766-D6A3-4A86-9497-E4684FE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6450-7F26-4AB8-9AD0-5AA2025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9F81-3789-4B04-A271-BC1C88E4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2933-544A-4295-B3D8-D9658F61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61F4-FDA5-41FB-8A4C-861C2246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AAA-E70B-4169-89D7-BACB47B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AED-811C-48A6-ACB1-F25D341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667-540E-41CA-BB7C-BE5444D4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07E-08D8-46A9-AD33-DCDD257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386-2DF2-431C-AA21-3389CC8C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CE34-A6E0-4C59-8B51-C9B873B48A6A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7E55-A49A-47EA-A134-13CF6711D15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E68F-AD05-4346-987A-6E4DAE52DAA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4DAC-5524-430F-AF04-5F4C86C3B8E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AE6-703C-4400-99FA-0E9D1F922DC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0C4-A39A-4357-B943-EB852C80E1B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152A-1504-4A07-AA85-85A9486ED76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BDE-5661-426E-AF6A-C3D4D653072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b3d9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оль миссии и целей в стратегическом управ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125360"/>
          <a:ext cx="8072640" cy="5187960"/>
        </p:xfrm>
        <a:graphic>
          <a:graphicData uri="http://schemas.openxmlformats.org/drawingml/2006/table">
            <a:tbl>
              <a:tblPr/>
              <a:tblGrid>
                <a:gridCol w="2695680"/>
                <a:gridCol w="5376960"/>
              </a:tblGrid>
              <a:tr h="40356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е 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ут быть выражены движением денежной наличности, структурой капитала, выпуском ценных бумаг, оборотным капиталом, выплатой дивиден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ый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описать с помощью таких показателей, как: производственные мощности, постоянные затраты, единицы продукции в натуральном и денежном выраж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процес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изменения в структуре или деятель­ности, может выражаться любым количеством ц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988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могут определять выполнение трудовых функций и отношение к работе, профессиональ­ное обучение, способы мотивации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520"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целями в форме видов деятельности, ориентированных на участие в ре­шении острых социальных проблем (экология, безработ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Дерево целей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pSp>
        <p:nvGrpSpPr>
          <p:cNvPr id="251" name="Group 1"/>
          <p:cNvGrpSpPr/>
          <p:nvPr/>
        </p:nvGrpSpPr>
        <p:grpSpPr>
          <a:xfrm>
            <a:off x="428760" y="2071800"/>
            <a:ext cx="8286120" cy="3142800"/>
            <a:chOff x="428760" y="2071800"/>
            <a:chExt cx="8286120" cy="3142800"/>
          </a:xfrm>
        </p:grpSpPr>
        <p:grpSp>
          <p:nvGrpSpPr>
            <p:cNvPr id="252" name="Group 2"/>
            <p:cNvGrpSpPr/>
            <p:nvPr/>
          </p:nvGrpSpPr>
          <p:grpSpPr>
            <a:xfrm>
              <a:off x="428760" y="2071800"/>
              <a:ext cx="8286120" cy="3142800"/>
              <a:chOff x="428760" y="2071800"/>
              <a:chExt cx="8286120" cy="3142800"/>
            </a:xfrm>
          </p:grpSpPr>
          <p:sp>
            <p:nvSpPr>
              <p:cNvPr id="253" name="Oval 3"/>
              <p:cNvSpPr/>
              <p:nvPr/>
            </p:nvSpPr>
            <p:spPr>
              <a:xfrm>
                <a:off x="2883960" y="2071800"/>
                <a:ext cx="337608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Общая цель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"/>
              <p:cNvSpPr/>
              <p:nvPr/>
            </p:nvSpPr>
            <p:spPr>
              <a:xfrm flipH="1">
                <a:off x="18097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 flipH="1">
                <a:off x="3651120" y="2811240"/>
                <a:ext cx="15336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5339160" y="2811240"/>
                <a:ext cx="306720" cy="73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6106320" y="2626560"/>
                <a:ext cx="1380960" cy="9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286360" y="3000240"/>
                <a:ext cx="4910400" cy="36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Ключевые цели по подсистемам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9"/>
              <p:cNvGrpSpPr/>
              <p:nvPr/>
            </p:nvGrpSpPr>
            <p:grpSpPr>
              <a:xfrm>
                <a:off x="428760" y="4105800"/>
                <a:ext cx="1688040" cy="1108800"/>
                <a:chOff x="428760" y="4105800"/>
                <a:chExt cx="1688040" cy="1108800"/>
              </a:xfrm>
            </p:grpSpPr>
            <p:sp>
              <p:nvSpPr>
                <p:cNvPr id="260" name="Oval 10"/>
                <p:cNvSpPr/>
                <p:nvPr/>
              </p:nvSpPr>
              <p:spPr>
                <a:xfrm>
                  <a:off x="4287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1"/>
                <p:cNvSpPr/>
                <p:nvPr/>
              </p:nvSpPr>
              <p:spPr>
                <a:xfrm>
                  <a:off x="10425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2"/>
                <p:cNvSpPr/>
                <p:nvPr/>
              </p:nvSpPr>
              <p:spPr>
                <a:xfrm>
                  <a:off x="1656360" y="4845240"/>
                  <a:ext cx="46044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3"/>
                <p:cNvSpPr/>
                <p:nvPr/>
              </p:nvSpPr>
              <p:spPr>
                <a:xfrm flipH="1">
                  <a:off x="58212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4"/>
                <p:cNvSpPr/>
                <p:nvPr/>
              </p:nvSpPr>
              <p:spPr>
                <a:xfrm>
                  <a:off x="119592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"/>
                <p:cNvSpPr/>
                <p:nvPr/>
              </p:nvSpPr>
              <p:spPr>
                <a:xfrm>
                  <a:off x="16563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Oval 16"/>
              <p:cNvSpPr/>
              <p:nvPr/>
            </p:nvSpPr>
            <p:spPr>
              <a:xfrm>
                <a:off x="42876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роизводст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7"/>
              <p:cNvGrpSpPr/>
              <p:nvPr/>
            </p:nvGrpSpPr>
            <p:grpSpPr>
              <a:xfrm>
                <a:off x="2576880" y="4105800"/>
                <a:ext cx="1687320" cy="1108800"/>
                <a:chOff x="2576880" y="4105800"/>
                <a:chExt cx="1687320" cy="1108800"/>
              </a:xfrm>
            </p:grpSpPr>
            <p:sp>
              <p:nvSpPr>
                <p:cNvPr id="268" name="Oval 18"/>
                <p:cNvSpPr/>
                <p:nvPr/>
              </p:nvSpPr>
              <p:spPr>
                <a:xfrm>
                  <a:off x="257688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9"/>
                <p:cNvSpPr/>
                <p:nvPr/>
              </p:nvSpPr>
              <p:spPr>
                <a:xfrm>
                  <a:off x="31903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20"/>
                <p:cNvSpPr/>
                <p:nvPr/>
              </p:nvSpPr>
              <p:spPr>
                <a:xfrm>
                  <a:off x="38041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21"/>
                <p:cNvSpPr/>
                <p:nvPr/>
              </p:nvSpPr>
              <p:spPr>
                <a:xfrm flipH="1">
                  <a:off x="273024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22"/>
                <p:cNvSpPr/>
                <p:nvPr/>
              </p:nvSpPr>
              <p:spPr>
                <a:xfrm>
                  <a:off x="334404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23"/>
                <p:cNvSpPr/>
                <p:nvPr/>
              </p:nvSpPr>
              <p:spPr>
                <a:xfrm>
                  <a:off x="380412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Oval 24"/>
              <p:cNvSpPr/>
              <p:nvPr/>
            </p:nvSpPr>
            <p:spPr>
              <a:xfrm>
                <a:off x="24235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Маркетин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25"/>
              <p:cNvGrpSpPr/>
              <p:nvPr/>
            </p:nvGrpSpPr>
            <p:grpSpPr>
              <a:xfrm>
                <a:off x="4878720" y="4105800"/>
                <a:ext cx="1687320" cy="1108800"/>
                <a:chOff x="4878720" y="4105800"/>
                <a:chExt cx="1687320" cy="1108800"/>
              </a:xfrm>
            </p:grpSpPr>
            <p:sp>
              <p:nvSpPr>
                <p:cNvPr id="276" name="Oval 26"/>
                <p:cNvSpPr/>
                <p:nvPr/>
              </p:nvSpPr>
              <p:spPr>
                <a:xfrm>
                  <a:off x="487872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27"/>
                <p:cNvSpPr/>
                <p:nvPr/>
              </p:nvSpPr>
              <p:spPr>
                <a:xfrm>
                  <a:off x="54921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Oval 28"/>
                <p:cNvSpPr/>
                <p:nvPr/>
              </p:nvSpPr>
              <p:spPr>
                <a:xfrm>
                  <a:off x="610596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29"/>
                <p:cNvSpPr/>
                <p:nvPr/>
              </p:nvSpPr>
              <p:spPr>
                <a:xfrm flipH="1">
                  <a:off x="503208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30"/>
                <p:cNvSpPr/>
                <p:nvPr/>
              </p:nvSpPr>
              <p:spPr>
                <a:xfrm>
                  <a:off x="564588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31"/>
                <p:cNvSpPr/>
                <p:nvPr/>
              </p:nvSpPr>
              <p:spPr>
                <a:xfrm>
                  <a:off x="610596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2"/>
              <p:cNvGrpSpPr/>
              <p:nvPr/>
            </p:nvGrpSpPr>
            <p:grpSpPr>
              <a:xfrm>
                <a:off x="7027200" y="4105800"/>
                <a:ext cx="1687320" cy="1108800"/>
                <a:chOff x="7027200" y="4105800"/>
                <a:chExt cx="1687320" cy="1108800"/>
              </a:xfrm>
            </p:grpSpPr>
            <p:sp>
              <p:nvSpPr>
                <p:cNvPr id="283" name="Oval 33"/>
                <p:cNvSpPr/>
                <p:nvPr/>
              </p:nvSpPr>
              <p:spPr>
                <a:xfrm>
                  <a:off x="702720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34"/>
                <p:cNvSpPr/>
                <p:nvPr/>
              </p:nvSpPr>
              <p:spPr>
                <a:xfrm>
                  <a:off x="76406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5"/>
                <p:cNvSpPr/>
                <p:nvPr/>
              </p:nvSpPr>
              <p:spPr>
                <a:xfrm>
                  <a:off x="8254440" y="4845240"/>
                  <a:ext cx="460080" cy="369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36"/>
                <p:cNvSpPr/>
                <p:nvPr/>
              </p:nvSpPr>
              <p:spPr>
                <a:xfrm flipH="1">
                  <a:off x="7180560" y="4105800"/>
                  <a:ext cx="306720" cy="73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37"/>
                <p:cNvSpPr/>
                <p:nvPr/>
              </p:nvSpPr>
              <p:spPr>
                <a:xfrm>
                  <a:off x="7794360" y="4290480"/>
                  <a:ext cx="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38"/>
                <p:cNvSpPr/>
                <p:nvPr/>
              </p:nvSpPr>
              <p:spPr>
                <a:xfrm>
                  <a:off x="8254440" y="4290480"/>
                  <a:ext cx="153360" cy="55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Oval 39"/>
              <p:cNvSpPr/>
              <p:nvPr/>
            </p:nvSpPr>
            <p:spPr>
              <a:xfrm>
                <a:off x="672012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Финанс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40"/>
              <p:cNvSpPr/>
              <p:nvPr/>
            </p:nvSpPr>
            <p:spPr>
              <a:xfrm>
                <a:off x="4572000" y="3550680"/>
                <a:ext cx="1994760" cy="739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Персона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Rectangle 41"/>
            <p:cNvSpPr/>
            <p:nvPr/>
          </p:nvSpPr>
          <p:spPr>
            <a:xfrm>
              <a:off x="714240" y="4290480"/>
              <a:ext cx="764352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одцели по подсистемам орган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Правила декомпози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ая цель должна содержать описание конечного результа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развертывании общей цели в иерархическую структуру исходят из того, что реализация подцелей каждого последующего уровня является необходимым и достаточным условием достижения целей предыдуще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формулировке целей разных уровней необходимо описывать желаемые результаты, а не способы их полу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цели каждого уровня должны быть независимы друг от друга и невыводимы друг из друг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дамент дерева целей должны составлять задачи, представляющие собой формулировку работ, которые могут быть выполнены определенным способом в установленные сро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2880" indent="-272880">
              <a:spcBef>
                <a:spcPts val="1001"/>
              </a:spcBef>
              <a:buClr>
                <a:srgbClr val="e65331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3548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Видение организации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— это образное представление смысла деятельности и перспектив (будущего) организации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Видени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объясняет и демонстрирует всем сотрудникам и обществен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представляет собой организац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ой она должна ста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 чему она стремит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Мисс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одним из главных элементов идеологической базы формирова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должна зависеть от текущего состояния организац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жает устремленность в будущ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вляется комплексной цель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грает значительную роль как во внутренней, так и во внешней сред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одходы к формированию мисс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широк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зк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Формулировка миссии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содержа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еделение сферы деятельност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бочие принципы фирмы по отношению к окружающей сред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ценности внутри фирмы, рассматриваемые как культура организ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Заинтересованные группы в формулировке миссии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00040" y="1571760"/>
          <a:ext cx="8286840" cy="5073480"/>
        </p:xfrm>
        <a:graphic>
          <a:graphicData uri="http://schemas.openxmlformats.org/drawingml/2006/table">
            <a:tbl>
              <a:tblPr/>
              <a:tblGrid>
                <a:gridCol w="2170080"/>
                <a:gridCol w="6116760"/>
              </a:tblGrid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является клиентами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ы/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товары/услуги предлагают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фирма ведет конкурентную борьб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базовая технология фирм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выжи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ую экономическую цель преследует фирм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базовые убеждения, ценности и приоритетные устремл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ельный об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кому имиджу стремится фирма и какую ответственность перед обществом она приним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озиция фирмы по отношению к своему персона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8160"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 с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заявляемые отличительные каче­ства и конкурентные преимуществ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Определение цели -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более конкретный, чем миссия, уровень принятия решений, требующий выработки соответствующих стратегических задач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ледует различать ц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цифическ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Процесс постановки целей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основном происходит сверху вниз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ждый руководитель должен иметь четкие цели, которые обеспечивают поддержку целей более высокого уровн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процессе выработки целей, необходим двусторонний обмен информаци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3d9f"/>
                </a:solidFill>
                <a:latin typeface="Trebuchet MS"/>
              </a:rPr>
              <a:t>Эффективность целей</a:t>
            </a:r>
            <a:r>
              <a:rPr b="0" lang="ru-RU" sz="3200" spc="-1" strike="noStrike">
                <a:solidFill>
                  <a:srgbClr val="eb3d9f"/>
                </a:solidFill>
                <a:latin typeface="Trebuchet MS"/>
              </a:rPr>
              <a:t> - это базовый критерий стратегического целеполагания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Цели должны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ретными и измеримы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риентированными во времен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алистич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поставимыми и взаимно поддерживающи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eb3d9f"/>
                </a:solidFill>
                <a:latin typeface="Trebuchet MS"/>
              </a:rPr>
              <a:t>Возможные цели организации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960" y="1571760"/>
          <a:ext cx="8072280" cy="5227560"/>
        </p:xfrm>
        <a:graphic>
          <a:graphicData uri="http://schemas.openxmlformats.org/drawingml/2006/table">
            <a:tbl>
              <a:tblPr/>
              <a:tblGrid>
                <a:gridCol w="2695680"/>
                <a:gridCol w="5376600"/>
              </a:tblGrid>
              <a:tr h="403200"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ев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12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выражаться в различных показателях, таких как объем прибыли, доход на инвестиро­ванный капитал, отношение прибыли к объему продаж (коэффициент чистой прибыли)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1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описываться следующими понятиями: доля рынка, объем продаж в денежном или натуральном выражении, рыночная (отраслевая) ни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выражена отношением выхода к входу, а также в виде издержек на единицу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но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ют новые способы ведения бизнеса (новые технологии и методы организации производства, внедрение на новые рынки и т. д.) и могут выражаться как в денежных, так и в дру­гих показател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2480">
                <a:tc>
                  <a:txBody>
                    <a:bodyPr lIns="4680" rIns="4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показателей объема продаж или прибыль­ности по отношению к конкретному изделию (ассортименту изделий) цели могут быть связа­ны с выведением нового товара на рынок или снятия с произ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1:10:41Z</dcterms:created>
  <dc:creator>И.В.</dc:creator>
  <dc:description/>
  <dc:language>en-US</dc:language>
  <cp:lastModifiedBy>Толя</cp:lastModifiedBy>
  <dcterms:modified xsi:type="dcterms:W3CDTF">2014-12-01T07:03:41Z</dcterms:modified>
  <cp:revision>14</cp:revision>
  <dc:subject/>
  <dc:title>Тема6 - Роль миссии и целей организации в стратегическом управлении</dc:title>
</cp:coreProperties>
</file>