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C9D8-ACD8-43A5-BD86-0882CF0EFC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BC72-AC7C-4081-AF7E-8AF3B488B3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0BA7-A9BF-4CE6-8C92-40DD2A1A5F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A49E-7CA2-4FAE-81A4-BBA4EEFAA5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10DE-F710-4912-AF47-DB674EA994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D2B6-4D67-4479-9987-8AA94BEAD3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E82A-49DE-46E3-B5F8-6CEF3CA9E3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F1F3-B9DA-42E3-BD85-A0119B77D9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02B6-66FA-4D5C-BDE9-066C54F082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9ED0-947F-40BA-9BF1-81FEBF39F1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3594-A504-47E4-A132-C7D45CB9B0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31E3-91B2-4441-B619-E2E340AEA6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B5FE-4AC5-4E97-B606-F3A344612E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BC4D-428F-4EF4-84D9-EF981F43BF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6383-A227-4A7D-8050-857D1EA2C5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7D96-CB6F-4E56-8E27-A3CE5815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A04-C695-4050-8AC9-586BF354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F52-D88A-4343-92B0-A930BC08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0D9F-A8C5-42A2-9AD5-6E8CD40E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38B4-46D8-495A-86C6-643C99A5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FD06-A45D-4815-9405-4B6ACBCA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0EBC-AB91-4038-BD5F-EB31D8FC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A99B-2A3D-4236-A0E6-F0517C4A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474C-66C4-429F-9FF7-3F833234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EB5E-6055-43FA-80AB-4E33106C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8070-0F67-42AE-9BD2-F392EDE7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FE2B-8396-45C4-A79E-519FC215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79DF-434F-49C6-B03B-9E5AC3D2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E31E-02CE-4D99-B651-CD12D025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5A71-2EF7-488F-9611-B8BFD24A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A9B9-E706-4FB3-A40C-B7B4ABB3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4384-3FE2-454E-8A73-DF178CE9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AEB14-0EF9-426F-B916-7761BE32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AC0E7-9A96-4F6F-8EE0-E3D44722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726F4-D7D1-4B92-BE30-EBC1F663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E5E3E-B9A0-4C24-BEDD-A5ED77DB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BD614-F41A-4413-95E1-573841B7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8A9-37E0-4DEB-95B9-9BB0F1D9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96D7F-84FB-46C7-B77B-4B48D26C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75542-B672-4A36-B39E-D811F66D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F8B21-A2A9-43A1-A699-28EE23E2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A93D4-324C-48E0-A15E-E2507910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A2460-28F8-4E98-935D-1AF5F720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705F5-FD33-4A6A-8803-799284AD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AD536-0D91-4A6E-8760-887C0CF8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0CBD2-860D-43E6-B3A6-F509A299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EB1F4-8FDA-4EBA-B751-B016F4AA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1990E-9D83-4374-A75D-A762DFC6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85D-9C0F-42CE-9634-B12E2C69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3D241-98C3-4CC9-878B-4EB5F034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7D63A-76CC-4B1B-9A30-B91264ED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1A78B-1AFB-4E1A-A0F3-1A4FCA50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D7DDD-A397-4466-9A5B-E730CEDF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E4BE7-9622-491B-9DC6-FD0F227E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6B0EE-718D-4DE8-BC03-4047FCEB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FE359-B632-4092-AB22-529E23FF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D9F8B-CC8C-44BA-A7CF-E74D8594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08A96-CFB9-4A9B-A46D-BAEA668B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B22C-55DD-4E86-B6B5-86CA3B83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B126-FA74-44C7-80AD-BEFDFCD3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511-4825-4E24-84F9-BE7EDBC4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E9D-F5C1-4DBA-AF1F-5862EDB4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4FD-9215-49D6-A7C7-1475E576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40B8-7D2A-43C4-9392-EBB4E2F1DDB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1F00-5982-468E-8963-6DE0E8D543BE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7C07-FD66-4BC0-9B3C-6AA2011C573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9865-503C-432A-AC28-636C332CB509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959A-8140-476A-A5F4-4102EB215193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8F8E-822E-4D27-9BBE-4FC45A10A7BE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53CB-E2EF-487F-8994-96A574C1415B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A467-1948-4E9D-AD77-95D611D0AA93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ad84c6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Стратегический анализ внешней среды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ad84c6"/>
                </a:solidFill>
                <a:uFillTx/>
                <a:latin typeface="Trebuchet MS"/>
              </a:rPr>
              <a:t>Конкурентный 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это исследование структуры отрасли, оценка конкурентной позиции отдельных СБЕ дает возможность фирме выбрать оптимальную деловую стратегию, ориентированную на создание долгосрочных конкурентных преимущест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ad84c6"/>
                </a:solidFill>
                <a:latin typeface="Trebuchet MS"/>
              </a:rPr>
              <a:t>Модель пяти конкурентных сил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pic>
        <p:nvPicPr>
          <p:cNvPr id="247" name="Рисунок 3" descr="Q:\Инна\В Г У Э С\Лекции\Стратегический менеджмент - бакалавры\media\image3.jpeg"/>
          <p:cNvPicPr/>
          <p:nvPr/>
        </p:nvPicPr>
        <p:blipFill>
          <a:blip r:embed="rId1"/>
          <a:stretch/>
        </p:blipFill>
        <p:spPr>
          <a:xfrm>
            <a:off x="324000" y="1700280"/>
            <a:ext cx="7929360" cy="4929120"/>
          </a:xfrm>
          <a:prstGeom prst="rect">
            <a:avLst/>
          </a:prstGeom>
          <a:ln w="0">
            <a:noFill/>
          </a:ln>
        </p:spPr>
      </p:pic>
      <p:sp>
        <p:nvSpPr>
          <p:cNvPr id="24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Отраслевая конкуренция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71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соперничество среди основных конкурентов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Рисунок 3" descr="Q:\Инна\В Г У Э С\Лекции\Стратегический менеджмент - бакалавры\media\image4.jpeg"/>
          <p:cNvPicPr/>
          <p:nvPr/>
        </p:nvPicPr>
        <p:blipFill>
          <a:blip r:embed="rId1"/>
          <a:stretch/>
        </p:blipFill>
        <p:spPr>
          <a:xfrm>
            <a:off x="179280" y="2133720"/>
            <a:ext cx="7858080" cy="3714480"/>
          </a:xfrm>
          <a:prstGeom prst="rect">
            <a:avLst/>
          </a:prstGeom>
          <a:ln w="0">
            <a:noFill/>
          </a:ln>
        </p:spPr>
      </p:pic>
      <p:sp>
        <p:nvSpPr>
          <p:cNvPr id="252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Отраслевой 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экономических характеристик отраслевого окруж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а степени конкурен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явление движущих сил конкурен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ключевых факторов успех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ключение о степени привлекательности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ad84c6"/>
                </a:solidFill>
                <a:latin typeface="Trebuchet MS"/>
              </a:rPr>
              <a:t>Ключевые факторы успеха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общие для всех предприя­тий отрасли управляемые переменные, реализация которых дает возможность улучшить конкурентные позиции предприятия в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ИОКР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о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нансы и т.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Характеристика и цели анализа внешней сред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WOT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урентный 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раслевой 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ифирменная диагности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ное назначение анализа внешней среды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выявить и уяснить возможности и угрозы, которые могут возникнуть для предприятия в будущем, с тем чтобы правильно определить стратегию и общую политику предприят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По степени воздействия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 процессы, протекающие в рамках предприятия, выделяют две группы внешних факторов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даленного воздействия, представляющих макросферу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посредственного влияния ближнего окружения, или отраслевые фактор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ad84c6"/>
                </a:solidFill>
                <a:uFillTx/>
                <a:latin typeface="Trebuchet MS"/>
              </a:rPr>
              <a:t>РЕ</a:t>
            </a:r>
            <a:r>
              <a:rPr b="1" lang="en-US" sz="3200" spc="-1" strike="noStrike" u="sng">
                <a:solidFill>
                  <a:srgbClr val="ad84c6"/>
                </a:solidFill>
                <a:uFillTx/>
                <a:latin typeface="Trebuchet MS"/>
              </a:rPr>
              <a:t>S</a:t>
            </a:r>
            <a:r>
              <a:rPr b="1" lang="ru-RU" sz="3200" spc="-1" strike="noStrike" u="sng">
                <a:solidFill>
                  <a:srgbClr val="ad84c6"/>
                </a:solidFill>
                <a:uFillTx/>
                <a:latin typeface="Trebuchet MS"/>
              </a:rPr>
              <a:t>Т-анализ</a:t>
            </a:r>
            <a:endParaRPr b="0" lang="en-US" sz="32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стоит в выявлении и оценке влияния факторов макросреды на результаты текущей и будущей деятельности предприят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Цель РЕ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S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Т-анализ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отслеживание (мониторинг) изменений макросреды по четырем узловым направлениям и выявление тенденций, событий, не подконтрольных предприятию, но оказывающих влияние на результаты принятых стратегических решен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571680" y="1165320"/>
          <a:ext cx="8072280" cy="5335560"/>
        </p:xfrm>
        <a:graphic>
          <a:graphicData uri="http://schemas.openxmlformats.org/drawingml/2006/table">
            <a:tbl>
              <a:tblPr/>
              <a:tblGrid>
                <a:gridCol w="4035240"/>
                <a:gridCol w="4037040"/>
              </a:tblGrid>
              <a:tr h="280800"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51040"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авительственная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стабиль­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зменение законодатель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Государственное влияние на отрасли, включая долю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госсоб­ствен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Государственное регулирова­ние конкуренции в отрас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Налоговая полит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бщая характеристика эконо­мической ситуации (подъем, стабилизация, спад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Курс национальной валюты 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рефинанс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инфля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ровен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безработиц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Цены на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энергоресурс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2560"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Демографические измен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зменение структуры доход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тношение к труду и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тдых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циальная мобильност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насе­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Активность потребител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.Государственная техническая,  поли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2. Значимые тенденц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бласт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ОК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овые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продукты (скорость об­новления и освоения новых тех­нологи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Новые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патент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ad84c6"/>
                </a:solidFill>
                <a:uFillTx/>
                <a:latin typeface="Trebuchet MS"/>
              </a:rPr>
              <a:t>SWOT</a:t>
            </a:r>
            <a:r>
              <a:rPr b="0" lang="ru-RU" sz="3600" spc="-1" strike="noStrike" u="sng">
                <a:solidFill>
                  <a:srgbClr val="ad84c6"/>
                </a:solidFill>
                <a:uFillTx/>
                <a:latin typeface="Trebuchet MS"/>
              </a:rPr>
              <a:t>-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действенный инструмент оценки стратегического состояния организации на основе понимания ее внутренних сильных и слабых сторон и внешней среды, которая представляется в виде возможностей и угроз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ает обобщенную оценку организационной среды, имеющую преимущественно качественный характер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ильные стороны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это то, в чем она преуспела, ее от­личительные особенности, которые усиливают конкурентоспособность и дают фирме преимущества на рынке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лабые стороны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связаны в основном с отсутствием чего-то важного для функционирования фирмы или с тем, что у нее получается хуже в сравнении с прямыми конкурентам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Возмож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ужно рассматривать прежде всего с точки зрения рыночной привлекательности, которая может обеспечить максимальный рост прибыли фирмы и конкурентное преимущество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Угроз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(опас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) — это определенные факторы внешней среды, которые могут отрицательно повлиять на благосостояние фирмы и препятствовать ее успешному развити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3" descr="Q:\Инна\В Г У Э С\Лекции\Стратегический менеджмент - бакалавры\media\image1.jpeg"/>
          <p:cNvPicPr/>
          <p:nvPr/>
        </p:nvPicPr>
        <p:blipFill>
          <a:blip r:embed="rId1"/>
          <a:stretch/>
        </p:blipFill>
        <p:spPr>
          <a:xfrm>
            <a:off x="646200" y="281160"/>
            <a:ext cx="6218280" cy="631476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ad84c6"/>
                </a:solidFill>
                <a:latin typeface="Trebuchet MS"/>
              </a:rPr>
              <a:t>Матрица «вероятность усиления — интенсивность воздействия»</a:t>
            </a:r>
            <a:endParaRPr b="0" lang="en-US" sz="2900" spc="-1" strike="noStrike">
              <a:solidFill>
                <a:srgbClr val="ad84c6"/>
              </a:solidFill>
              <a:latin typeface="Trebuchet MS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00040" y="2071800"/>
          <a:ext cx="8072640" cy="4066920"/>
        </p:xfrm>
        <a:graphic>
          <a:graphicData uri="http://schemas.openxmlformats.org/drawingml/2006/table">
            <a:tbl>
              <a:tblPr/>
              <a:tblGrid>
                <a:gridCol w="2017800"/>
                <a:gridCol w="2019240"/>
                <a:gridCol w="2017800"/>
                <a:gridCol w="2017800"/>
              </a:tblGrid>
              <a:tr h="305280">
                <a:tc rowSpan="2"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ятность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832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96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r>
                        <a:rPr b="0" i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2:14:18Z</dcterms:created>
  <dc:creator>И.В.</dc:creator>
  <dc:description/>
  <dc:language>en-US</dc:language>
  <cp:lastModifiedBy>Толя</cp:lastModifiedBy>
  <dcterms:modified xsi:type="dcterms:W3CDTF">2014-12-01T07:05:45Z</dcterms:modified>
  <cp:revision>9</cp:revision>
  <dc:subject/>
  <dc:title>Theme 6</dc:title>
</cp:coreProperties>
</file>