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B87E-895A-442A-8B25-03957C5A41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C0A9-A7E7-4544-94E9-9540CCB87E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EED1-3F46-4BD2-9069-EAA26A62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EFFA-DAEA-47DE-B463-87A8E530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176F-5149-4BF7-8FFA-6BBCD383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1DD-066D-4845-A33E-5D6051BE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0CEB-E413-417A-AB5F-EC4A1174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33B8-6524-4AD5-9B6C-DBFA22B8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F9DD-FE1C-46E8-8725-CA120183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6226-7C08-4955-BA4F-4042363C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5452-1B7A-481D-BF1C-29E8ADF4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A4C3-004D-464F-BFB9-D771988E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BD35-B80C-4F7F-9C52-4113BB3F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13EA-8937-4C2E-9C25-0CF9742E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71A3-9050-4E0B-8717-E480A84E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55DF-6A2B-4E33-804E-95737AB2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003F-4D05-4B05-A392-F85F2910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CD89-129B-4660-8D4E-D9DAF418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457C-B46E-44AB-987E-3648F080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19EF4-5C5C-43F3-A863-8F0CE6B3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C4EF1-FCBA-434E-A4B7-689185B0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5DE06-8174-40B3-BB44-F38AB51B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65BEB-7672-4EEF-8AF7-81D783D7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BF023-22DD-4A9F-A126-90A2F305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0F0D-E682-492E-87C4-DC03A6E6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D12BE-A40B-4C74-9384-5F817897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93F35-013B-4D8F-AF97-949B894B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D6B2C-4160-4093-AB30-D2A996B9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A3EB9-5999-4AEE-888E-5EF354BA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EAADF-8C14-4482-89B9-26367C23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C1628-F0AA-4099-8806-C41A2E4D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6A84B-4E06-4365-90F6-C8CCD044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29447-ACBB-4717-9AE6-B360AE57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055BC-B9B8-4550-8121-395F2E81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85A72-6574-4724-B91C-35EE7001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0337-A438-46C2-84D8-8D703240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92F58-D0BF-486F-A425-773D4EA0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A0CAC-E777-4AF4-A49C-301378B4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C78E5-0763-43B1-B994-0A21438D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DFA24-1BAB-4798-B27F-FEA38FF7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16745-9E1E-4CDD-A55B-E59E0AF2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563C7-06E4-48A9-A72D-3A775ED5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677BD-3B59-40E3-8E13-5D23E7E2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67DDC-3BCC-4E32-B673-4F56851B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D4C86-5FB9-48D0-9D0E-733631B4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84F5-687B-4A15-B6E9-E89352C0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5687-ACFA-42E7-9585-07923A70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C090-B62A-4BC7-9EFB-A2A85689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075F-C100-498E-BB56-B9D7E633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105-1945-4D53-A861-662532FE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4A9F-D3A1-4436-AA63-E01D3CDCCDBD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5358-B354-444B-901B-C4BB1E320504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1349-86B4-4EFA-A6A6-AE419C477B23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ECAE-678B-4F5F-B455-54F708C7E865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3653-0772-410B-8F19-34C26BED6E5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3E9F-B5EB-4F41-8BBE-54DAD02ECE8B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9BC0-DA89-4669-9449-2ECD6009D714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C115-C490-49FE-824D-47580C221070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5fcbef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  <a:ea typeface="Arial"/>
              </a:rPr>
              <a:t>Разработка стратегии на корпоративном уров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</a:t>
            </a:r>
            <a:r>
              <a:rPr b="1" lang="en-US" sz="2600" spc="-1" strike="noStrike">
                <a:solidFill>
                  <a:srgbClr val="090d33"/>
                </a:solidFill>
                <a:latin typeface="Trebuchet MS"/>
                <a:ea typeface="Arial"/>
              </a:rPr>
              <a:t>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5fcbef"/>
                </a:solidFill>
                <a:uFillTx/>
                <a:latin typeface="Trebuchet MS"/>
              </a:rPr>
              <a:t>Стратегия роста через диверсификацию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886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полагает выход за рамки отраслевой технологической цепочки, используя возможности, открывающиеся вне зоны традиционной деятельности фирм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гласно принципу слияния существует связанная и несвязанная диверсификац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fcbef"/>
                </a:solidFill>
                <a:latin typeface="Trebuchet MS"/>
              </a:rPr>
              <a:t>Диверсификация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9680" y="142884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Связанна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6840" y="2071440"/>
            <a:ext cx="40402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 сути является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интеграцией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(горизонтальной или вертикальной), т.е. основывается на присоединении к предприятию новых видов деятельности на стадиях до или после производства основного продук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3280" y="1428480"/>
            <a:ext cx="404208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Несвязанна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44720" y="2071440"/>
            <a:ext cx="404172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хватывает такие направления деятельности, которые не имеют прямой непосредственной связи с основной деятельностью предприят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е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стратегия центрированной диверсификации 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стратегия конгломератной диверсификации 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5fcbef"/>
                </a:solidFill>
                <a:uFillTx/>
                <a:latin typeface="Trebuchet MS"/>
              </a:rPr>
              <a:t>Стратегии сокращен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Ликвидация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—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наиболее радикальный вариант сокращения, связанный с полной распродажей материальных запасов и активов фирмы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Продажа организаци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фирме, для которой данная сфера бизнеса может представлять интерес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окращение и переориентац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применяются, когда есть необходимость в сокращении фирмой части своей деятельнос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Дезинтеграц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предусматривает отказ фирмы от определенных производственных цепочек и переход на внешние сделк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Матрица «товар-рынок»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8319960" cy="421452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ие корпоративные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и интенсивного ро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интеграционного ро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диверсифкационного ро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сокращ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5fcbef"/>
                </a:solidFill>
                <a:uFillTx/>
                <a:latin typeface="Trebuchet MS"/>
              </a:rPr>
              <a:t>Типы корпоративных стратегий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табильност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сосредоточена на существующих направ­лениях деятельности организации и сохранении конкурентной позиции на рынк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рост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предусматривает превышение уровня развития фирмы над предыдущим периодо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окращен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по сути, стратегия отступления, которая предусматривает установление уровня целей организации ниже достигнутого в прошло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fcbef"/>
                </a:solidFill>
                <a:latin typeface="Trebuchet MS"/>
              </a:rPr>
              <a:t>Дерево общих стратегий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39640" y="1285920"/>
            <a:ext cx="6858000" cy="5286240"/>
          </a:xfrm>
          <a:prstGeom prst="rect">
            <a:avLst/>
          </a:prstGeom>
          <a:ln w="0">
            <a:noFill/>
          </a:ln>
        </p:spPr>
      </p:pic>
      <p:sp>
        <p:nvSpPr>
          <p:cNvPr id="231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5fcbef"/>
                </a:solidFill>
                <a:uFillTx/>
                <a:latin typeface="Trebuchet MS"/>
              </a:rPr>
              <a:t>Интенсивный рост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28760" y="1125360"/>
            <a:ext cx="7358040" cy="5588280"/>
          </a:xfrm>
          <a:prstGeom prst="rect">
            <a:avLst/>
          </a:prstGeom>
          <a:ln w="0">
            <a:noFill/>
          </a:ln>
        </p:spPr>
      </p:pic>
      <p:sp>
        <p:nvSpPr>
          <p:cNvPr id="234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680724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5fcbef"/>
                </a:solidFill>
                <a:uFillTx/>
                <a:latin typeface="Trebuchet MS"/>
              </a:rPr>
              <a:t>Стратегия интеграционного роста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15920"/>
            <a:ext cx="82296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вязана с возможностями объединения с другими элементами отрасл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целью является рост в пределах индустриальной технологической цепочк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авдана, когда нет возможности роста по отношению к базовому рынку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е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ертикальная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олная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частичная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горизонтальна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Вертикальная интегр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285840" y="2000160"/>
            <a:ext cx="7599240" cy="1622520"/>
          </a:xfrm>
          <a:prstGeom prst="rect">
            <a:avLst/>
          </a:prstGeom>
          <a:ln w="0">
            <a:noFill/>
          </a:ln>
        </p:spPr>
      </p:pic>
      <p:sp>
        <p:nvSpPr>
          <p:cNvPr id="24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Горизонтальная интегр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следует цель усиления позиции фирмы путем поглощения или слияния с однопрофильными организациям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иболее существенным при данном способе роста является достижение положительной синерг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инерг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— это стратегические преимущества, которые возникают при соединении двух и более орга­низаций в рамках единой структур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fcbef"/>
                </a:solidFill>
                <a:latin typeface="Trebuchet MS"/>
              </a:rPr>
              <a:t>Источники синергетического эффекта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жение операционных расход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жение финансовых риск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величение эффективности менеджмент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лучшение конкурентной позиции на рынк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величение прибыли в денежном выраже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жение потребности в инвестициях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6T11:05:37Z</dcterms:created>
  <dc:creator>И.В.</dc:creator>
  <dc:description/>
  <dc:language>en-US</dc:language>
  <cp:lastModifiedBy>Толя</cp:lastModifiedBy>
  <dcterms:modified xsi:type="dcterms:W3CDTF">2014-12-01T07:00:06Z</dcterms:modified>
  <cp:revision>12</cp:revision>
  <dc:subject/>
  <dc:title>Разработка стратегии на корпоративном уровне</dc:title>
</cp:coreProperties>
</file>