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B7F3-F30E-4485-B201-1F5EC5C5D4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2C28-DC98-4C04-92AD-CD5CE228EC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A182-4CB3-4F7F-BACE-613F716E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C40A-CECB-4877-ADBE-AA7FB665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5702-427B-4359-84FD-C0F42705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F2DC-D643-4F07-9A2B-76CD4CB6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1780-67B7-41BD-9863-1CE1E4822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C482-AF73-4FD2-98F4-36F5A252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7A8F-2469-433B-9FD2-4D0CB47A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1997-07DD-44AD-A9F7-C8C6689B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D648-9AAA-4878-94C9-E5BF1683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7342-791A-48B2-AE79-63529E4C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DD80-434F-41CB-B167-D7283F12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5923-B8EF-448F-9119-3762ED5F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47AC-356A-430A-9448-98C16DC1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01B1-7CF8-45A4-B7DE-D4CA082A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2D74-FE9F-417D-8B73-149211EB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AC3C-67DF-40BC-89BA-B91B962DC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2CBC-2264-4A8A-96D8-C1289688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B7AFE-E7F1-456D-B65E-B1F79A6F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6F674-F985-4ABF-A325-3B85908B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CE455-60DF-4C13-AAFC-CD9C9893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2B56F-1C7B-452C-9A59-81935C8E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6551C-7DB3-4CD0-ACCF-5B6E61BD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7267-0734-4251-98AF-A13C4886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FE54B-0288-4020-9927-AB4951F1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AF114-1B0F-4D7C-804F-2AD79B36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ED59A-AEA2-4DF5-B6D7-3AEF00A1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E98AE-98A5-4611-AF73-C01CDC1E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4C1FA-46E7-400B-86C2-0CD63894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4230E-F085-400F-8B53-C92A89BE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7A715-4795-4FD3-B884-CA7D98A4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23ADC-6400-4F98-8E85-8A4A4B47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8A79C-D8EE-4165-9FD5-558450D6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B830C-F4C2-4874-940C-B08AF575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A978-8718-42C2-B06F-04A5E38A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6DD68-E25A-461C-A077-58291F4E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8E06A-BCD8-409D-AC5C-D64A73CF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64ADA-B2AA-490C-A155-20CEBC34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B6F4E-2B43-41AF-A796-77DCCDFD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6CF25-443A-4296-B984-04D0DBF3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A102F-D74E-4B17-9B10-CA63640A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2B4BF-2426-4C9F-B6F0-25648FE6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84EED-E99A-4945-902F-3B3A7257A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82EDF-1DF8-4421-BDA6-00A5AE32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27B-4AAE-49F1-9C10-AC9161C5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D150-5046-4DF8-9066-311D207C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B2E8-EBBE-4115-815A-4AC71BF1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FC47-AAD3-4C56-984F-B360210F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A1BC-64A6-42C2-B71F-6A73B7E9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28CA-C7B3-4496-BF0A-7410DC9E0556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E195-DED6-44B7-8D69-5739D0C832D8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2D5D-8F28-40DD-8E10-866F4AD812F3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FFE8-4DFD-4086-BAEE-B340C355C908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D529-3F9C-4C32-A5A1-FCFACF40E72A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655E-5303-40BF-8DCC-FF072AB46FAD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578A-F609-492A-83DB-CD6F7F46B541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6930-C882-48FA-B3D6-6078DBD8A312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a66ac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Разработка стратегии бизнес-уров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Интеграция стратегий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Основополагающая конкурентная стратегия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лжна основываться на использовании основных идей базовых стратегий. В последнее время успеха добиваются компании нового типа, делающие ставки на соче­тание высокой производительности и высокого уровня дифференци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нятие и цель бизнес-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курентные преимущества и ключевые факторы успех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азовые стратегии по М. Портер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нтеграция деловых стратег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Бизнес-стратегия – это 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бор стратегической ориентации фирмы, являет­ся выбором базовой стратегии конкуренции относительно определенной сферы бизнес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тратегическая цель фирм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выделяет целевой рынок и, соответ­ственно, масштаб конкурен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Конкурентные преимущества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это способность организации производить и продавать свою продукцию (услуги) успешнее конкуренто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ю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утреннее конкурентное преимущество (способность произвести товар аналогичный товарам конкурентов с более низкими затратами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ешнее конкурентное преимущество (способность придать товару большую ценность в глазах потребителей, за которую они готовы платить более высокую цен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кие конкурентные преимущества легче защитить на рынке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Ключевые факторы успеха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факторы внутренней среды, которые позволяют организации достичь успеха на рынк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ю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ехнологически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енны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ркетинговы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чие (логистика, управление персоналом, инновации и т.п.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ФУ различны для различных отрасл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Базовые стратегии по М. Портеру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pic>
        <p:nvPicPr>
          <p:cNvPr id="236" name="Picture 2" descr="image3"/>
          <p:cNvPicPr/>
          <p:nvPr/>
        </p:nvPicPr>
        <p:blipFill>
          <a:blip r:embed="rId1"/>
          <a:stretch/>
        </p:blipFill>
        <p:spPr>
          <a:xfrm>
            <a:off x="571680" y="1928880"/>
            <a:ext cx="7916760" cy="4429080"/>
          </a:xfrm>
          <a:prstGeom prst="rect">
            <a:avLst/>
          </a:prstGeom>
          <a:ln w="0">
            <a:noFill/>
          </a:ln>
        </p:spPr>
      </p:pic>
      <p:sp>
        <p:nvSpPr>
          <p:cNvPr id="237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Стратегия лидерства по издержкам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ирма пренебрегает различиями в сегментах и обращается ко всему рынку сразу с одним и тем же товаро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готовлении стандартной продукции массового спроса, когда возможности дифференциации ограничены и спрос эластичен по цене, а вероятность переключения потребителей товара на другие велик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Дифференциация -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цепция, описывающая разнообразие предлож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Ценность для покупателей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это полезность или полное удовлетворе­ние, которое они получают при использовании товара, а также мини­мальные операционные издержки в течение всего срока его служб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По характеру направленности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можно выделить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инновационную и маркетинговую стратегии дифференци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Фокусирование - 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иповая бизнес- стратегия, которая предполагает концентрацию на узком рыночном сегменте или конкретной группе покупателей, а также специализацию на определенной части продукции и/или географическом регион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Основная цель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ключается в удовлетворении потребностей выбранного сегмента с большей эффективностью, чем конкуренты, обслуживающие более широкий рыночный сегмен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1:29:35Z</dcterms:created>
  <dc:creator>И.В.</dc:creator>
  <dc:description/>
  <dc:language>en-US</dc:language>
  <cp:lastModifiedBy>Стародумова Инна</cp:lastModifiedBy>
  <dcterms:modified xsi:type="dcterms:W3CDTF">2015-09-29T02:30:43Z</dcterms:modified>
  <cp:revision>14</cp:revision>
  <dc:subject/>
  <dc:title>Разработка стратегии бизнес-уровня</dc:title>
</cp:coreProperties>
</file>