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4919-242F-4F5D-9F72-84A388A471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72B7-635F-48A7-AC94-6F74CDA232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D3E5-41AC-4D6B-994D-B9C673C08D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8A3E-B14C-4033-BE10-3D94479F59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2272-311C-4BB0-86E2-240DAD718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7FB6-C692-4A43-A9FF-EFC019153D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EA6C-C285-4FA5-9815-0492C3BB1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BF27-8674-4416-BCCF-65FA454FAE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0D39-9541-4DBB-A258-48388D45F0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B3B0-27F7-437C-ADD5-ABE7326F0E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AB68-685C-46C8-ACEA-2413DF700B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92F2-582F-4AD3-B59A-F93D281753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CD7B-5878-476F-9DB4-D645F3454F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05F-D32D-4619-A091-43CFAEEC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48D-82B2-43FD-9C34-40747F01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AD8-7D39-4DD2-B6C2-B35B5BC7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739-E476-4F56-90AA-504E7A68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1B87-1D03-4FDF-A13F-B201DB6A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30B3-45A2-4119-BC2A-F5796E0D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CA6C-A353-445B-A178-34434A1F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FB5C-71BF-415A-826D-5667E6F6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5521-EC39-4D60-A660-E07A9324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4C2C-E3F8-413B-996B-D4D7A1F3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91A6-1880-4D80-AB03-F58054DA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D41-60EE-4711-8297-D45B35FA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40FF-DABA-4D6D-831D-EE871FFF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5496-44C6-4B59-9B55-10054A89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F9AB-3F68-4108-B10D-58545DD2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E2D5-106E-4327-887B-7BBEEBA4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676B-E12E-446E-9FA5-8E42BDD3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FA050-7E83-4673-9D82-773887AF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BC834-848A-46CA-B214-E683BF33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39F8B-CD2E-4678-A2C7-F4B3F4E0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A0BB2-5AFF-4D33-A191-D344065F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C3F3-178F-453F-BFC8-9A0F0A13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056-CE3E-4A89-A7D5-5532F1C1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07D61-F5A3-4C9C-A7D3-6C268D64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D7958-21CB-4850-985F-E99D011F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B98E-0112-4D30-B585-F4843CD4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9D5B-4193-44C8-8DF6-A5DB285A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C0178-B25D-451C-A7A3-17FFC75A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DFAD4-59DF-4D5B-9C80-47601ECC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5B3F9-6007-4829-977F-8CE49C8F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C786-3772-49D5-8459-2DCEBB71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59262-0FAE-446A-8D52-1E9A437B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760FA-7F15-4672-AB5A-E039EF21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BEA-721C-48DA-BA20-096145D5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AF39B-68BC-4AD8-A033-F7BD0668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F51F-8E7B-4D30-AEA0-573444DF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BB4AB-F538-408E-82D9-2A2A1611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3F8D-61D3-4DCB-8D3A-2816778F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269B8-EA83-4B32-B30F-13D585D6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D8F43-0532-4D17-881C-2671A853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309F4-B4B0-445F-9C0F-0FCF642D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3E4D8-9675-444D-83C8-AA13FDC3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4ECD6-5EBD-42B3-9FE3-40BD2E20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D76-5738-4848-B3E6-C61582CA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EF1-1D32-411D-9FBA-D6DC1E56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5CD-5C88-4CB9-8C13-7C010FDA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143-4275-46B9-8EC8-BF328C56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E3D-C0E8-4CCF-AC57-57652425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179B-2D07-42C3-8681-FD4B9E96244E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EA22-91C7-4947-B3A4-6645EF550E17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D666-E05E-4BAB-B935-CD954EC5EAC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6D71-4717-4E4B-A974-9C56B7EF48F6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2491-AB60-4B6B-96C6-00C7C0D5BA7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57A4-A151-4076-A6F0-DC971D069777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E944-8271-42DD-8994-D8C1B527181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1354-4137-4A3F-BFFD-1CBF503BCA14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b3d9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оль миссии и целей в стратегическом управ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1125360"/>
          <a:ext cx="8072640" cy="5187960"/>
        </p:xfrm>
        <a:graphic>
          <a:graphicData uri="http://schemas.openxmlformats.org/drawingml/2006/table">
            <a:tbl>
              <a:tblPr/>
              <a:tblGrid>
                <a:gridCol w="2695680"/>
                <a:gridCol w="5376960"/>
              </a:tblGrid>
              <a:tr h="40356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 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выражены движением денежной наличности, структурой капитала, выпуском ценных бумаг, оборотным капиталом, выплатой дивиден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описать с помощью таких показателей, как: производственные мощности, постоянные затраты, единицы продукции в натуральном и денежном выраж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9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(проце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т изменения в структуре или деятель­ности, может выражаться любым количеством ц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9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могут определять выполнение трудовых функций и отношение к работе, профессиональ­ное обучение, способы мотивации рабо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целями в форме видов деятельности, ориентированных на участие в ре­шении острых социальных проблем (экология, безработ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Дерево целей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pSp>
        <p:nvGrpSpPr>
          <p:cNvPr id="251" name="Group 1"/>
          <p:cNvGrpSpPr/>
          <p:nvPr/>
        </p:nvGrpSpPr>
        <p:grpSpPr>
          <a:xfrm>
            <a:off x="428760" y="2071800"/>
            <a:ext cx="8286120" cy="3142800"/>
            <a:chOff x="428760" y="2071800"/>
            <a:chExt cx="8286120" cy="3142800"/>
          </a:xfrm>
        </p:grpSpPr>
        <p:grpSp>
          <p:nvGrpSpPr>
            <p:cNvPr id="252" name="Group 2"/>
            <p:cNvGrpSpPr/>
            <p:nvPr/>
          </p:nvGrpSpPr>
          <p:grpSpPr>
            <a:xfrm>
              <a:off x="428760" y="2071800"/>
              <a:ext cx="8286120" cy="3142800"/>
              <a:chOff x="428760" y="2071800"/>
              <a:chExt cx="8286120" cy="3142800"/>
            </a:xfrm>
          </p:grpSpPr>
          <p:sp>
            <p:nvSpPr>
              <p:cNvPr id="253" name="Oval 3"/>
              <p:cNvSpPr/>
              <p:nvPr/>
            </p:nvSpPr>
            <p:spPr>
              <a:xfrm>
                <a:off x="2883960" y="2071800"/>
                <a:ext cx="337608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Общая цель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"/>
              <p:cNvSpPr/>
              <p:nvPr/>
            </p:nvSpPr>
            <p:spPr>
              <a:xfrm flipH="1">
                <a:off x="18097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5"/>
              <p:cNvSpPr/>
              <p:nvPr/>
            </p:nvSpPr>
            <p:spPr>
              <a:xfrm flipH="1">
                <a:off x="3651120" y="2811240"/>
                <a:ext cx="15336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6"/>
              <p:cNvSpPr/>
              <p:nvPr/>
            </p:nvSpPr>
            <p:spPr>
              <a:xfrm>
                <a:off x="5339160" y="2811240"/>
                <a:ext cx="30672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61063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8"/>
              <p:cNvSpPr/>
              <p:nvPr/>
            </p:nvSpPr>
            <p:spPr>
              <a:xfrm>
                <a:off x="2286360" y="3000240"/>
                <a:ext cx="4910400" cy="36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Ключевые цели по подсистемам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Group 9"/>
              <p:cNvGrpSpPr/>
              <p:nvPr/>
            </p:nvGrpSpPr>
            <p:grpSpPr>
              <a:xfrm>
                <a:off x="428760" y="4105800"/>
                <a:ext cx="1688040" cy="1108800"/>
                <a:chOff x="428760" y="4105800"/>
                <a:chExt cx="1688040" cy="1108800"/>
              </a:xfrm>
            </p:grpSpPr>
            <p:sp>
              <p:nvSpPr>
                <p:cNvPr id="260" name="Oval 10"/>
                <p:cNvSpPr/>
                <p:nvPr/>
              </p:nvSpPr>
              <p:spPr>
                <a:xfrm>
                  <a:off x="4287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1"/>
                <p:cNvSpPr/>
                <p:nvPr/>
              </p:nvSpPr>
              <p:spPr>
                <a:xfrm>
                  <a:off x="10425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2"/>
                <p:cNvSpPr/>
                <p:nvPr/>
              </p:nvSpPr>
              <p:spPr>
                <a:xfrm>
                  <a:off x="16563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13"/>
                <p:cNvSpPr/>
                <p:nvPr/>
              </p:nvSpPr>
              <p:spPr>
                <a:xfrm flipH="1">
                  <a:off x="58212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14"/>
                <p:cNvSpPr/>
                <p:nvPr/>
              </p:nvSpPr>
              <p:spPr>
                <a:xfrm>
                  <a:off x="119592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5"/>
                <p:cNvSpPr/>
                <p:nvPr/>
              </p:nvSpPr>
              <p:spPr>
                <a:xfrm>
                  <a:off x="16563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Oval 16"/>
              <p:cNvSpPr/>
              <p:nvPr/>
            </p:nvSpPr>
            <p:spPr>
              <a:xfrm>
                <a:off x="42876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роизводств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Group 17"/>
              <p:cNvGrpSpPr/>
              <p:nvPr/>
            </p:nvGrpSpPr>
            <p:grpSpPr>
              <a:xfrm>
                <a:off x="2576880" y="4105800"/>
                <a:ext cx="1687320" cy="1108800"/>
                <a:chOff x="2576880" y="4105800"/>
                <a:chExt cx="1687320" cy="1108800"/>
              </a:xfrm>
            </p:grpSpPr>
            <p:sp>
              <p:nvSpPr>
                <p:cNvPr id="268" name="Oval 18"/>
                <p:cNvSpPr/>
                <p:nvPr/>
              </p:nvSpPr>
              <p:spPr>
                <a:xfrm>
                  <a:off x="257688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9"/>
                <p:cNvSpPr/>
                <p:nvPr/>
              </p:nvSpPr>
              <p:spPr>
                <a:xfrm>
                  <a:off x="31903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0"/>
                <p:cNvSpPr/>
                <p:nvPr/>
              </p:nvSpPr>
              <p:spPr>
                <a:xfrm>
                  <a:off x="38041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Line 21"/>
                <p:cNvSpPr/>
                <p:nvPr/>
              </p:nvSpPr>
              <p:spPr>
                <a:xfrm flipH="1">
                  <a:off x="273024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22"/>
                <p:cNvSpPr/>
                <p:nvPr/>
              </p:nvSpPr>
              <p:spPr>
                <a:xfrm>
                  <a:off x="334404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23"/>
                <p:cNvSpPr/>
                <p:nvPr/>
              </p:nvSpPr>
              <p:spPr>
                <a:xfrm>
                  <a:off x="380412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Oval 24"/>
              <p:cNvSpPr/>
              <p:nvPr/>
            </p:nvSpPr>
            <p:spPr>
              <a:xfrm>
                <a:off x="24235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Маркетин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Group 25"/>
              <p:cNvGrpSpPr/>
              <p:nvPr/>
            </p:nvGrpSpPr>
            <p:grpSpPr>
              <a:xfrm>
                <a:off x="4878720" y="4105800"/>
                <a:ext cx="1687320" cy="1108800"/>
                <a:chOff x="4878720" y="4105800"/>
                <a:chExt cx="1687320" cy="1108800"/>
              </a:xfrm>
            </p:grpSpPr>
            <p:sp>
              <p:nvSpPr>
                <p:cNvPr id="276" name="Oval 26"/>
                <p:cNvSpPr/>
                <p:nvPr/>
              </p:nvSpPr>
              <p:spPr>
                <a:xfrm>
                  <a:off x="48787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"/>
                <p:cNvSpPr/>
                <p:nvPr/>
              </p:nvSpPr>
              <p:spPr>
                <a:xfrm>
                  <a:off x="54921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"/>
                <p:cNvSpPr/>
                <p:nvPr/>
              </p:nvSpPr>
              <p:spPr>
                <a:xfrm>
                  <a:off x="61059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29"/>
                <p:cNvSpPr/>
                <p:nvPr/>
              </p:nvSpPr>
              <p:spPr>
                <a:xfrm flipH="1">
                  <a:off x="503208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30"/>
                <p:cNvSpPr/>
                <p:nvPr/>
              </p:nvSpPr>
              <p:spPr>
                <a:xfrm>
                  <a:off x="564588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31"/>
                <p:cNvSpPr/>
                <p:nvPr/>
              </p:nvSpPr>
              <p:spPr>
                <a:xfrm>
                  <a:off x="61059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32"/>
              <p:cNvGrpSpPr/>
              <p:nvPr/>
            </p:nvGrpSpPr>
            <p:grpSpPr>
              <a:xfrm>
                <a:off x="7027200" y="4105800"/>
                <a:ext cx="1687320" cy="1108800"/>
                <a:chOff x="7027200" y="4105800"/>
                <a:chExt cx="1687320" cy="1108800"/>
              </a:xfrm>
            </p:grpSpPr>
            <p:sp>
              <p:nvSpPr>
                <p:cNvPr id="283" name="Oval 33"/>
                <p:cNvSpPr/>
                <p:nvPr/>
              </p:nvSpPr>
              <p:spPr>
                <a:xfrm>
                  <a:off x="702720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34"/>
                <p:cNvSpPr/>
                <p:nvPr/>
              </p:nvSpPr>
              <p:spPr>
                <a:xfrm>
                  <a:off x="76406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35"/>
                <p:cNvSpPr/>
                <p:nvPr/>
              </p:nvSpPr>
              <p:spPr>
                <a:xfrm>
                  <a:off x="82544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36"/>
                <p:cNvSpPr/>
                <p:nvPr/>
              </p:nvSpPr>
              <p:spPr>
                <a:xfrm flipH="1">
                  <a:off x="718056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37"/>
                <p:cNvSpPr/>
                <p:nvPr/>
              </p:nvSpPr>
              <p:spPr>
                <a:xfrm>
                  <a:off x="779436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38"/>
                <p:cNvSpPr/>
                <p:nvPr/>
              </p:nvSpPr>
              <p:spPr>
                <a:xfrm>
                  <a:off x="825444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Oval 39"/>
              <p:cNvSpPr/>
              <p:nvPr/>
            </p:nvSpPr>
            <p:spPr>
              <a:xfrm>
                <a:off x="67201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Финанс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40"/>
              <p:cNvSpPr/>
              <p:nvPr/>
            </p:nvSpPr>
            <p:spPr>
              <a:xfrm>
                <a:off x="457200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ерсона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41"/>
            <p:cNvSpPr/>
            <p:nvPr/>
          </p:nvSpPr>
          <p:spPr>
            <a:xfrm>
              <a:off x="714240" y="4290480"/>
              <a:ext cx="76435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одцели по подсистемам орган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Правила декомпози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ая цель должна содержать описание конечного результа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развертывании общей цели в иерархическую структуру исходят из того, что реализация подцелей каждого последующего уровня является необходимым и достаточным условием достижения целей предыдуще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формулировке целей разных уровней необходимо описывать желаемые результаты, а не способы их полу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цели каждого уровня должны быть независимы друг от друга и невыводимы друг из друг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 дерева целей должны составлять задачи, представляющие собой формулировку работ, которые могут быть выполнены определенным способом в установленные сро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73548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Видение организации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— это образное представление смысла деятельности и перспектив (будущего) организации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Видени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ъясняет и демонстрирует всем сотрудникам и общественност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представляет собой организац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ой она должна ста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 чему она стремит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Мисс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одним из главных элементов идеологической базы формирова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 должна зависеть от текущего состоя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ражает устремленность в будущ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комплексной цель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грает значительную роль как во внутренней, так и во внешней сред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одходы к формированию мисс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широки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зк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Формулировка миссии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содержа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сферы 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бочие принципы фирмы по отношению к окружающей сред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ценности внутри фирмы, рассматриваемые как культура организ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Заинтересованные группы в формулировке миссии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00040" y="1571760"/>
          <a:ext cx="8286840" cy="5073480"/>
        </p:xfrm>
        <a:graphic>
          <a:graphicData uri="http://schemas.openxmlformats.org/drawingml/2006/table">
            <a:tbl>
              <a:tblPr/>
              <a:tblGrid>
                <a:gridCol w="2170080"/>
                <a:gridCol w="6116760"/>
              </a:tblGrid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является клиентами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/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товары/услуги предлагаютс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фирма ведет конкурентную борьб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базовая технология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выжи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ую экономическую цель преследует фирм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со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базовые убеждения, ценности и приоритетные устремле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ый об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акому имиджу стремится фирма и какую ответственность перед обществом она принима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позиция фирмы по отношению к своему персонал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 с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заявляемые отличительные каче­ства и конкурентные преимуществ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Определение цели -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760" y="1999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более конкретный, чем миссия, уровень принятия решений, требующий выработки соответствующих стратегических задач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Следует различать цел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пецифическ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роцесс постановки целей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основном происходит сверху вни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ждый руководитель должен иметь четкие цели, которые обеспечивают поддержку целей более высоко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процессе выработки целей, необходим двусторонний обмен информаци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Эффективность целей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- это базовый критерий стратегического целеполаган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Цели должны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ретными и измеримы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иентированными во времен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алистичны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поставимыми и взаимно поддерживающи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960" y="1571760"/>
          <a:ext cx="8072280" cy="5227560"/>
        </p:xfrm>
        <a:graphic>
          <a:graphicData uri="http://schemas.openxmlformats.org/drawingml/2006/table">
            <a:tbl>
              <a:tblPr/>
              <a:tblGrid>
                <a:gridCol w="2695680"/>
                <a:gridCol w="5376600"/>
              </a:tblGrid>
              <a:tr h="40320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12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выражаться в различных показателях, таких как объем прибыли, доход на инвестиро­ванный капитал, отношение прибыли к объему продаж (коэффициент чистой прибыли)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на ры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описываться следующими понятиями: доля рынка, объем продаж в денежном или натуральном выражении, рыночная (отраслевая) ни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отношением выхода к входу, а также в виде издержек на единицу прод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0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нов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т новые способы ведения бизнеса (новые технологии и методы организации производства, внедрение на новые рынки и т. д.) и могут выражаться как в денежных, так и в дру­гих показател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4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показателей объема продаж или прибыль­ности по отношению к конкретному изделию (ассортименту изделий) цели могут быть связа­ны с выведением нового товара на рынок или снятия с произ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1:10:41Z</dcterms:created>
  <dc:creator>И.В.</dc:creator>
  <dc:description/>
  <dc:language>en-US</dc:language>
  <cp:lastModifiedBy>Толя</cp:lastModifiedBy>
  <dcterms:modified xsi:type="dcterms:W3CDTF">2014-12-01T07:03:41Z</dcterms:modified>
  <cp:revision>14</cp:revision>
  <dc:subject/>
  <dc:title>Тема6 - Роль миссии и целей организации в стратегическом управлении</dc:title>
</cp:coreProperties>
</file>