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D89B-2077-4278-9DD3-777DBE6994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18E9-33A1-4FB8-B7D1-34B8C3BDE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DC5C-FEEC-4343-8282-0190D19FD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F6A3-E7AC-4A06-877E-D0329E6B7B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93FB-6025-45E9-A412-9581EDDD83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496C-FB56-48E7-9948-92D1F2418D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054-FFFE-4C8F-B389-A38934084F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123C-21FB-4898-BB54-7A1A0AFB8E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57F4-0603-43EF-9EB3-96930F5AF2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0AED-342A-4E98-8A74-7183F570B4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7E1C-3296-40E1-AA0B-E4969263E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B9C-1162-4347-8805-913D5207F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A8B0-769E-4B67-A675-4562FE9D00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E214-85FF-4280-A7E1-0C5983F500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9556-343D-4EA6-A37C-DEF335CE9F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2D0-4A1F-423A-B8FE-B3F71949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ACD-B345-4A2D-82C8-9C1FE925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A53-02AD-481A-9422-85C97153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C04-EF28-4CAE-BBAA-1535F87A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CAD9-6016-4D26-91C0-D31E0E52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03DD-F82D-4B28-B2D2-A19E96FC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DCC3-58C9-4D75-8CCF-5BCE4950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669D-D139-45A2-BD4E-9D562540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85B1-D0BE-414F-866D-EF09F3C9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FB13-DAE1-4137-889E-EE004700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772B-7BCC-4E05-9D2A-3DC210F7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4B4-8F74-4677-9DC2-0F76D863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FB1-4EC7-4017-B800-6D76767C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80EC-8CDC-444A-94BD-FE9F45AD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EB92-289B-497C-84CE-46A5552F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FF91-8959-492B-B08B-BBEF1284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B438-997E-4BCC-A84D-6DA7386C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A29C-4768-4B0B-9FB6-BDD22419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C370-81A4-471A-A243-CEC4C79C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2F47-E757-418C-AD23-C3C02271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3DCE-FE91-4552-836C-38BC5704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55AE0-C5F8-47B0-970D-214737FA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1D6-627E-42FE-9EC5-37B5FA9A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F1ED-8310-4891-B015-D106F7CF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139A1-7791-423A-802B-F6E681C1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8311-9E6B-4D2D-9620-0C2B0C8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99C5-A24D-4403-9DE1-412A280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3930-44AF-4279-855C-0FCEF750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EE7F-1716-456F-8476-5E39FAF8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DBB6-9318-4632-B059-10146719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235D-6CD6-48EB-BDA5-726A18B1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89F58-3A1B-4996-B09C-480AD3AC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DF03-F494-47C8-A5AC-9A7815DE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844-590E-4D0D-858A-75733AF5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B29B9-6BEE-462A-A66F-A51D6CD4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AF28-E3E7-4E78-AB23-6E6283DD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63FA-F45D-4036-AF5A-32FFBA90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6C0F-C963-4A02-87FF-23E0B55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5D52-45A2-44A4-9E15-35D181A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4D639-69BB-43BD-9E5D-179937D3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9C5A-56F9-4525-A1AC-209BDAD1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D288-C7CB-4355-9341-DF5AC6BD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242ED-D7A3-4B1A-8972-D6A8295F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DD6-D9CB-4B0E-BC44-2850BC58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0AD-703C-4992-9452-266A01C0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7A5-AA72-44EF-9F3F-4E97738E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5B8-5AEF-4DB1-9D8A-F6FF097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9A6-C1D4-458B-A857-2CFF8608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1083-160A-4CEF-95C0-469070FF69C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122D-47E8-495A-A61D-60A155631F23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A025-EA90-4184-976D-2527F4E6532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9C1E-9A0B-4F12-B6FA-F44D7C146B81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9CE2-2F34-4C18-83E9-079C1D0D9F5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2200-9793-4244-875E-C3F94E0853CF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2910-EAD9-41D8-BE61-3AD29029C12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6F00-8074-4AD6-8316-3B82A48D3E4C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d84c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еш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Конкурентны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исследование структуры отрасли, оценка конкурентной позиции отдельных СБЕ дает возможность фирме выбрать оптимальную деловую стратегию, ориентированную на создание долгосрочных конкурентных преиму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d84c6"/>
                </a:solidFill>
                <a:latin typeface="Trebuchet MS"/>
              </a:rPr>
              <a:t>Модель пяти конкурентных сил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247" name="Рисунок 3" descr="Q:\Инна\В Г У Э С\Лекции\Стратегический менеджмент - бакалавры\media\image3.jpeg"/>
          <p:cNvPicPr/>
          <p:nvPr/>
        </p:nvPicPr>
        <p:blipFill>
          <a:blip r:embed="rId1"/>
          <a:stretch/>
        </p:blipFill>
        <p:spPr>
          <a:xfrm>
            <a:off x="324000" y="1700280"/>
            <a:ext cx="7929360" cy="492912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ая конкуренция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оперничество среди основных конкуренто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Q:\Инна\В Г У Э С\Лекции\Стратегический менеджмент - бакалавры\media\image4.jpeg"/>
          <p:cNvPicPr/>
          <p:nvPr/>
        </p:nvPicPr>
        <p:blipFill>
          <a:blip r:embed="rId1"/>
          <a:stretch/>
        </p:blipFill>
        <p:spPr>
          <a:xfrm>
            <a:off x="179280" y="2133720"/>
            <a:ext cx="7858080" cy="3714480"/>
          </a:xfrm>
          <a:prstGeom prst="rect">
            <a:avLst/>
          </a:prstGeom>
          <a:ln w="0">
            <a:noFill/>
          </a:ln>
        </p:spPr>
      </p:pic>
      <p:sp>
        <p:nvSpPr>
          <p:cNvPr id="252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о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кономических характеристик отраслевого окруж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степени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явление движущих сил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ключевых факторов успех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ение о степени привлекательности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ad84c6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общие для всех предприя­тий отрасли управляемые переменные, реализация которых дает возможность улучшить конкурентные позиции предприятия 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ОКР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 и т.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арактеристика и цели анализа внеш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WOT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раслево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ое назначение анализа внешней сред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выявить и уяснить возможности и угрозы, которые могут возникнуть для предприятия в будущем, с тем чтобы правильно определить стратегию и общую политику предприят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степени воздейств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процессы, протекающие в рамках предприятия, выделяют две группы внешних факторо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даленного воздействия, представляющих макросфер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посредственного влияния ближнего окружения, или отраслевые факто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РЕ</a:t>
            </a:r>
            <a:r>
              <a:rPr b="1" lang="en-US" sz="3200" spc="-1" strike="noStrike" u="sng">
                <a:solidFill>
                  <a:srgbClr val="ad84c6"/>
                </a:solidFill>
                <a:uFillTx/>
                <a:latin typeface="Trebuchet MS"/>
              </a:rPr>
              <a:t>S</a:t>
            </a: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Т-анализ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ит в выявлении и оценке влияния факторов макросреды на результаты текущей и будущей деятельности предприят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Цель РЕ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Т-анализ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отслеживание (мониторинг) изменений макросреды по четырем узловым направлениям и выявление тенденций, событий, не подконтрольных предприятию, но оказывающих влияние на результаты принятых стратегических реш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71680" y="1165320"/>
          <a:ext cx="8072280" cy="5335560"/>
        </p:xfrm>
        <a:graphic>
          <a:graphicData uri="http://schemas.openxmlformats.org/drawingml/2006/table">
            <a:tbl>
              <a:tblPr/>
              <a:tblGrid>
                <a:gridCol w="4035240"/>
                <a:gridCol w="4037040"/>
              </a:tblGrid>
              <a:tr h="28080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104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вительственная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стабиль­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законод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Государственное влияние на отрасли, включая долю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госсоб­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осударственное регулирова­ние конкуренции в отра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логовая поли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щая характеристика эконо­мической ситуации (подъем, стабилизация, спад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урс национальной валюты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рефинанс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ля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езработи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ны на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нерго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256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мографические из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структуры доход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труду и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тдых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циальная мобильност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се­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ктивность потребите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.Государственная техническая,  поли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2. Значимые тенден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родукты (скорость об­новления и освоения новых тех­нолог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тен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ad84c6"/>
                </a:solidFill>
                <a:uFillTx/>
                <a:latin typeface="Trebuchet MS"/>
              </a:rPr>
              <a:t>SWOT</a:t>
            </a:r>
            <a:r>
              <a:rPr b="0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-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действенный инструмент оценки стратегического состояния организации на основе понимания ее внутренних сильных и слабых сторон и внешней среды, которая представляется в виде возможностей и угро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ает обобщенную оценку организационной среды, имеющую преимущественно качественный характе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то, в чем она преуспела, ее от­личительные особенности, которые усиливают конкурентоспособность и дают фирме преимущества на рынк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связаны в основном с отсутствием чего-то важного для функционирования фирмы или с тем, что у нее получается хуже в сравнении с прямыми конкурент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Возмож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ужно рассматривать прежде всего с точки зрения рыночной привлекательности, которая может обеспечить максимальный рост прибыли фирмы и конкурентное преимуществ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Угроз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(опас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— это определенные факторы внешней среды, которые могут отрицательно повлиять на благосостояние фирмы и препятствовать ее успешному развит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Q:\Инна\В Г У Э С\Лекции\Стратегический менеджмент - бакалавры\media\image1.jpeg"/>
          <p:cNvPicPr/>
          <p:nvPr/>
        </p:nvPicPr>
        <p:blipFill>
          <a:blip r:embed="rId1"/>
          <a:stretch/>
        </p:blipFill>
        <p:spPr>
          <a:xfrm>
            <a:off x="646200" y="281160"/>
            <a:ext cx="6218280" cy="63147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ad84c6"/>
                </a:solidFill>
                <a:latin typeface="Trebuchet MS"/>
              </a:rPr>
              <a:t>Матрица «вероятность усиления — интенсивность воздействия»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0040" y="2071800"/>
          <a:ext cx="8072640" cy="4066920"/>
        </p:xfrm>
        <a:graphic>
          <a:graphicData uri="http://schemas.openxmlformats.org/drawingml/2006/table">
            <a:tbl>
              <a:tblPr/>
              <a:tblGrid>
                <a:gridCol w="2017800"/>
                <a:gridCol w="2019240"/>
                <a:gridCol w="2017800"/>
                <a:gridCol w="2017800"/>
              </a:tblGrid>
              <a:tr h="305280"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96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5:45Z</dcterms:modified>
  <cp:revision>9</cp:revision>
  <dc:subject/>
  <dc:title>Theme 6</dc:title>
</cp:coreProperties>
</file>