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49FA-8F80-4BFB-988A-CBAAA11CC2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6081-6C93-4E0B-8DE0-436989949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30E-A1F2-48B2-83A4-1785AA09D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6F5-E378-4FA9-B1BB-6C096572F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FD1-42ED-4E12-A40A-C2832681B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E7E-26B9-41F0-9757-4FB0B42FDE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03B9-5CA6-428C-915E-2225D4A6E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5C46-5543-4859-8341-00632E7FE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0AC-E779-434E-A4EF-5F2289C268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F272-1915-4495-BB7A-85AE5DC16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60FC-BE3F-4DDB-8E4D-B7121402E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D2D-905D-46AA-8929-E622D2E7F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CC9A-21AF-4B6F-BC99-2A9BC2D1A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B3BE-351A-40AC-861A-6D5B69746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7E73-BDE7-40AD-A005-2B9165EE8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3821-962A-4C43-A663-C288928F1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45F-E983-4DFD-AB3D-C66BDEA6F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67A-8B42-4B8D-A20D-53B792E89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86C-BFF2-4BBE-BEEA-8ED6F365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E97-4C90-4D2E-A015-DE8D941E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4C3-D277-4A65-96DC-8D9335F4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D0A-8FDB-4172-804C-528C3291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3DB-4829-47B1-B580-A8ABB956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53B8-F188-4886-ACF0-CF96066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A5FC-4894-4053-8DAF-82D1A54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8824-4C86-409A-B7D6-F15229AD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2CA2-897C-4C2E-9493-AB33B4E1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2F94-F0F5-45D3-B765-EBFD2DB4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A48E-BCE4-47DA-A0CD-F9A57077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431-86B6-4ABF-A19A-3E1C4C79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2DE1-29EA-4E11-BC8D-DE35AE1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7117-8B66-4FE4-B344-D5A9867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A7EA-060C-46E6-86D7-0585284B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8842-5B23-4B25-8DDC-9CBBEC64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0F22-7C75-4228-A543-AAC9AA31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1932-86D8-4AA7-A632-386656B0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3654-4231-404A-9451-E093064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F0D7-61E8-46E6-A91E-3B1BE19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9798-B621-4AA8-A6A2-134AAE76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35BA-0D33-46DF-9F8B-5671E3BA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1B7-30FE-404E-8731-32BB102D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7ED0-FB0F-47B6-941E-7748C74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1891-F862-4CA9-93B0-F910B81D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A443-76B4-4B1F-A89A-7A0EDD8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9E4D-1F1E-4080-9886-00781CF0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1CE4-B5FC-4662-8806-0CE03523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FE88-1578-44B7-BEE8-58A2936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0F3F-8A21-41C2-AE5D-461BE790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6D21-54E3-4BB6-8D79-D8D81F2E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D4FC-28EC-405D-8732-24EB35A0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16F60-4350-44EA-AB9F-0F4C00CE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A43-EC7B-4A88-9A65-3AA281EF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E60F-80E4-4E71-8506-7F424F5D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48BD-D0DE-438A-9A0F-FAFA0399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7E4F-1680-4398-8675-F1483FA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3AC5-7ABA-48E9-A92B-1F98C133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E1D8-52B1-44D8-96A4-39391DB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ED22A-EDBC-4CCA-BA14-2AD56334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B89D-A51E-492B-A2B1-0735AF43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9ABD-922B-49A0-AFDF-767643BF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4808-6390-49E4-85B2-1F256CEC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CAEB-B4F0-44EE-8A31-D36A4A97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D1B-145E-45EB-A202-719F00EB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37890-5DDF-4151-A510-E234A5B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AB7C8-2D27-45C3-BA74-BB0E304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B96F-2C41-4D81-B13F-DFFC867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BE7BB-21A2-4A56-81E8-1370520A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04CD-8F4C-4180-9D63-A5EE720D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AAA9-21E6-4867-8444-B11CAC48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37693-230C-489F-98D3-516946D9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99DC-086C-45A0-BCF1-9033E0D9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E45E6-6708-462D-A52F-35B62BAB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4612-6F94-41C1-9B22-ED5D9F48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BF9-9071-4DA7-A01B-D618309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CD03-C797-480C-80AD-00564651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972-3E6C-40E2-8046-76ACC31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C4B-B7DE-4754-851F-674138B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6B1-75D0-40D4-B44C-C9E7008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F88-65C6-41DB-88D1-9747BF9C632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4FD-B5C4-4738-B623-E47843BF76FD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07A0-9566-422F-B729-6C860B245F6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739F-2ED2-4E1D-9E70-0A220BF1CB1C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4EFD-94F3-4A16-8FBA-D2B888E65D2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F5C-3AA4-4C30-9634-F08FEBCF78BF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3b56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F1D-39BD-4D9F-8170-185EA626DB5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96D4-820E-4342-AB25-0CAF20D88686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4831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4831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bd582c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422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3b56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4831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4831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4831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C2D-270D-4B91-9880-3C4F62F03D5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4831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D8C3-8F37-47F2-A4A3-13FE23C719EF}" type="slidenum">
              <a:rPr b="0" lang="ru-RU" sz="900" spc="-1" strike="noStrike">
                <a:solidFill>
                  <a:srgbClr val="e4831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4831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ормирование стратегических альтернатив. Выбор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лиде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Наступа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ычно применяется фирмами, стремящимися сохранить доминирующее положение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обычно вынужденное средств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Оборонительная страте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-лидеров преследует прежде всего цель защитить завоеванные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73548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, следующих за лидером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разумевают выбор последователем адаптивного поведения по отношению к фирме-лидеру, которое не вызывает отпора с ее сторон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держиваются от инициативных стратегических шагов и попыток переманить клиентов у лидер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дователи, не нарушая сферы влияния лидера, могут придерживаться стратегии фокусирования, базирующейся на дифференциации с ориентацией на высокое качество товара, а также стратегии характерного имидж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Стратегии фирм со слабой конкурентной позицией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усилия на одном или нескольких рыночных сегмента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бежать прямого столкновения с доминирующими фирма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ают технологии с целью снижения издерже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нтрируют внимание на прибыли, а не на увеличении объема продаж или доле рын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емятся к специализации, а не к диверсифик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Портфельный анализ</a:t>
            </a: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инструмент, с помощью которого руководство предприятия выявляет и оценивает свою хозяйственную деятельность с целью вложения средств в наиболее прибыльные или перспективные ее направления и сокращения/прекращения инвестиций в неэффективные проект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ль портфельного анализа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ование бизнес-стратегий и распределение финансовых ресурсов между хозяйственными подразделениями компан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Матрица БКГ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179280" y="1773360"/>
          <a:ext cx="804888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04888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Выделяют 4 группы рынков товар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57000"/>
            <a:ext cx="8507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Проблемы»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товары этой группы могут оказаться очень перспективными, поскольку рынок рас­ширяется, но требуют значительных средств для поддержа ния роста. Применительно к этой группе продуктов необходимо решить: увеличить долю рынка данных товаров или прекратить их финансировани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Звезд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рыночные лидеры. Они приносят значительную прибыль благодаря своей конкурентоспособности, но также нуждаются в финансировании для поддержания высокой доли динамичного ры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Дойные коровы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товары, способные принести больше прибыли, чем необходимо для поддержания их роста. Они являются основным источником финансовых средств для диверсификации и научных исследований. Приоритетная стратегическая цель — «сбор урожая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637052"/>
                </a:solidFill>
                <a:uFillTx/>
                <a:latin typeface="Trebuchet MS"/>
              </a:rPr>
              <a:t>«Собаки»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— это продукты, которые находятся в невыгодном положении по издержкам и не имеют возможностей роста. Сохранение таких товаров связано со значительными финансовыми расходами при небольших шансах на улучшение положения. Приоритетная стратегия — деинвестирование и скромное существование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48312"/>
                </a:solidFill>
                <a:uFillTx/>
                <a:latin typeface="Trebuchet MS"/>
              </a:rPr>
              <a:t>Рекомендации Бостонской матрицы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ын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стратег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тратегии единицы бизнес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везды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ржи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ятие сливок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йные коров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уп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инвес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обаки», «Проблемы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 u="sng">
                <a:solidFill>
                  <a:srgbClr val="e48312"/>
                </a:solidFill>
                <a:uFillTx/>
                <a:latin typeface="Trebuchet MS"/>
              </a:rPr>
              <a:t>Недостатки методов портфельного анализа</a:t>
            </a:r>
            <a:r>
              <a:rPr b="0" lang="ru-RU" sz="4000" spc="-1" strike="noStrike">
                <a:solidFill>
                  <a:srgbClr val="e48312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удности учета границ и масштаба рынка, большое количество критерие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бъективность оцен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атичный характер моде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ишком общий характер рекомендац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e48312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льтернативы роста крупных, средних и малых фир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этапа жизненного цикла отрасл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ие альтернативы в зависимости от занимаемой рыночной пози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ртфельные методы выбора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Факторы стратегического выбор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яние отрасл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ыночная позиция фирмы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сштаб деятельности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актор времен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4831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емлемый уровень рис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Матрица направлений роста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2" name="Рисунок 3" descr="Q:\Инна\В Г У Э С\Лекции\Стратегический менеджмент - бакалавры\media\image1.png"/>
          <p:cNvPicPr/>
          <p:nvPr/>
        </p:nvPicPr>
        <p:blipFill>
          <a:blip r:embed="rId1"/>
          <a:stretch/>
        </p:blipFill>
        <p:spPr>
          <a:xfrm>
            <a:off x="0" y="1501920"/>
            <a:ext cx="7929720" cy="50004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723888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48312"/>
                </a:solidFill>
                <a:latin typeface="Trebuchet MS"/>
              </a:rPr>
              <a:t>Сравнение преимуществ малого и крупного бизнеса</a:t>
            </a:r>
            <a:endParaRPr b="0" lang="en-US" sz="3200" spc="-1" strike="noStrike">
              <a:solidFill>
                <a:srgbClr val="e48312"/>
              </a:solidFill>
              <a:latin typeface="Trebuchet MS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1680" y="1928880"/>
          <a:ext cx="8072280" cy="4637160"/>
        </p:xfrm>
        <a:graphic>
          <a:graphicData uri="http://schemas.openxmlformats.org/drawingml/2006/table">
            <a:tbl>
              <a:tblPr/>
              <a:tblGrid>
                <a:gridCol w="4036680"/>
                <a:gridCol w="4035600"/>
              </a:tblGrid>
              <a:tr h="3679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ые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2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ая структура, не отягощенная прошлыми решениями и кад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удовлетворять индивидуальные запросы кли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ная интенсивность труда и высокая корпоративность трудового коллект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мобильность в вопросах стратегии развития, в том числе в области использования некапиталоемких достижений НТ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оборота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о капитала дает возможность расширять сферы своей деятельности путем различных форм экспансии (диверсификация, интег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объемы производства позволяют добиться эффекта масштаба и тем самым снизить издерж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оведения НИОКР и маркет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57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высокопроизводительной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85716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48312"/>
                </a:solidFill>
                <a:latin typeface="Trebuchet MS"/>
              </a:rPr>
              <a:t>Стратегии развития малого предприятия</a:t>
            </a:r>
            <a:endParaRPr b="0" lang="en-US" sz="36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88" name="Рисунок 3" descr="Q:\Инна\В Г У Э С\Лекции\Стратегический менеджмент - бакалавры\media\image3.png"/>
          <p:cNvPicPr/>
          <p:nvPr/>
        </p:nvPicPr>
        <p:blipFill>
          <a:blip r:embed="rId1"/>
          <a:stretch/>
        </p:blipFill>
        <p:spPr>
          <a:xfrm>
            <a:off x="0" y="2276640"/>
            <a:ext cx="8429760" cy="392904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копирован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перативного, быстрого реагирования на рыночную конъюнктуру, при которой малая фирма выбирает независимую форму существования (суверенитет) и предлагает рынку продукт, подобный продукту крупной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оптимального размер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тратегия находит свое применение в тех отраслях, где крупное производство неэффективно, прибыль невелика по масштабам крупных фирм, высоки расходы, связанные с добавленной стоимост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участия в продукте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малые фирмы используют возможности, связанные с политикой дезинтеграции, проводимой крупными компаниями, отказывающимися от собственного мелкого промежуточного производства внутри фирмы, которое редко бывает эффективны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тратегия использования преимуществ крупной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примером такой стратегии служит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франчайзинг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ак форма интеграции малого и крупного бизнес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865640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48312"/>
                </a:solidFill>
                <a:latin typeface="Trebuchet MS"/>
              </a:rPr>
              <a:t>Особенности стратегии средних фирм</a:t>
            </a:r>
            <a:endParaRPr b="0" lang="en-US" sz="40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3" name="Рисунок 3" descr="Q:\Инна\В Г У Э С\Лекции\Стратегический менеджмент - бакалавры\media\image4.png"/>
          <p:cNvPicPr/>
          <p:nvPr/>
        </p:nvPicPr>
        <p:blipFill>
          <a:blip r:embed="rId1"/>
          <a:stretch/>
        </p:blipFill>
        <p:spPr>
          <a:xfrm>
            <a:off x="108000" y="2060640"/>
            <a:ext cx="8143920" cy="442908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43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e48312"/>
                </a:solidFill>
                <a:uFillTx/>
                <a:latin typeface="Trebuchet MS"/>
              </a:rPr>
              <a:t>Выбор стратегии в зависимости от стадии ЖЦО</a:t>
            </a:r>
            <a:endParaRPr b="0" lang="en-US" sz="2900" spc="-1" strike="noStrike">
              <a:solidFill>
                <a:srgbClr val="e48312"/>
              </a:solidFill>
              <a:latin typeface="Trebuchet MS"/>
            </a:endParaRPr>
          </a:p>
        </p:txBody>
      </p:sp>
      <p:pic>
        <p:nvPicPr>
          <p:cNvPr id="296" name="Рисунок 3" descr="Q:\Инна\В Г У Э С\Лекции\Стратегический менеджмент - бакалавры\media\image5.png"/>
          <p:cNvPicPr/>
          <p:nvPr/>
        </p:nvPicPr>
        <p:blipFill>
          <a:blip r:embed="rId1"/>
          <a:stretch/>
        </p:blipFill>
        <p:spPr>
          <a:xfrm>
            <a:off x="212760" y="1554120"/>
            <a:ext cx="8785080" cy="51022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0:31:12Z</dcterms:created>
  <dc:creator>И.В.</dc:creator>
  <dc:description/>
  <dc:language>en-US</dc:language>
  <cp:lastModifiedBy>Толя</cp:lastModifiedBy>
  <dcterms:modified xsi:type="dcterms:W3CDTF">2014-12-01T07:11:05Z</dcterms:modified>
  <cp:revision>15</cp:revision>
  <dc:subject/>
  <dc:title>Theme 8</dc:title>
</cp:coreProperties>
</file>