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4404-161A-493C-940F-1CF7AB2BCF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D62-49BA-4E11-8FC5-2240D38D3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C2B-0D52-4220-B422-5945A125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614-24EB-4678-BB8C-939369BB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A09-D245-4A69-B8EE-B34CB51A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4D4-F1D8-4C68-8E1E-957A6D41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50B-C5C2-4EB2-B78E-A6233C59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947-432D-4AE8-A288-AED71030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0EA-CA1A-461A-978F-5C7FD2E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B8B2-B4AB-4B5A-91C1-07B6D6A8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871-4CD0-4592-8DA5-1C8256D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87D-D547-44BF-A8E3-3FDBF8B7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F6F9-B994-48B2-974B-61F10121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9C6-E26E-4857-B153-E24B29A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F87-8F6F-4082-A532-8A5E5510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7D5-81B1-466D-8D4F-7F39929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79A-862F-4741-961B-A666989F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2F0-B6C2-42AC-8005-185296C6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4308-1F41-46AB-A9F8-585B81F8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8B91-A3DC-4466-97D8-C21D811A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ADEF-4535-428A-8669-A227A44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D028-3FA9-48F5-B117-CF81722F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10F0-8086-416F-A151-F8F25ED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7C8A-704C-4499-9E57-BA02BC9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F16-21F1-4537-9D3A-9E71D521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3869-7DB5-445F-A0C6-DA941080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BF40-F35C-4DD4-A98D-DD29345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9E3C-F156-40EE-B44C-571E92E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520A-57C6-4659-87F7-EE3FA56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F455-D360-4DBB-8F99-08047A7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8EAD-A5E0-4BFE-A490-B29B1187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92E1-3971-43C2-92D9-39087E3B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A700-240B-407D-A872-62CDA170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46C8-9401-4A62-AD60-2B2BDA65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2864-D875-4612-BE68-A440EE35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140-5F9F-40D1-9417-42B23B0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43D1-0491-4DBF-98CF-0179394E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8387-5180-4287-A941-F16B1A7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7EB27-1EB1-40CC-9C64-4735E89E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B225D-8BFC-42A3-A8DC-99755AD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635B-C058-4881-8D37-9F2DCE2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6BBC-C34D-4F19-B79F-BBFD5A3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1113-E1E4-47B6-8232-B2586BB2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9387-7D24-44DE-9BEE-9744BBB3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C50A-0B90-4480-86F5-F24D9E75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922-EE03-481B-B103-85BCF9C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2E0-6CE4-4FB4-A8B5-A273448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25F-1FF3-47C3-B721-79BB70E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943-389A-44C5-9BCB-28CE1F1C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F6A-8EEA-4998-9BB3-EED1370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13D2-0F6D-4CE4-86FE-9776B769877E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3198-0C79-4ABA-A44E-EBD7CD13A227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7D8-EAFD-4612-B57C-CCF8857DBA00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DA7C-BFB5-4B3D-A540-B19D708BB653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C8C9-5F6D-457B-8A22-F7B7A6AA5641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C6D-F31D-413B-8514-015DE9D67ECD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2A4-E01D-4018-A0CD-3099E24CACF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83E-EEDB-4A42-9696-9E8CA7B75CD8}" type="slidenum">
              <a:rPr b="0" lang="ru-RU" sz="900" spc="-1" strike="noStrike">
                <a:solidFill>
                  <a:srgbClr val="e84c2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e84c22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Функциональные страте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e84c22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роль функциональной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 функциональн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НИОК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e84c22"/>
                </a:solidFill>
                <a:uFillTx/>
                <a:latin typeface="Trebuchet MS"/>
              </a:rPr>
              <a:t>Функциональная стратегия </a:t>
            </a: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определяет направление деятельности той или иной функциональной службы (или отдела) внутри одной сферы бизнеса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3499920"/>
            <a:ext cx="82296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ль функциональной стратегии заключается в поддержке общей деловой стратегии и конкурентоспособности фирмы, а также в создании управленческих ориентиров для достижения намеченных функциональных целей компа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1680" y="785880"/>
          <a:ext cx="7858080" cy="5371920"/>
        </p:xfrm>
        <a:graphic>
          <a:graphicData uri="http://schemas.openxmlformats.org/drawingml/2006/table">
            <a:tbl>
              <a:tblPr/>
              <a:tblGrid>
                <a:gridCol w="2060280"/>
                <a:gridCol w="5797800"/>
              </a:tblGrid>
              <a:tr h="56340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стратегическая ори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и сохранение лояльной группы потребителей посредством уникального сочетания товара, сбыта, продвижения и ц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использование производственных возможностей, снижение относительных издержек производства и макси­мизация контро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 пределах установленного бюджета, упор на прибыльную продукцию, контроль кредита и ми­нимизация стоимости зай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изация отчетности, тщательная детализация издержек, стандартизация сдел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40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07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блюдение конкретных спецификаций, ограничение числа моделей и вариантов, концентрация на улучшении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44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аб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материалов большими однородными партиями по низким ценам и поддержание небольших зап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2080">
                <a:tc>
                  <a:txBody>
                    <a:bodyPr lIns="6480" rIns="6480" tIns="0" bIns="0" anchor="t">
                      <a:noAutofit/>
                    </a:bodyPr>
                    <a:p>
                      <a:pPr marL="50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ОК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технологических прорывов, улучшение качества продукции, выявление нововве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Производственная стратегия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это долгосрочная программа конкретных действий по созданию и реализации продукции предприятия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715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ая стратег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размещения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организации производств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 НИОКР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—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это долгосрочная программа конкретных действий, связанных с созданием нового продукта и технологии производства</a:t>
            </a:r>
            <a:endParaRPr b="0" lang="en-US" sz="29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и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ступатель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щитн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глощающа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бойничь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e84c22"/>
                </a:solidFill>
                <a:latin typeface="Trebuchet MS"/>
              </a:rPr>
              <a:t>Выбор стратегии НИОКР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38" name="Group 219" descr=""/>
          <p:cNvPicPr/>
          <p:nvPr/>
        </p:nvPicPr>
        <p:blipFill>
          <a:blip r:embed="rId1"/>
          <a:stretch/>
        </p:blipFill>
        <p:spPr>
          <a:xfrm>
            <a:off x="487440" y="1420920"/>
            <a:ext cx="8192880" cy="499248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9:26:04Z</dcterms:created>
  <dc:creator>И.В.</dc:creator>
  <dc:description/>
  <dc:language>en-US</dc:language>
  <cp:lastModifiedBy>Толя</cp:lastModifiedBy>
  <dcterms:modified xsi:type="dcterms:W3CDTF">2014-12-01T07:01:49Z</dcterms:modified>
  <cp:revision>5</cp:revision>
  <dc:subject/>
  <dc:title>Функциональные стратегии</dc:title>
</cp:coreProperties>
</file>