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315C-FCFD-4121-8CF5-2A055B6E6F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A553-BEC0-4DAC-A3C6-504B1FE58E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816F-D95A-46C5-BDCF-B4BC49149B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37DF-46F9-472B-9553-ABCFF44344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55F2-FCD0-41EF-81BE-ABFCF67D0A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C5B1-D81C-47A6-BEF7-15DA32AA7F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6BE6-D780-470F-8F4E-EF165F1F83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1934-B577-4839-BCE2-E05471627F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62E1-25F0-4E1D-B68D-3C9AC0A19A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22AC-7BAC-4BCD-A014-0FDA7A24A2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DF61-3298-4831-99BC-B03BE12489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8377-5EA7-4879-95E7-68C7491E2C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1840-EC01-4C36-A27D-ECE9DD7F77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F24-4E83-4CE4-95B2-DC54BC41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B93-FCA7-450D-81FC-5C97A5CA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779-90BA-4C01-8706-167BA191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BA1-D64B-46F0-9B85-E87105BF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86EF-804B-41E8-B07E-505E55A3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05D4-58BF-461F-B857-E10A33EA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E9AE-1933-43E3-AE37-53D5C0FB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2793-1C3B-4052-932B-9CAB888B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B080-21E5-4B57-BDEA-F98B7F5C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D714-6EC6-4D86-A9BC-D9413741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5A33-CB50-4D61-90F3-23E50B79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28A-3ACE-4A65-92EC-955E2591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FF77-0FC1-49A9-BE44-A30BD553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73DF-EBC6-40BC-AF6F-4942AB5D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40CA-2BB8-4D91-B32C-DA21CBBE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1654-3980-4205-862D-49A381FE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80C3-31BD-449D-B217-21A95473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1E53A-9020-43FA-9B58-93CEDD22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274C2-089F-4848-86D4-0EFF498C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8C500-B160-454E-B18D-1165E189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B2290-E91E-4734-9906-AFB1AC8A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05B3-1754-4969-8851-8748B85C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E53-19AB-49CA-BB35-2F7AE006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4D14F-6605-4830-AB3B-BBFE54AD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85949-5A07-48A7-B1C3-218D7A30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10F6E-C7A7-4611-8B2A-C38468CB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F219B-2DEA-4B2F-992F-1B2FC1A6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BDFF-016B-4BFE-9EC1-80A7C5F5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C3FC2-9451-4613-AF9E-2F258771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DE80C-773C-4D03-9C93-98E97007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74552-D94B-459B-9D80-6660ED27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3BFE1-2FED-42B8-9589-555CBADE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D5977-316E-4385-B8DD-37183946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E25-CC4A-4F04-BEA3-9F477BFD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1B92D-3A72-496D-AA5E-317E68C7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EE3EA-0919-4CD0-A3BE-736D47FC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0965F-EF3D-48E3-8361-899B5AA5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921C6-A13A-4C89-B42A-692BF10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BF297-B0FE-4575-B0C2-86CA6CFE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CFD72-CE93-44F1-8728-B9321D89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25DF5-8A84-4B85-9EEF-D3045FCB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149CB-BC18-4B52-80DF-AFC7BA36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FC65E-5194-425D-BBA6-EAE7FF55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321-2FA8-45DB-AB93-AB4E935C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357-54AC-4463-BE3E-59F06BB9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5AA-7915-4E6B-BEEE-CC4D6B25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DFB-2B89-419D-9825-E459A4E2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A68-3E98-4418-A2B0-421443A3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3C4D-75BE-41A8-8152-CCD5E7E57CC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46D9-A947-4C2F-ABC7-E23A8DFF58B0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E533-6423-4157-935B-743FBFE2E20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95FC-0D0C-4768-961C-1DF42AEABEEF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8B1D-19B7-41D1-AE80-CF52A508B52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37B9-4D2D-4EC7-8EB8-1AD6894E9B57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6916-4303-4FAA-A7A1-D56F9C00FC0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2332-9F56-40FF-B83E-7944E746F638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5b59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утрен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Организацион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ммуникационные процесс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ганизационное построение предприятия или фирм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ормы, правила и процедуры производственного процесс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пределение прав и ответствен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ерархию подчи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988640"/>
            <a:ext cx="404028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ступают в качестве базы, на которую организация опирается в конкурентной борьбе и которую пытается расширить и укрепить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4720" y="1052280"/>
            <a:ext cx="4041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44720" y="1988640"/>
            <a:ext cx="40417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ы стать предметом внимания руководства, которое должно принять решение относительно устранения слабых сторон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SNW-</a:t>
            </a: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анали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ббревиатура трех английских слов (S - сильная позиция (сторона); N – нейтральная позиция; W – слабая позиция (сторона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качестве нейтральной позиции лучшего всего фиксировать среднерыночное состояние для данной конкретной ситуац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етко фиксируется ситуационное среднерыночное состояние, то есть своеобразная нулевая точка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езы анализа внутрен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ильные и слабые стороны организа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NW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a5b592"/>
                </a:solidFill>
                <a:latin typeface="Trebuchet MS"/>
              </a:rPr>
              <a:t>Внутренняя среда организации</a:t>
            </a:r>
            <a:endParaRPr b="0" lang="en-US" sz="40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 часть общей среды, которая находится в ее пределах. Она оказывает постоянное и самое непосредственное воздействие на функционирование организации. Под внутренней средой понимается хозяйственный организм фирмы, включающий управленческий механизм, направленный на оптимизацию научно-технической и производственно-сбытов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Внутрифирменная диагностика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сонал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ультура и имидж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екорпоративное управл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a5b592"/>
                </a:solidFill>
                <a:latin typeface="Trebuchet MS"/>
              </a:rPr>
              <a:t>Маркетинговый потенциал</a:t>
            </a:r>
            <a:endParaRPr b="0" lang="en-US" sz="3200" spc="-1" strike="noStrike">
              <a:solidFill>
                <a:srgbClr val="a5b592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42960" y="1500120"/>
          <a:ext cx="7858080" cy="5159520"/>
        </p:xfrm>
        <a:graphic>
          <a:graphicData uri="http://schemas.openxmlformats.org/drawingml/2006/table">
            <a:tbl>
              <a:tblPr/>
              <a:tblGrid>
                <a:gridCol w="3922560"/>
                <a:gridCol w="3935520"/>
              </a:tblGrid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360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ие и качество ассорт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характеристики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продук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ция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аковка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ая мар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о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йскурантная ц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ид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нс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е це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о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выдачи кред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ый персонал Рекл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и с обществен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ы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ры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образие кан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 поддерж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одажное обслужи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в торговых точка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продажное обслуж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 функций и обяза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a5b592"/>
                </a:solidFill>
                <a:latin typeface="Trebuchet MS"/>
              </a:rPr>
              <a:t>Производственный срез</a:t>
            </a:r>
            <a:endParaRPr b="0" lang="en-US" sz="44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е продукции, снабжения и ведения складского хозяйств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служивание технологического оборудова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уществление исследований и разработ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Финансов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ка ликвид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еспечение прибы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ание финансовой устойчив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е инвестиционных возможностей и тому подобно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Срез по персоналу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заимодействие менеджеров и рабочи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е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еба и продвижение кадр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у результатов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отивацию и стимулирование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я атмосферы и поддержки отношений в коллектив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387360" y="1220760"/>
          <a:ext cx="7958160" cy="5637240"/>
        </p:xfrm>
        <a:graphic>
          <a:graphicData uri="http://schemas.openxmlformats.org/drawingml/2006/table">
            <a:tbl>
              <a:tblPr/>
              <a:tblGrid>
                <a:gridCol w="3979800"/>
                <a:gridCol w="3978360"/>
              </a:tblGrid>
              <a:tr h="303120"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4120"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ильного лидера, который устанавливает принципы и нормы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еры посвящают значительное время объяснению этих принципов персоналу и постоянно подчеркивают важность исполь­зования этих принципов при принятии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соответствие между культурой и долгосрочными пла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превращает работу в образ жизни, воспиты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мотивируя сотруд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явшиеся ценности и нормы поведения не меняются при появлении нового лид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рудники хорошо осведомлены об истории организации, с уважением относятся к традициям, ритуалам и организационным симво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уделяется внимание прежде всего разъяснению своей фирменной философии, пропаганде своих цен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людей как главного ресурса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рассматривается как средство суще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ует множество субкульт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общепризнанных ценностей и правил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традиции, ритуалы, организационные симв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деляется должного внимания формированию истории органи­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зированная обстановка на фирме, когда отдельные руководители проводят собственную политику и оказывают сопротивление необходимым измене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ждебное отношение ко всякого рода иннов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руководства, ориентирован­ный в большей степени на органи­зационную структуру, бюджет, систему контроля над персоналом в ущерб созданию корпоративн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выделя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tabLst>
                          <a:tab algn="l" pos="0"/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формальные колич­ственные аспекты деятельности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экономических и технических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Культур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7:43Z</dcterms:modified>
  <cp:revision>12</cp:revision>
  <dc:subject/>
  <dc:title>Theme 7</dc:title>
</cp:coreProperties>
</file>