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111C-6775-4758-B9AF-BEC28F5FE7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13B-2F8B-4A65-BE0F-D4DE96511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EBD6-D2CF-4BA8-868D-1F7EC58347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25D6-9C70-4039-8244-6FE3A35779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4BB6-5242-471A-90A9-AB4B2DFE97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7476-FAE4-4B0A-BAD9-052E3EBDCB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DF0A-D0F5-464B-9849-C20D24FEA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01D1-E852-4B93-8CEE-39A8C683EF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298A-F606-4D8C-BAE3-A82090C07E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87CD-A79C-4D42-80ED-502732E07C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8FEB-BA3E-4DC4-82B3-A2AF451D08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71C2-6357-4525-A971-456F716293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743C-0B57-489C-8644-086C80CFC6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1EE-24C6-41E8-A21B-A441609A8E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07D4-ECDD-4F29-B431-ED1EB3AA84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951-B93D-4FC7-BACE-9F598868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127-65EA-48FE-AAF0-4F01F515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139-5879-4EE1-A867-43C66C7F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453-F042-4435-8552-4F9765E6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02D6-1AC8-4810-9E4E-D23C0058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53AD-98FF-403F-8F01-5D54AD22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D6EE-1FDB-473B-AB90-61351940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E3CF-2875-4F22-8A5D-ECBA4166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D0C6-AEB8-4469-8410-1A892C1D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78F3-B9DC-4A4C-BF4E-0FF46B2F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9664-8C9A-41C5-8C9C-FA0A3E5C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7B9-9F3C-4CEF-B4BB-FE98E7C8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0B44-B324-4C40-BD7D-7F0C062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D8ED-88C1-4A08-9251-B195F413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3FF9-F960-4894-991F-5343E415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B648-C47B-4A16-84C5-838D8B6C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85D0-F8AF-4109-AD14-166358EB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EB74-03C3-4F18-BE1F-FE8F15FE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3970-D0FE-48BA-BD3E-D605315E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4CF4-586C-4A8B-99E2-32D130ED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F4B3E-0637-4200-B70D-D8E610A2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FAEF-A3A0-472C-9FF2-5794381A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0F4-3B86-4030-B93A-2980E6AF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03B0-D8BA-4DB4-B6A6-E03A88D4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2C6A7-9FE2-4E68-9C63-9F795AFF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DC4EF-424A-448D-820E-563C335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76E25-97BA-43A7-A3C8-064DB721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7C73-9AE5-44B8-AFA8-698B13D0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2CE7-B8C9-484A-8160-B70B14A8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7904-4C00-45AF-AAEB-6073B498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FC32-C67B-4832-80BA-0AA009DD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E24F-7628-47A3-ABBC-406E1CC7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0681C-8892-40AD-9F14-4DA4BA23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70E-5CB7-43D9-AA0C-17FE3DEC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B18BD-731E-44A5-9120-9096D47D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8FBB1-AFE4-4D01-BAA0-2A3D26E2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5C08C-553D-4636-906B-805D74C1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7B12-19B0-4A4D-BAB8-486197D3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84A4-41C3-480F-A4CC-C97611F9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727B-4D1A-4FC0-8C34-20274A2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CD32E-3337-45B1-8FA3-309D6CFD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9CF42-2AAF-4483-BB72-054BA092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AB156-B9FD-4818-B0BD-0CB09C37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0B1-A22B-462A-9CB6-655FA755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5DD-784C-4980-B84F-930E979F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FE4-8275-4CEE-AA47-BB36F71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A19-9C03-49B5-9818-913AC32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EBD-2D13-4B24-934E-C436AF22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3A3A-3104-43C3-B24F-D7744D6B920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AC7E-B6E5-43D9-BA0D-9C8270472A65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8A5D-5120-43B7-81C3-FDDA1639EA2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B528-2997-4E54-9D31-C956AF6D21B8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3339-F6D9-4C97-BF1C-627263844F5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4E77-2E9D-4545-A955-76E4E4432EAC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7D20-CA75-4B3C-87F9-88A6330C185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50B5-4586-432F-B572-1B0F85889485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d84c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еш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Конкурентны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исследование структуры отрасли, оценка конкурентной позиции отдельных СБЕ дает возможность фирме выбрать оптимальную деловую стратегию, ориентированную на создание долгосрочных конкурентных преимущест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d84c6"/>
                </a:solidFill>
                <a:latin typeface="Trebuchet MS"/>
              </a:rPr>
              <a:t>Модель пяти конкурентных сил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pic>
        <p:nvPicPr>
          <p:cNvPr id="247" name="Рисунок 3" descr="Q:\Инна\В Г У Э С\Лекции\Стратегический менеджмент - бакалавры\media\image3.jpeg"/>
          <p:cNvPicPr/>
          <p:nvPr/>
        </p:nvPicPr>
        <p:blipFill>
          <a:blip r:embed="rId1"/>
          <a:stretch/>
        </p:blipFill>
        <p:spPr>
          <a:xfrm>
            <a:off x="324000" y="1700280"/>
            <a:ext cx="7929360" cy="4929120"/>
          </a:xfrm>
          <a:prstGeom prst="rect">
            <a:avLst/>
          </a:prstGeom>
          <a:ln w="0">
            <a:noFill/>
          </a:ln>
        </p:spPr>
      </p:pic>
      <p:sp>
        <p:nvSpPr>
          <p:cNvPr id="24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ая конкуренция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71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оперничество среди основных конкуренто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3" descr="Q:\Инна\В Г У Э С\Лекции\Стратегический менеджмент - бакалавры\media\image4.jpeg"/>
          <p:cNvPicPr/>
          <p:nvPr/>
        </p:nvPicPr>
        <p:blipFill>
          <a:blip r:embed="rId1"/>
          <a:stretch/>
        </p:blipFill>
        <p:spPr>
          <a:xfrm>
            <a:off x="179280" y="2133720"/>
            <a:ext cx="7858080" cy="3714480"/>
          </a:xfrm>
          <a:prstGeom prst="rect">
            <a:avLst/>
          </a:prstGeom>
          <a:ln w="0">
            <a:noFill/>
          </a:ln>
        </p:spPr>
      </p:pic>
      <p:sp>
        <p:nvSpPr>
          <p:cNvPr id="252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о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экономических характеристик отраслевого окруж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степени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явление движущих сил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ключевых факторов успех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ение о степени привлекательности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ad84c6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общие для всех предприя­тий отрасли управляемые переменные, реализация которых дает возможность улучшить конкурентные позиции предприятия 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ОКР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 и т.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Характеристика и цели анализа внеш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WOT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раслево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ое назначение анализа внешней сред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выявить и уяснить возможности и угрозы, которые могут возникнуть для предприятия в будущем, с тем чтобы правильно определить стратегию и общую политику предприят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степени воздейств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 процессы, протекающие в рамках предприятия, выделяют две группы внешних факторо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даленного воздействия, представляющих макросфер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посредственного влияния ближнего окружения, или отраслевые факто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РЕ</a:t>
            </a:r>
            <a:r>
              <a:rPr b="1" lang="en-US" sz="3200" spc="-1" strike="noStrike" u="sng">
                <a:solidFill>
                  <a:srgbClr val="ad84c6"/>
                </a:solidFill>
                <a:uFillTx/>
                <a:latin typeface="Trebuchet MS"/>
              </a:rPr>
              <a:t>S</a:t>
            </a: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Т-анализ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ит в выявлении и оценке влияния факторов макросреды на результаты текущей и будущей деятельности предприят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Цель РЕ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Т-анализ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отслеживание (мониторинг) изменений макросреды по четырем узловым направлениям и выявление тенденций, событий, не подконтрольных предприятию, но оказывающих влияние на результаты принятых стратегических реше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571680" y="1165320"/>
          <a:ext cx="8072280" cy="5335560"/>
        </p:xfrm>
        <a:graphic>
          <a:graphicData uri="http://schemas.openxmlformats.org/drawingml/2006/table">
            <a:tbl>
              <a:tblPr/>
              <a:tblGrid>
                <a:gridCol w="4035240"/>
                <a:gridCol w="4037040"/>
              </a:tblGrid>
              <a:tr h="28080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104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вительственная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стабиль­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законода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Государственное влияние на отрасли, включая долю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госсоб­ств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осударственное регулирова­ние конкуренции в отрас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логовая поли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щая характеристика эконо­мической ситуации (подъем, стабилизация, спад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урс национальной валюты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рефинанс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нфля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безработиц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Цены на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нергоресур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256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мографические изме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структуры доход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ношение к труду и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тдых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циальная мобильност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насе­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ктивность потребите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.Государственная техническая,  поли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2. Значимые тенден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родукты (скорость об­новления и освоения новых тех­нолог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атен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ad84c6"/>
                </a:solidFill>
                <a:uFillTx/>
                <a:latin typeface="Trebuchet MS"/>
              </a:rPr>
              <a:t>SWOT</a:t>
            </a:r>
            <a:r>
              <a:rPr b="0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-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действенный инструмент оценки стратегического состояния организации на основе понимания ее внутренних сильных и слабых сторон и внешней среды, которая представляется в виде возможностей и угро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ает обобщенную оценку организационной среды, имеющую преимущественно качественный характе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то, в чем она преуспела, ее от­личительные особенности, которые усиливают конкурентоспособность и дают фирме преимущества на рынк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связаны в основном с отсутствием чего-то важного для функционирования фирмы или с тем, что у нее получается хуже в сравнении с прямыми конкурент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Возмож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ужно рассматривать прежде всего с точки зрения рыночной привлекательности, которая может обеспечить максимальный рост прибыли фирмы и конкурентное преимуществ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Угроз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(опас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 — это определенные факторы внешней среды, которые могут отрицательно повлиять на благосостояние фирмы и препятствовать ее успешному развити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Q:\Инна\В Г У Э С\Лекции\Стратегический менеджмент - бакалавры\media\image1.jpeg"/>
          <p:cNvPicPr/>
          <p:nvPr/>
        </p:nvPicPr>
        <p:blipFill>
          <a:blip r:embed="rId1"/>
          <a:stretch/>
        </p:blipFill>
        <p:spPr>
          <a:xfrm>
            <a:off x="646200" y="281160"/>
            <a:ext cx="6218280" cy="63147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ad84c6"/>
                </a:solidFill>
                <a:latin typeface="Trebuchet MS"/>
              </a:rPr>
              <a:t>Матрица «вероятность усиления — интенсивность воздействия»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0040" y="2071800"/>
          <a:ext cx="8072640" cy="4066920"/>
        </p:xfrm>
        <a:graphic>
          <a:graphicData uri="http://schemas.openxmlformats.org/drawingml/2006/table">
            <a:tbl>
              <a:tblPr/>
              <a:tblGrid>
                <a:gridCol w="2017800"/>
                <a:gridCol w="2019240"/>
                <a:gridCol w="2017800"/>
                <a:gridCol w="2017800"/>
              </a:tblGrid>
              <a:tr h="305280"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832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96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r>
                        <a:rPr b="0" i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5:45Z</dcterms:modified>
  <cp:revision>9</cp:revision>
  <dc:subject/>
  <dc:title>Theme 6</dc:title>
</cp:coreProperties>
</file>