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09EA-3E84-4614-B43F-9E7E9C741C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BB50-790B-48D7-9592-9EEC0AB4B8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2175-DF21-4A5B-8FE1-8B9ED89C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A6DF-2F0F-479B-8A27-7F6F662E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A8B-20E9-4517-A636-1470A5B4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58EA-9DB6-474F-B38C-54DAB329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A3DA-CBB6-493B-9E17-4EAB4CDE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3357-C21E-4754-BBFC-494706ED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02A8-5347-4A9A-BB17-B2768056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D270-4E3C-4E56-B057-A313D68F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6E97-1898-402C-B4FD-363066EF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98D9-31EF-4FB8-AC8F-C4B1EB5C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650A-B081-4D2D-88EC-F1B3DBB7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A344-56C1-42F4-9BE0-322EBFF3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6D61-A298-4EB9-BB1E-292AF8BD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C6AE-128C-427E-8791-312FBBE4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22E6-65FA-4775-AD66-A88C2FCE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05DB-E3C0-45BB-B8A8-90CD489D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5E81-25C7-47C3-A7BA-F4628B58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4AB23-D606-4D35-A535-20219D5C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5409C-4019-462D-B514-5AD59C43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7B28B-6CDC-478A-89EA-E68DB578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F03C1-2136-4C82-AC54-0E832432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29C26-DCDF-43D1-A474-3B027D75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28E-B9EC-4914-B5C2-DA762836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5C6A6-2DA3-4DB0-9C3D-38F0033E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70A13-E78C-4478-B61F-C95CA6EE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C3B03-0F09-4F92-92E7-F933F42A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18E43-42A5-4C4B-B1C8-F45BD719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47C9A-7CD4-4122-9506-1733D747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A9F93-492B-4C08-B896-F1D069EF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1E33A-0B83-422C-AC44-ECE32C81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08685-1AA9-4A25-82B1-07F8317E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8836B-23AA-49E6-AED8-E8BA5193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03786-B4C1-4F23-A1CE-83B3E11F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CF9E-4814-46DC-9C07-19FA9CA5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208BA-8B76-47F6-A77F-347D4421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2B5CC-4B4E-4741-B418-2B718662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8CF27-6385-47E5-B85D-B6760EB8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723D2-CDAF-4672-9F5A-96A9D04B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3FFC4-2EAB-45AA-9549-790CEE2B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887FB-8E43-4502-BFB5-0AB97919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80604-2819-467F-B74D-857A1675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8BC51-689F-45D2-9D12-6870D5F6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48A0B-7E81-4712-A999-DE668D61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B18-191D-42D7-A7D0-6F8B89CE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DC0-81DD-4963-B4C5-1EF9262E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505-13C9-4D52-B744-9C286D54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A5B-7236-412B-A9B3-C8461F14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A3E8-C0F3-41CD-A009-215E579F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1733-9B54-432C-B49C-6B3849987C65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4B68-3EB7-4F0D-B2F9-30B1E30BAD8C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079C-29D6-4633-9364-89A38AD1BB1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0D0B-ED27-436E-B466-E30C062C3CDD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D29D-CC68-4F9D-9234-AF46283D73B2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1A8E-D2F5-45D4-A531-206C5D416117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4a66ac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4a66a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29dd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77b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0a2c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a66ac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4a66a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a2c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a66a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78FC-DA92-4FFF-9546-632F3133BC6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a66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1584-A6DD-412D-85C6-0C4CF4631196}" type="slidenum">
              <a:rPr b="0" lang="ru-RU" sz="900" spc="-1" strike="noStrike">
                <a:solidFill>
                  <a:srgbClr val="4a66a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a66ac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  <a:ea typeface="Arial"/>
              </a:rPr>
              <a:t>Разработка стратегии бизнес-уров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90d33"/>
                </a:solidFill>
                <a:latin typeface="Trebuchet MS"/>
                <a:ea typeface="Arial"/>
              </a:rPr>
              <a:t>Тема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Интеграция стратегий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ополагающая конкурентная стратегия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олжна основываться на использовании основных идей базовых стратегий. В последнее время успеха добиваются компании нового типа, делающие ставки на соче­тание высокой производительности и высокого уровня дифференци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План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и цель бизнес-стратег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курентные преимущества и ключевые факторы успех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азовые стратегии по М. Портер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нтеграция деловых стратег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Бизнес-стратегия – это 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бор стратегической ориентации фирмы, являет­ся выбором базовой стратегии конкуренции относительно определенной сферы бизнес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Стратегическая цель фирмы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выделяет целевой рынок и, соответ­ственно, масштаб конкурен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Конкурентные преимущества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это способность организации производить и продавать свою продукцию (услуги) успешнее конкурент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ю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утреннее конкурентное преимущество (способность произвести товар аналогичный товарам конкурентов с более низкими затратами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нешнее конкурентное преимущество (способность придать товару большую ценность в глазах потребителей, за которую они готовы платить более высокую цен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ие конкурентные преимущества легче защитить на рынке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Ключевые факторы успеха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то факторы внутренней среды, которые позволяют организации достичь успеха на рынк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ываю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ехнологическ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изводственн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аркетингов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чие (логистика, управление персоналом, инновации и т.п.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ФУ различны для различных отрасл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Базовые стратегии по М. Портеру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pic>
        <p:nvPicPr>
          <p:cNvPr id="236" name="Picture 2" descr="image3"/>
          <p:cNvPicPr/>
          <p:nvPr/>
        </p:nvPicPr>
        <p:blipFill>
          <a:blip r:embed="rId1"/>
          <a:stretch/>
        </p:blipFill>
        <p:spPr>
          <a:xfrm>
            <a:off x="571680" y="1928880"/>
            <a:ext cx="7916760" cy="4429080"/>
          </a:xfrm>
          <a:prstGeom prst="rect">
            <a:avLst/>
          </a:prstGeom>
          <a:ln w="0">
            <a:noFill/>
          </a:ln>
        </p:spPr>
      </p:pic>
      <p:sp>
        <p:nvSpPr>
          <p:cNvPr id="237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Стратегия лидерства по издержкам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ирма пренебрегает различиями в сегментах и обращается ко всему рынку сразу с одним и тем же товаро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a66ac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готовлении стандартной продукции массового спроса, когда возможности дифференциации ограничены и спрос эластичен по цене, а вероятность переключения потребителей товара на другие велик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Дифференциация -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цепция, описывающая разнообразие предлож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Ценность для покупателей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— это полезность или полное удовлетворе­ние, которое они получают при использовании товара, а также мини­мальные операционные издержки в течение всего срока его служб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По характеру направленности 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можно выделить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инновационную и маркетинговую стратегии дифференциац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a66ac"/>
                </a:solidFill>
                <a:latin typeface="Trebuchet MS"/>
              </a:rPr>
              <a:t>Фокусирование - </a:t>
            </a:r>
            <a:endParaRPr b="0" lang="en-US" sz="3600" spc="-1" strike="noStrike">
              <a:solidFill>
                <a:srgbClr val="4a66ac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иповая бизнес- стратегия, которая предполагает концентрацию на узком рыночном сегменте или конкретной группе покупателей, а также специализацию на определенной части продукции и/или географическом регион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Основная цель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ключается в удовлетворении потребностей выбранного сегмента с большей эффективностью, чем конкуренты, обслуживающие более широкий рыночный сегмен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1:29:35Z</dcterms:created>
  <dc:creator>И.В.</dc:creator>
  <dc:description/>
  <dc:language>en-US</dc:language>
  <cp:lastModifiedBy>Стародумова Инна</cp:lastModifiedBy>
  <dcterms:modified xsi:type="dcterms:W3CDTF">2015-09-29T02:30:43Z</dcterms:modified>
  <cp:revision>14</cp:revision>
  <dc:subject/>
  <dc:title>Разработка стратегии бизнес-уровня</dc:title>
</cp:coreProperties>
</file>