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2728D-7F2F-4B01-A30C-ACAFFF4448D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839C-D339-42E8-9104-583EF87E25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72115-7014-42C1-B685-C142A6D00D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44A05-6F70-480B-B65A-A2DBC8CC62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D61A9-6C99-4543-8616-2379DE0413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C67E0-B08A-4F43-ADDB-763C73E63F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9461C-DCB9-42B3-9678-AFAB6A3226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AA105-741B-42E6-9912-81F3B29EC4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F55DC-0945-494A-9641-86916CAAB7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79F1F-7049-4408-9F76-AC5390DC7B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742BD-94E9-47E8-BE1C-DBB7FDC38B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52A5D-AE49-4E75-A738-9AA9789EF0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8F43D-73FC-4D3F-BE9F-1D9BB92AB6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1EDDB-8715-4A66-A254-EDB8B9D75A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5D4D-8736-44BA-B752-E9228F62A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EC50-02B0-414A-91F4-5B31733F7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F88E-D09B-43FA-95DF-B5D7267C4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A49C-00DE-4A50-9932-B939A65A0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2E974-78C1-45AE-9B45-4D819261D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BBAD2-E5D4-481A-BFA0-3B1513711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98EFB-5A8B-4F86-B03E-9D92A1B33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594EB-5176-4F63-B670-19509C442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87159-6CEE-4DDE-A186-553E76EDB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1E952-B21C-45B2-BD57-FD5198D17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FE9F2-ABFA-4CAA-9005-10792372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725F-0C85-4ACE-AC3B-AA3494D3E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86FAB-3E8B-459B-8EDC-736C79F7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59D2E-91F4-4328-A436-157C2FB2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2CE4D-57DE-4875-8519-76B00DD91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B3A92-A3C3-4C39-9457-18DB93CCE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F3BD5-FDA3-4C8F-A8C8-A19CAA658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A95F9-56A1-4B9D-BC5C-DE563C3E2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22CD6-4566-4160-9777-1C22F9C9C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F8C1A-FB5E-4EE2-8D5C-C90AEF95E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B6F74-E764-41C9-A672-BAFFCC7C9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73762-A1F4-44D1-95EE-4FD69F7D8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44A3-D177-40C3-A0A3-9155B2527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C55AB-1D30-42A6-AD7C-7E5C779E3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AFEDA-666F-4A65-851E-F39B5FF8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B0FEA-812E-48AE-A8B0-676CF830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F718D-E38A-4CE4-8293-B93021ED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30A9A-6296-4EEA-9BB6-AADFFC90F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607FD-6581-4282-B267-057080237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10976-A9AE-427B-90A0-B2C34983F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EA669-15A8-458A-B342-78D750AFA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1B937-BD33-4008-A50D-6D475EB1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A9158-1CF3-474C-BCF3-50436D296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4E3F-BFDA-46DF-893E-523835E42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F5C4F-BE4C-4A82-B994-5B35E6026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D5C88-292C-4F24-B462-1102CEA34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2451C-4F8F-4EC2-9C93-B9AB5FF85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B9833-322B-49DE-A16A-9CAC9594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97737-2A93-463D-91E1-3BE7E717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A6D8C-37D1-4D0E-9725-B68BB9A4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A86AF-8F28-46FA-AC95-CFFDF0F9B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D5373-B30E-4B49-B9F3-B9151E70E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D94EB-49B1-4A2C-BC66-B447FCF51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12798-DB17-4BDB-8B31-1D1CE0CE1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E376-CDB1-44D2-93D2-ED60A64DD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D9600-7A9F-40AB-9215-77E2CE30A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057C7-5375-4A68-8C19-DC4A4BE40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FA144-8AA7-4563-89DC-A18733DD8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2B1F7-D611-4B01-9BCB-0B76EABE1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BE1A6-7C88-48F1-9D88-4EC9906D7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E3F86-2CEA-4625-B046-92358359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D8D22-63C9-4524-8E6E-3FB7EB45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A0376-E094-4A58-ADC1-4A9D746A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3AB48-7FC2-4E4F-A3A7-7C0729F26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AF2F4-0074-41C7-8906-D3ED77913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6F8E-B8FC-4CCA-AC4A-6A4F477FC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8559E-99B1-4A79-888F-92761D9C1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EA36-95EB-4A3E-BF73-A87351EA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FEC4-54C9-4C99-B300-8B770E3B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4C3E-E755-4E74-9BCB-8EA4F62B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67244-7D04-4C42-B7DE-F693F1C3517E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64D2D-3BD9-4CF4-AE1C-AE36B3780610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F007-29CF-41EA-A6E6-FE9937EC47DD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71C2-EEC1-49FE-833F-8C0B9FA8CB40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1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310D0-04E6-41D3-957A-217EAAB0A372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573228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90c226"/>
                </a:solidFill>
                <a:latin typeface="Trebuchet MS"/>
              </a:rPr>
              <a:t>1270, Стратегический менеджмент базовый курс</a:t>
            </a:r>
            <a:endParaRPr b="0" lang="en-US" sz="2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187280" y="4233960"/>
            <a:ext cx="740736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Канд. экон. наук, доцент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Попова Инна Викторовн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1116000" y="1989000"/>
            <a:ext cx="740736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rebuchet MS"/>
              </a:rPr>
              <a:t>Стратегическое управление в системе менеджмента организации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1093680" y="3357720"/>
            <a:ext cx="7407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22027"/>
                </a:solidFill>
                <a:latin typeface="Trebuchet MS"/>
              </a:rPr>
              <a:t>Тема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748640" cy="20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Стратегическое управление на предприятии выражается в следующих пяти 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Trebuchet MS"/>
              </a:rPr>
              <a:t>функциях</a:t>
            </a: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928800" y="2428560"/>
            <a:ext cx="7686720" cy="38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Планирование стратегии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Организация выполнения стратегических планов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Координация действий по реализации стратегических задач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Мотивация на достижение стратегических результатов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Контроль за процессом выполнения стратегии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8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71360" y="274680"/>
            <a:ext cx="7615080" cy="639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Trebuchet MS"/>
              </a:rPr>
              <a:t>Сущность стратегического управления</a:t>
            </a:r>
            <a:r>
              <a:rPr b="1" i="1" lang="ru-RU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состоит в формировании и реализации стратегии развития организации на основе непрерывного контроля и оценки происходящих изменений в ее деятельности с целью поддержания способности к выживанию и эффективному функционированию в условиях нестабильной внешней среды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0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71360" y="274680"/>
            <a:ext cx="7677000" cy="24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Стратегическое управление предприятием включает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rebuchet MS"/>
              </a:rPr>
              <a:t>пять основных компонентов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, образующих следующую цепь перспективно-целевых решений: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3141720"/>
            <a:ext cx="8229600" cy="29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404040"/>
                </a:solidFill>
                <a:latin typeface="Trebuchet MS"/>
              </a:rPr>
              <a:t>Видение </a:t>
            </a:r>
            <a:r>
              <a:rPr b="0" lang="ru-RU" sz="4400" spc="-1" strike="noStrike">
                <a:solidFill>
                  <a:srgbClr val="404040"/>
                </a:solidFill>
                <a:latin typeface="Symbol"/>
                <a:ea typeface="Symbol"/>
              </a:rPr>
              <a:t></a:t>
            </a:r>
            <a:r>
              <a:rPr b="0" lang="ru-RU" sz="4400" spc="-1" strike="noStrike">
                <a:solidFill>
                  <a:srgbClr val="404040"/>
                </a:solidFill>
                <a:latin typeface="Trebuchet MS"/>
              </a:rPr>
              <a:t> Сфера бизнеса </a:t>
            </a:r>
            <a:r>
              <a:rPr b="0" lang="ru-RU" sz="4400" spc="-1" strike="noStrike">
                <a:solidFill>
                  <a:srgbClr val="404040"/>
                </a:solidFill>
                <a:latin typeface="Symbol"/>
                <a:ea typeface="Symbol"/>
              </a:rPr>
              <a:t></a:t>
            </a:r>
            <a:r>
              <a:rPr b="0" lang="ru-RU" sz="4400" spc="-1" strike="noStrike">
                <a:solidFill>
                  <a:srgbClr val="404040"/>
                </a:solidFill>
                <a:latin typeface="Trebuchet MS"/>
              </a:rPr>
              <a:t> Миссия </a:t>
            </a:r>
            <a:r>
              <a:rPr b="0" lang="ru-RU" sz="4400" spc="-1" strike="noStrike">
                <a:solidFill>
                  <a:srgbClr val="404040"/>
                </a:solidFill>
                <a:latin typeface="Symbol"/>
                <a:ea typeface="Symbol"/>
              </a:rPr>
              <a:t></a:t>
            </a:r>
            <a:r>
              <a:rPr b="0" lang="ru-RU" sz="4400" spc="-1" strike="noStrike">
                <a:solidFill>
                  <a:srgbClr val="404040"/>
                </a:solidFill>
                <a:latin typeface="Trebuchet MS"/>
              </a:rPr>
              <a:t> Стратегии </a:t>
            </a:r>
            <a:r>
              <a:rPr b="0" lang="ru-RU" sz="4400" spc="-1" strike="noStrike">
                <a:solidFill>
                  <a:srgbClr val="404040"/>
                </a:solidFill>
                <a:latin typeface="Symbol"/>
                <a:ea typeface="Symbol"/>
              </a:rPr>
              <a:t></a:t>
            </a:r>
            <a:r>
              <a:rPr b="0" lang="ru-RU" sz="4400" spc="-1" strike="noStrike">
                <a:solidFill>
                  <a:srgbClr val="404040"/>
                </a:solidFill>
                <a:latin typeface="Trebuchet MS"/>
              </a:rPr>
              <a:t> Программы и планы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Trebuchet MS"/>
              </a:rPr>
              <a:t>Процесс стратегического управления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5" name="Нижний колонтитул 2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Рисунок 2" descr="процесс стр упр 2.png"/>
          <p:cNvPicPr/>
          <p:nvPr/>
        </p:nvPicPr>
        <p:blipFill>
          <a:blip r:embed="rId1"/>
          <a:stretch/>
        </p:blipFill>
        <p:spPr>
          <a:xfrm>
            <a:off x="1039680" y="2000160"/>
            <a:ext cx="7961400" cy="39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900" spc="-1" strike="noStrike" u="sng">
                <a:solidFill>
                  <a:srgbClr val="000000"/>
                </a:solidFill>
                <a:uFillTx/>
                <a:latin typeface="Trebuchet MS"/>
              </a:rPr>
              <a:t>Уровни стратегий</a:t>
            </a:r>
            <a:r>
              <a:rPr b="0" lang="ru-RU" sz="2900" spc="-1" strike="noStrike">
                <a:solidFill>
                  <a:srgbClr val="000000"/>
                </a:solidFill>
                <a:latin typeface="Trebuchet MS"/>
              </a:rPr>
              <a:t>          и          </a:t>
            </a:r>
            <a:r>
              <a:rPr b="1" i="1" lang="ru-RU" sz="2900" spc="-1" strike="noStrike" u="sng">
                <a:solidFill>
                  <a:srgbClr val="000000"/>
                </a:solidFill>
                <a:uFillTx/>
                <a:latin typeface="Trebuchet MS"/>
              </a:rPr>
              <a:t>объекты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Trebuchet MS"/>
              </a:rPr>
              <a:t> стратегического управления</a:t>
            </a: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609120" y="2160360"/>
            <a:ext cx="30877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орпоративный уровень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Бизнес-уровень (конкурентный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Функциональный  уровень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868560" y="2160360"/>
            <a:ext cx="30895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едприятие в целом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атегическое поле бизнес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Функциональные сферы деятельност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90c226"/>
                </a:solidFill>
                <a:uFillTx/>
                <a:latin typeface="Trebuchet MS"/>
              </a:rPr>
              <a:t>План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285920" y="1268280"/>
            <a:ext cx="74008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едпосылки возникновения стратегического менеджмент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нятие стратегического управлен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равнение стратегического и оперативного управлен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ущность стратегического управлен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оцесс стратегического управления и его компоненты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ровни стратегий и объекты стратегического управлен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Trebuchet MS"/>
              </a:rPr>
              <a:t>Факторы-условия, определяющие актуальность стратегического управления</a:t>
            </a:r>
            <a:endParaRPr b="0" lang="en-US" sz="2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ост числа управленческих задач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асширением географических рамок</a:t>
            </a: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деятельности национальных экономик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514440" indent="-51444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 startAt="3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озрастание роли высшего звена управлени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514440" indent="-51444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 startAt="3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силение нестабильности внешней среды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0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71360" y="228600"/>
            <a:ext cx="7615080" cy="57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rebuchet MS"/>
              </a:rPr>
              <a:t>Стратегическое управление</a:t>
            </a: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 — 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процесс разработки, принятия и реализации стратегических решений, центральным звеном которого является стратегический выбор, основанный на сопоставлении собственного ресурсного потенциала предприятия с возможностями и угрозами внешнего окружения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2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42640" y="404280"/>
            <a:ext cx="7543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rebuchet MS"/>
              </a:rPr>
              <a:t>Стратегия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— это заранее спланированная реакция организации на изменение внешней среды, линия ее поведения, выбранная для достижения желаемого результата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4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00080" y="285480"/>
            <a:ext cx="7801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rebuchet MS"/>
              </a:rPr>
              <a:t>Сравнение стратегического и оперативного управления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1000080" y="1600200"/>
          <a:ext cx="7686720" cy="4495680"/>
        </p:xfrm>
        <a:graphic>
          <a:graphicData uri="http://schemas.openxmlformats.org/drawingml/2006/table">
            <a:tbl>
              <a:tblPr/>
              <a:tblGrid>
                <a:gridCol w="2000160"/>
                <a:gridCol w="2643480"/>
                <a:gridCol w="3043080"/>
              </a:tblGrid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тивное управ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ическое управ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ссия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назнач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ство товаров и услуг с целью получения дохода от их реализаци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живание организации в долгосрочной перспективе посредством установления динамичного баланса с окружением, позволяющего решать проблемы заинтересованных в деятельности организации лиц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5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к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нтр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има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джмен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гляд внутрь организации, поиск путей более эффективного использования ресурс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гляд вовне организации, поиск новых возможностей в конкурентной борьбе, отслеживание и адаптация к изменениям в окружени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7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00080" y="285480"/>
            <a:ext cx="7801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rebuchet MS"/>
              </a:rPr>
              <a:t>Сравнение стратегического и оперативного управления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1000080" y="1268280"/>
          <a:ext cx="7697880" cy="5145120"/>
        </p:xfrm>
        <a:graphic>
          <a:graphicData uri="http://schemas.openxmlformats.org/drawingml/2006/table">
            <a:tbl>
              <a:tblPr/>
              <a:tblGrid>
                <a:gridCol w="2000160"/>
                <a:gridCol w="2646360"/>
                <a:gridCol w="3051360"/>
              </a:tblGrid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тивное упр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ическое упр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21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т фактора време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иентация на краткосрочную и среднесрочную перспектив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иентация на долгосрочную перспектив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а построения системы упра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и и организационные структуры, процедуры, техника и технолог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юди, системы информационного обеспечения, рыно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7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ход к управлению персонал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гляд на работников как на ресурс организации, как на исполнителей отдельных работ и функци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гляд на работников как на основу организации, ее главную ценность и источник ее благополуч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0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00080" y="22824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rebuchet MS"/>
              </a:rPr>
              <a:t>Сравнение стратегического и оперативного управления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1000080" y="2274840"/>
          <a:ext cx="7547040" cy="3079800"/>
        </p:xfrm>
        <a:graphic>
          <a:graphicData uri="http://schemas.openxmlformats.org/drawingml/2006/table">
            <a:tbl>
              <a:tblPr/>
              <a:tblGrid>
                <a:gridCol w="2357640"/>
                <a:gridCol w="2222280"/>
                <a:gridCol w="2967120"/>
              </a:tblGrid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тивное упр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ическое упр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итерии эффективности упра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ыльность и рациональность использование производственного потенциал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оевременность и точность реакция организации на новые запросы рынка и изменения в зависимости от изменения окруж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3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71360" y="274320"/>
            <a:ext cx="7615080" cy="617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Trebuchet MS"/>
              </a:rPr>
              <a:t>Главная цель стратегического управления</a:t>
            </a: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— развитие потенциала и поддержание стратегической способности предприятия к выживанию и эффективному функционированию в ус­ловиях нестабильной внешней среды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5" name="Нижний колонтитул 1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Попова И.В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08:53:50Z</dcterms:created>
  <dc:creator>User</dc:creator>
  <dc:description/>
  <dc:language>en-US</dc:language>
  <cp:lastModifiedBy>Толя</cp:lastModifiedBy>
  <dcterms:modified xsi:type="dcterms:W3CDTF">2014-12-01T06:54:10Z</dcterms:modified>
  <cp:revision>14</cp:revision>
  <dc:subject/>
  <dc:title>Theme 1</dc:title>
</cp:coreProperties>
</file>