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B2AC-E831-468D-B05F-6D36C54A66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890E-C319-4280-9D7C-D0A2DB3C5D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EFBE-9676-4876-91F9-473856C3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9D27-AC65-4E8F-A53D-4031F2F3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53BE-3765-4D3F-B561-85327FE9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D619-C264-4594-ABC3-4CBB350F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BD0B-7D94-4847-BE83-7310F824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C5BC-D950-49F2-930F-5E0F293E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82EB-BD34-4CF2-B088-90056192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6EEC-C4CF-4AF8-9A06-8D811F35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1B41-5FB0-460D-9E66-FAB4D08C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2EA7-977F-4098-9F91-F3D3C782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0A9F-F24B-457A-B578-1CD9AB5A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EA07-75E6-47A8-95BC-DDD40792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4681-7AAD-4419-A64B-497A4F92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447E-F0E8-43AF-9C2E-310D7C8A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04C6-C104-44CC-A14D-45DDB04C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C3F0-0AC7-4831-9874-9D23DA0E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2C11-33D3-4F84-8B78-E4E25F72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5A0B5-547F-4929-B4D5-281C07A1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EA987-B728-4514-AD07-F2DF5F32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7D8A6-6744-4463-AD0D-BFBE7CC8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BA7EA-5902-4EEB-BFAC-39A3AA64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069C6-A226-446C-9B9D-21418EF9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0B2-4EF2-4113-BD44-2E85BD26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0E3E2-4655-4FBE-B49C-64B3C0C5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460F5-391A-407D-A42B-EB114371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64421-289B-4A04-960B-A0B881F6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74978-66F9-428A-84E5-88B4B624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2FD02-C62C-48DF-8A9C-69438F2B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32847-227E-4519-81F7-96595239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ABCE9-6DA9-46B7-9E1B-FA01B9A8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B862A-90EC-423C-9705-73B011F9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69661-C5AD-4957-99A0-484A79A5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8E554-F281-4787-AD8D-44E28404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89B6-5C05-4210-8051-0E188838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2AFCF-B335-4122-8CCF-0D4F6607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E9C13-9D2D-4DD0-9D30-0ADA5FA0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8F3A3-3334-4A4C-9487-2B911E68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69FB6-4F37-40AC-AEBD-5125A41D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B5102-8C77-40BF-AFA9-5F2EACB7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EE410-49A1-4DA2-B6C3-3B4BF9AE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48263-15DE-4DD8-9EC0-A8271183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E4021-7082-49FC-B628-1337A004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7A8CB-6F4B-42A2-8AD8-353FED84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B2EE-D8E7-4765-BDFA-AF6F8FBF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085C-081B-40A2-972B-240CC0F1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13C1-6546-41FF-9B84-B36CA2D0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1DB6-B662-42D8-9CC3-E2AF50CD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02E4-1314-4107-9868-D3D39CAD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D1F4-F034-4DE0-ADD2-824664C26001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2AC1-0BDC-4C2B-BC29-295E9B4427E7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8ED3-BA34-40A4-B904-CF9CFF4B131E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0874-DE51-4605-91F0-235F00DF8C6A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16F7-DCFF-403D-B349-BEDA332F451C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4716-E98B-4CB1-8D1E-5B24BB3F8F52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49F3-E608-444D-979E-CEEA8E197637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E12F-F599-49DC-9DFE-59F385E42369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e84c22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  <a:ea typeface="Arial"/>
              </a:rPr>
              <a:t>Функциональные страте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</a:t>
            </a:r>
            <a:r>
              <a:rPr b="1" lang="en-US" sz="2600" spc="-1" strike="noStrike">
                <a:solidFill>
                  <a:srgbClr val="090d33"/>
                </a:solidFill>
                <a:latin typeface="Trebuchet MS"/>
                <a:ea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e84c22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нятие и роль функциональной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иды функциональных стратег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енные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и НИОКР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84c22"/>
                </a:solidFill>
                <a:uFillTx/>
                <a:latin typeface="Trebuchet MS"/>
              </a:rPr>
              <a:t>Функциональная стратегия </a:t>
            </a:r>
            <a:r>
              <a:rPr b="0" lang="ru-RU" sz="3200" spc="-1" strike="noStrike">
                <a:solidFill>
                  <a:srgbClr val="e84c22"/>
                </a:solidFill>
                <a:latin typeface="Trebuchet MS"/>
              </a:rPr>
              <a:t>определяет направление деятельности той или иной функциональной службы (или отдела) внутри одной сферы бизнеса</a:t>
            </a:r>
            <a:endParaRPr b="0" lang="en-US" sz="32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3499920"/>
            <a:ext cx="8229600" cy="28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оль функциональной стратегии заключается в поддержке общей деловой стратегии и конкурентоспособности фирмы, а также в создании управленческих ориентиров для достижения намеченных функциональных целей компан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571680" y="785880"/>
          <a:ext cx="7858080" cy="5371920"/>
        </p:xfrm>
        <a:graphic>
          <a:graphicData uri="http://schemas.openxmlformats.org/drawingml/2006/table">
            <a:tbl>
              <a:tblPr/>
              <a:tblGrid>
                <a:gridCol w="2060280"/>
                <a:gridCol w="5797800"/>
              </a:tblGrid>
              <a:tr h="56340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я стратегическая ориен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916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ке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и сохранение лояльной группы потребителей посредством уникального сочетания товара, сбыта, продвижения и ц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564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 использование производственных возможностей, снижение относительных издержек производства и макси­мизация контроля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564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в пределах установленного бюджета, упор на прибыльную продукцию, контроль кредита и ми­нимизация стоимости зай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416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изация отчетности, тщательная детализация издержек, стандартизация сдел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40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076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ж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соблюдение конкретных спецификаций, ограничение числа моделей и вариантов, концентрация на улучшении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аб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материалов большими однородными партиями по низким ценам и поддержание небольших зап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208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ОК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технологических прорывов, улучшение качества продукции, выявление нововве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0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Производственная стратегия</a:t>
            </a: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— это долгосрочная программа конкретных действий по созданию и реализации продукции предприятия</a:t>
            </a:r>
            <a:endParaRPr b="0" lang="en-US" sz="29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307152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ид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азовая стратегия производств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размещения производств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организации производств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229600" cy="17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Стратегия НИОКР</a:t>
            </a: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—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это долгосрочная программа конкретных действий, связанных с созданием нового продукта и технологии производства</a:t>
            </a:r>
            <a:endParaRPr b="0" lang="en-US" sz="29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ид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ступательна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щитна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глощающа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збойничь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e84c22"/>
                </a:solidFill>
                <a:latin typeface="Trebuchet MS"/>
              </a:rPr>
              <a:t>Выбор стратегии НИОКР</a:t>
            </a:r>
            <a:endParaRPr b="0" lang="en-US" sz="3200" spc="-1" strike="noStrike">
              <a:solidFill>
                <a:srgbClr val="e84c22"/>
              </a:solidFill>
              <a:latin typeface="Trebuchet MS"/>
            </a:endParaRPr>
          </a:p>
        </p:txBody>
      </p:sp>
      <p:pic>
        <p:nvPicPr>
          <p:cNvPr id="238" name="Group 219" descr=""/>
          <p:cNvPicPr/>
          <p:nvPr/>
        </p:nvPicPr>
        <p:blipFill>
          <a:blip r:embed="rId1"/>
          <a:stretch/>
        </p:blipFill>
        <p:spPr>
          <a:xfrm>
            <a:off x="487440" y="1420920"/>
            <a:ext cx="8192880" cy="499248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09:26:04Z</dcterms:created>
  <dc:creator>И.В.</dc:creator>
  <dc:description/>
  <dc:language>en-US</dc:language>
  <cp:lastModifiedBy>Толя</cp:lastModifiedBy>
  <dcterms:modified xsi:type="dcterms:W3CDTF">2014-12-01T07:01:49Z</dcterms:modified>
  <cp:revision>5</cp:revision>
  <dc:subject/>
  <dc:title>Функциональные стратегии</dc:title>
</cp:coreProperties>
</file>