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72F9-F5C3-4F91-B521-0E0F150D7D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B110-60E5-4873-B27C-8F8F91DB243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7A2B-D44F-40B7-9A07-59DECA8DBE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016F-6995-41A4-9BA8-17A8DE50AC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6876-21ED-4519-97D7-1ED85F7C6F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3A6D-3B05-4D55-9E79-22DE663FE4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8CEE-208E-483E-A4B0-926141C22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167B-3450-40C2-BA82-65F3917B8A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A476-F2F8-45A7-B2E8-E42BCB348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CBDA-7B05-4EA4-B122-EA940ABE24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4A8-EB6D-40F5-801D-ED0402E6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CE4-6C97-4FFF-8AC2-D35CC467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4C0-B551-4882-A2BD-9BCE803B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65B8-66B5-4625-8616-103FB38A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6854-9145-4664-A625-A170AF94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C2D2-13A0-4112-9234-EE7C3D03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8DAB-E0F2-450C-BE3A-64C2AC55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7234-B63E-486C-91A9-017BFEB8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0367-6E88-474C-8AC6-99CD468F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0587-042D-4476-B2C5-7CE3BD90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920F-7D73-469B-B057-3EE3F017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5459-D8F0-4512-8BB1-A324D21D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CD4B-5946-400C-9EDB-35B5770E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88A4-86A2-4361-BA48-157B3A51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728D-ECC6-495E-8872-CEFB2F76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93EE-3E3B-4773-A92E-C16033EE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DC15-0E64-4965-B06D-100665EA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79543-6970-47BD-B8CA-236D03F1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F6863-3229-4CA5-81FF-7F0DEE97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AFE2F-4669-4F3D-850D-BDE6AB87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9562-9EFA-4B20-A36C-A93BEFF1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127A-3CAE-498C-9F92-0D88F05A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538-D607-411B-8371-3FFEB03D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A487-FA77-4DC8-B378-0F9D384C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D398F-F315-43DB-8495-CC3D6C16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60F0C-36BB-4E44-AE38-85632331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AB0EE-3F78-4B82-AAF3-A0AF1516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5B858-5F73-4959-85F0-F58F29D4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B2FC-825F-4A07-8B84-473F92BF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D11C4-4AB2-4CC9-9D7A-F7C2A874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3B734-3D3B-43A5-8EE1-FF462FFB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60F02-5CE2-4E23-97F4-BB34C929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F78D1-E087-46CD-9D50-95660F2A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A2C-4B71-4AEA-9D9B-1FE76AC1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A90B8-D946-4020-99D3-57FBF46B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CB602-8BEC-4275-A9B7-51AAA60E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B37D3-AB8E-4584-B03E-686CFEE2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DDB53-C309-4DB2-BACA-65304B56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B9856-D45A-4690-BE5D-5CDBBDEB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52A48-A543-432E-B2B0-C0555C1E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1F20D-72CE-4198-9E2E-CF807919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F8915-39F5-4C4D-8EF0-2B154FC3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C6614-50D4-4C8E-BF2F-2EC72680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8C7-8819-4639-A8C2-6C662956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968-A7EE-4019-AF4A-5AC06693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61D-F91C-4F31-A47C-0EEBE4A0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03F-0951-4AEC-84A0-A7E27C73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55F-0714-4660-9687-8478BBA7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7CA5-EF22-4D00-8BA5-2C80954DF8E1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BA62-A36D-4BBE-831F-50D35F0BE7F5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0897-85A0-4394-ACF1-5D87F6EFFB04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8A26-9262-45AB-8FC3-89B3E76703E6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18ab3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еализация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</a:rPr>
              <a:t>Тема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новные стадии выполнения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измен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й контрол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Деятельность по реализации стратегии: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билизация (3-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 и проработка (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еализация преобразований (12-24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овая стратегия предполагает новые критерии работы с клиентами, новые продукты, новые рабочие процессы, новые навыки, новые технологии и новую корпоративную культуру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79280" y="785520"/>
            <a:ext cx="878544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e5e5e"/>
                </a:solidFill>
                <a:latin typeface="Trebuchet MS"/>
              </a:rPr>
              <a:t>Проведение необходимых изменений способствует тому, что на предприятии создаются условия, необходимые для осуществления выбранной стратегии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04040"/>
                </a:solidFill>
                <a:uFillTx/>
                <a:latin typeface="Trebuchet MS"/>
              </a:rPr>
              <a:t>Типы стратегических изменений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альные измен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дикаль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мерен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ычные изме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Последовательность внутренних изменений </a:t>
            </a:r>
            <a:r>
              <a:rPr b="0" lang="ru-RU" sz="3200" spc="-1" strike="noStrike">
                <a:solidFill>
                  <a:srgbClr val="418ab3"/>
                </a:solidFill>
                <a:latin typeface="Trebuchet MS"/>
              </a:rPr>
              <a:t>в </a:t>
            </a: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организации</a:t>
            </a:r>
            <a:endParaRPr b="0" lang="en-US" sz="3200" spc="-1" strike="noStrike">
              <a:solidFill>
                <a:srgbClr val="418ab3"/>
              </a:solidFill>
              <a:latin typeface="Trebuchet MS"/>
            </a:endParaRPr>
          </a:p>
        </p:txBody>
      </p:sp>
      <p:pic>
        <p:nvPicPr>
          <p:cNvPr id="232" name="Picture 2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395280" y="2276640"/>
            <a:ext cx="820116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8920" y="62028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струк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бор той или иной организационной структуры зависит от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мер и степень разнообразия деятельности, присущ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еографическое размещен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инамизм внешней сред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, реализуемая предприятием.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9120" y="620280"/>
            <a:ext cx="63486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Структурные изменения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— это часть организационного процесса, относящегося к изменениям в системе распределения полномочий и ответственности, координации и интеграции деятельности подразделений фирмы, управленческой иерархии и степени централизаци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476280"/>
            <a:ext cx="8785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куль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деляют пять факторов, определяющих формирование и применение организационной культуры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ценности и убеждения высшего руководств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акция руководства на критические ситу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тношение к работе и стиль поведения руководител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альная база поощрения сотрудник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и отбора, назначения, продвижения и увольнения из организац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3640" y="369360"/>
            <a:ext cx="677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418ab3"/>
                </a:solidFill>
                <a:latin typeface="Trebuchet MS"/>
              </a:rPr>
              <a:t>Процесс приведения организационной культуры в соответствие со стратегией фирмы</a:t>
            </a:r>
            <a:endParaRPr b="0" lang="en-US" sz="29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личительная особенность «великих компаний» — симбиоз деловой стратегии и корпоративной культур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2" descr="Q:\Инна\В Г У Э С\Лекции\Стратегический менеджмент - бакалавры\media\image7.png"/>
          <p:cNvPicPr/>
          <p:nvPr/>
        </p:nvPicPr>
        <p:blipFill>
          <a:blip r:embed="rId1"/>
          <a:stretch/>
        </p:blipFill>
        <p:spPr>
          <a:xfrm>
            <a:off x="304920" y="2146320"/>
            <a:ext cx="8321400" cy="2357280"/>
          </a:xfrm>
          <a:prstGeom prst="rect">
            <a:avLst/>
          </a:prstGeom>
          <a:ln w="0">
            <a:noFill/>
          </a:ln>
        </p:spPr>
      </p:pic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3:11:31Z</dcterms:created>
  <dc:creator>Инна</dc:creator>
  <dc:description/>
  <dc:language>en-US</dc:language>
  <cp:lastModifiedBy>Толя</cp:lastModifiedBy>
  <dcterms:modified xsi:type="dcterms:W3CDTF">2014-12-01T07:21:20Z</dcterms:modified>
  <cp:revision>12</cp:revision>
  <dc:subject/>
  <dc:title>Theme 9</dc:title>
</cp:coreProperties>
</file>