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FFEC-1903-40C9-AF75-34C89B364C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C46A-A72E-445D-A55D-FFF9ED9E38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76D6-BA18-4719-8E1E-0459F1D2E9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17A6-9AAE-491A-B00C-74B6391818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E14B-3DD3-4D72-BD92-2A38CC235F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C206-C39F-4FEB-A81F-BCB9CE8864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1871-F25E-4513-A13C-B6BA14C0F0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1AD6-15FA-4809-851D-086196C9FB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F030-603B-4121-A184-1CBBCD8840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CE9F-7EED-4E1C-8646-0328BFEEBC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E4E3-56EF-487A-9293-9815AE8032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BAFD-AA36-4633-9725-3039D95C45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3E71-F450-4CF2-9637-9C99302C1E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CAF0-F0C5-4033-965A-98BD706768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D8CF-6B1B-4326-8826-177EA791E6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2132-0801-405B-9594-7B48953746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5A66-B8C9-4F00-9716-F081506F90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3FF7-FF56-4DFB-8267-9616355B78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C657-534C-4549-8ADC-B0606ABC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1B47-9F23-40FA-ABDC-6558DDD9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CFFB-9A4F-4CDF-832A-DD675D90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8700-2D00-49CB-A3B9-50856B0F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5DBA-243C-4ADE-BF78-EA2879CB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547D-F4EE-44B3-9B93-2F14D88E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1F3E-0F7C-4390-BE22-805690C5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4845-297F-441A-8EA4-30896C21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85A8-E5E2-4423-AA7E-70069957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999B-C4AB-4C14-9C60-525060EB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F8A6-21AF-44B5-9D15-767810BF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206-1EB9-4E71-8880-C4B66690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3EAD-E7EF-4677-813D-79F766B2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5D3C-162F-41CD-A06A-38CB82C0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5E7D-AFDC-4F10-8ADC-7E8ED36B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2D35-25B5-4C93-9AA7-877975B6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AF18-E884-4A82-89D0-A5DC2742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61F0C-25D2-4CD1-9710-6B517ACF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D8205-E4B9-4583-9BF1-A4F5E810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D50F8-07BA-4F80-9866-2EC0E128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54033-9A60-475D-B5CC-9B14B10E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84D60-C3EE-441E-B38B-4B0C13AB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F042-4DD1-4902-A341-F9C29041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6C8C3-96AB-43C3-A01D-22C69E98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F1CB1-9891-4DE7-850B-E3198B9B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D87FF-32AC-4A1D-9C56-EA8165C9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0AF5B-D664-4B36-94DE-AD5C58FF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7E074-76C5-4D02-8F4B-B2098AEC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2005D-F2BE-4A20-AC30-61D2F0B0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0BE90-12CB-4B65-9321-3E20054B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66D88-49D0-417C-98F8-73197EE7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78936-2595-420E-B057-B666B850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AAD4B-267B-44E7-9882-F972C318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7A3D-6217-49A2-A66F-3999E3F6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F914C-D8FF-4C95-BD2D-2E1B3108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240F5-AB15-418F-983E-41C3D9BB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7FD93-1B2A-45C2-9D0B-23F0AE41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E82DB-7426-4C57-AF2A-294C9E5B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70477-9D9D-4A36-A16B-9AC99FAD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8CC68-781D-491D-A53A-E7BF24AF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17773-2B86-4A53-9D88-09AD2A50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35C4C-6DAC-45CA-A6D1-397D1BDB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0786B-1FE8-4DBB-BCC7-55DB14C2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9948D-82A9-4520-8E5F-14A81D1A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1DE1-47DD-4B26-BBB1-04AA586F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9FDE1-C6FE-4437-94E5-6FC3F947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E5F42-DE94-4AFD-B2FD-19725128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348CE-5FBF-48E9-8128-13A5D7AA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258A6-69B8-475C-A461-FDFC8361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1A64C-5807-410C-A7FF-38003AE7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29396-28FC-4D82-8E26-67F422D7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0381C-2A05-4B64-9D87-6F55153F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1995A-9B11-4BF9-8E18-B07C6BF4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AC749-11A5-42B3-B176-26E53783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94B3D-2B11-467F-A973-5B9558FB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84A8-0457-4589-8C0A-FF37B643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D51A4-724C-4444-BE57-723F2167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AD34-90F8-4F07-BD79-684ABDD2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B2D-A738-4CE5-A894-568E674B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89F3-068F-4785-9BEB-4D0ED052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309C-08F9-442B-A710-0C9F069A61E3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E7AD-51A8-4853-9717-A5C9084CAF5D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B6D3-CA57-418D-A4BE-7870A7F1E011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9AF7-0B49-48C6-900E-2BEB92F3F702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D291-D790-4F58-B8B4-F1CE344B6928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D390-47B8-4A65-8051-4B9FA93606BA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3427-E4DA-4C56-8662-68E34EB9CD5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832A-6FC5-4F51-B560-136EB9F64D60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271D-1CC7-41F4-A149-F59F58A6904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47D6-6D9A-4560-947C-E33B7C5F8E44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4831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Формирование стратегических альтернатив. Выбор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лидер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Наступательная страте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обычно применяется фирмами, стремящимися сохранить доминирующее положение на рын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тратегия сокращения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– обычно вынужденное средств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Оборонительная страте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фирм-лидеров преследует прежде всего цель защитить завоеванные пози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73548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фирм, следующих за лидером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разумевают выбор последователем адаптивного поведения по отношению к фирме-лидеру, которое не вызывает отпора с ее сторон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здерживаются от инициативных стратегических шагов и попыток переманить клиентов у лидер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следователи, не нарушая сферы влияния лидера, могут придерживаться стратегии фокусирования, базирующейся на дифференциации с ориентацией на высокое качество товара, а также стратегии характерного имидж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фирм со слабой конкурентной позицией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нтрируют усилия на одном или нескольких рыночных сегмента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бежать прямого столкновения с доминирующими фирма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лучшают технологии с целью снижения издержек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нтрируют внимание на прибыли, а не на увеличении объема продаж или доле рынк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емятся к специализации, а не к диверсифик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 u="sng">
                <a:solidFill>
                  <a:srgbClr val="e48312"/>
                </a:solidFill>
                <a:uFillTx/>
                <a:latin typeface="Trebuchet MS"/>
              </a:rPr>
              <a:t>Портфельный анализ</a:t>
            </a:r>
            <a:r>
              <a:rPr b="1" lang="ru-RU" sz="4000" spc="-1" strike="noStrike">
                <a:solidFill>
                  <a:srgbClr val="e48312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инструмент, с помощью которого руководство предприятия выявляет и оценивает свою хозяйственную деятельность с целью вложения средств в наиболее прибыльные или перспективные ее направления и сокращения/прекращения инвестиций в неэффективные проект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Цель портфельного анализа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гласование бизнес-стратегий и распределение финансовых ресурсов между хозяйственными подразделениями компани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Матрица БКГ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311" name="Object 2"/>
          <p:cNvGraphicFramePr/>
          <p:nvPr/>
        </p:nvGraphicFramePr>
        <p:xfrm>
          <a:off x="179280" y="1773360"/>
          <a:ext cx="8048880" cy="43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04888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777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Выделяют 4 группы рынков товара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57000"/>
            <a:ext cx="8507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Проблемы»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 —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товары этой группы могут оказаться очень перспективными, поскольку рынок рас­ширяется, но требуют значительных средств для поддержа ния роста. Применительно к этой группе продуктов необходимо решить: увеличить долю рынка данных товаров или прекратить их финансировани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Звезды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это рыночные лидеры. Они приносят значительную прибыль благодаря своей конкурентоспособности, но также нуждаются в финансировании для поддержания высокой доли динамичного рын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Дойные коровы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товары, способные принести больше прибыли, чем необходимо для поддержания их роста. Они являются основным источником финансовых средств для диверсификации и научных исследований. Приоритетная стратегическая цель — «сбор урожая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Собаки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это продукты, которые находятся в невыгодном положении по издержкам и не имеют возможностей роста. Сохранение таких товаров связано со значительными финансовыми расходами при небольших шансах на улучшение положения. Приоритетная стратегия — деинвестирование и скромное существование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Рекомендации Бостонской матрицы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рын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стратег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стратегии единицы бизнес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естир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везды», «Проблем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ржи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нятие сливок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ойные коров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туп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инвестир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баки», «Проблем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 u="sng">
                <a:solidFill>
                  <a:srgbClr val="e48312"/>
                </a:solidFill>
                <a:uFillTx/>
                <a:latin typeface="Trebuchet MS"/>
              </a:rPr>
              <a:t>Недостатки методов портфельного анализа</a:t>
            </a:r>
            <a:r>
              <a:rPr b="0" lang="ru-RU" sz="4000" spc="-1" strike="noStrike">
                <a:solidFill>
                  <a:srgbClr val="e48312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удности учета границ и масштаба рынка, большое количество критерие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убъективность оценок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атичный характер модел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лишком общий характер рекомендац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акторы выбора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льтернативы роста крупных, средних и малых фир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альтернативы в зависимости от этапа жизненного цикла отрасл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альтернативы в зависимости от занимаемой рыночной пози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ртфельные методы выбора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Факторы стратегического выбор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стояние отрасл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ыночная позиция фирмы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сштаб деятельности организаци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актор времен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емлемый уровень риск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Матрица направлений рост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82" name="Рисунок 3" descr="Q:\Инна\В Г У Э С\Лекции\Стратегический менеджмент - бакалавры\media\image1.png"/>
          <p:cNvPicPr/>
          <p:nvPr/>
        </p:nvPicPr>
        <p:blipFill>
          <a:blip r:embed="rId1"/>
          <a:stretch/>
        </p:blipFill>
        <p:spPr>
          <a:xfrm>
            <a:off x="0" y="1501920"/>
            <a:ext cx="7929720" cy="5000400"/>
          </a:xfrm>
          <a:prstGeom prst="rect">
            <a:avLst/>
          </a:prstGeom>
          <a:ln w="0">
            <a:noFill/>
          </a:ln>
        </p:spPr>
      </p:pic>
      <p:sp>
        <p:nvSpPr>
          <p:cNvPr id="28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723888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48312"/>
                </a:solidFill>
                <a:latin typeface="Trebuchet MS"/>
              </a:rPr>
              <a:t>Сравнение преимуществ малого и крупного бизнеса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71680" y="1928880"/>
          <a:ext cx="8072280" cy="4637160"/>
        </p:xfrm>
        <a:graphic>
          <a:graphicData uri="http://schemas.openxmlformats.org/drawingml/2006/table">
            <a:tbl>
              <a:tblPr/>
              <a:tblGrid>
                <a:gridCol w="4036680"/>
                <a:gridCol w="4035600"/>
              </a:tblGrid>
              <a:tr h="3679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ые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ые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24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ая структура, не отягощенная прошлыми решениями и кадр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удовлетворять индивидуальные запросы кли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ная интенсивность труда и высокая корпоративность трудового коллекти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мобильность в вопросах стратегии развития, в том числе в области использования некапиталоемких достижений НТ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скорость оборота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крупного капитала дает возможность расширять сферы своей деятельности путем различных форм экспансии (диверсификация, интеграц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е объемы производства позволяют добиться эффекта масштаба и тем самым снизить издерж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проведения НИОКР и маркетинговых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высокопроизводительной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85716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Стратегии развития малого предприятия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88" name="Рисунок 3" descr="Q:\Инна\В Г У Э С\Лекции\Стратегический менеджмент - бакалавры\media\image3.png"/>
          <p:cNvPicPr/>
          <p:nvPr/>
        </p:nvPicPr>
        <p:blipFill>
          <a:blip r:embed="rId1"/>
          <a:stretch/>
        </p:blipFill>
        <p:spPr>
          <a:xfrm>
            <a:off x="0" y="2276640"/>
            <a:ext cx="8429760" cy="392904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копирован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-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оперативного, быстрого реагирования на рыночную конъюнктуру, при которой малая фирма выбирает независимую форму существования (суверенитет) и предлагает рынку продукт, подобный продукту крупной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оптимального размер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стратегия находит свое применение в тех отраслях, где крупное производство неэффективно, прибыль невелика по масштабам крупных фирм, высоки расходы, связанные с добавленной стоимость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участия в продукте крупной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малые фирмы используют возможности, связанные с политикой дезинтеграции, проводимой крупными компаниями, отказывающимися от собственного мелкого промежуточного производства внутри фирмы, которое редко бывает эффективны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использования преимуществ крупной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примером такой стратегии служит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франчайзинг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как форма интеграции малого и крупного бизнес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48312"/>
                </a:solidFill>
                <a:latin typeface="Trebuchet MS"/>
              </a:rPr>
              <a:t>Особенности стратегии средних фирм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93" name="Рисунок 3" descr="Q:\Инна\В Г У Э С\Лекции\Стратегический менеджмент - бакалавры\media\image4.png"/>
          <p:cNvPicPr/>
          <p:nvPr/>
        </p:nvPicPr>
        <p:blipFill>
          <a:blip r:embed="rId1"/>
          <a:stretch/>
        </p:blipFill>
        <p:spPr>
          <a:xfrm>
            <a:off x="108000" y="2060640"/>
            <a:ext cx="8143920" cy="4429080"/>
          </a:xfrm>
          <a:prstGeom prst="rect">
            <a:avLst/>
          </a:prstGeom>
          <a:ln w="0">
            <a:noFill/>
          </a:ln>
        </p:spPr>
      </p:pic>
      <p:sp>
        <p:nvSpPr>
          <p:cNvPr id="29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7743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e48312"/>
                </a:solidFill>
                <a:uFillTx/>
                <a:latin typeface="Trebuchet MS"/>
              </a:rPr>
              <a:t>Выбор стратегии в зависимости от стадии ЖЦО</a:t>
            </a:r>
            <a:endParaRPr b="0" lang="en-US" sz="29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96" name="Рисунок 3" descr="Q:\Инна\В Г У Э С\Лекции\Стратегический менеджмент - бакалавры\media\image5.png"/>
          <p:cNvPicPr/>
          <p:nvPr/>
        </p:nvPicPr>
        <p:blipFill>
          <a:blip r:embed="rId1"/>
          <a:stretch/>
        </p:blipFill>
        <p:spPr>
          <a:xfrm>
            <a:off x="212760" y="1554120"/>
            <a:ext cx="8785080" cy="5102280"/>
          </a:xfrm>
          <a:prstGeom prst="rect">
            <a:avLst/>
          </a:prstGeom>
          <a:ln w="0">
            <a:noFill/>
          </a:ln>
        </p:spPr>
      </p:pic>
      <p:sp>
        <p:nvSpPr>
          <p:cNvPr id="29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0:31:12Z</dcterms:created>
  <dc:creator>И.В.</dc:creator>
  <dc:description/>
  <dc:language>en-US</dc:language>
  <cp:lastModifiedBy>Толя</cp:lastModifiedBy>
  <dcterms:modified xsi:type="dcterms:W3CDTF">2014-12-01T07:11:05Z</dcterms:modified>
  <cp:revision>15</cp:revision>
  <dc:subject/>
  <dc:title>Theme 8</dc:title>
</cp:coreProperties>
</file>