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move the slide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3CFC8-1E91-401F-BB5D-4D28D64B7B1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773AD-9307-4D9E-A5AD-E0973F69180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CFAC7-B780-454A-928A-4B8CE9BFC86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2D904-DC21-4389-9F96-F490CEC766B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EEF0E-7A5A-4D6D-9220-3E9D89D2655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8F504-2D88-4C35-AB8D-FFA6009F668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35E52-0665-4EE4-B06D-D573B040963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CEF4C-1A77-494E-AE7A-8A929C0FDBB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E11DF-9151-40E3-A06A-BAEBF64459B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40F58-4C21-4251-8613-11DB02EF696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F4289-6395-490B-9B37-B16EA8D842B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779A8-7237-4948-B5A0-AD47F14C7E9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537CC-4CA4-4BEB-BF28-F3BF2518E3D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7FB83-9A4E-47A0-8842-D325A290559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34108-929F-4BE1-B55D-F61A60E97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04A4C-6FF2-452B-A277-DD2DEA8FB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3DE8D-A6F0-4F02-97EC-60D03AF3D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0DFBD-E1B2-4426-AE78-51CCEC3F1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A1FDD-6871-482D-B974-EEB6F9EBA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6C274-ADC2-45A1-8710-1925F397D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09883-F675-4793-B9B4-F5123F923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96642-28C1-45DA-A26A-0B1108822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437AC-E11F-4FBA-B6B8-24A720C79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B28AB-456F-4A0D-9650-24AFEFFE6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2DCAA-8BC5-46E1-8F1B-69471B68D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D76E2-61C8-4CF9-8A98-6CB8FCA6B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A24A6-EC0F-4D60-B369-10FB145BC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96AA1-3FD0-4623-A4FA-C73651510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B1E42-8B07-4906-A127-733A21412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905C6-1C1C-45F7-8268-ECA654BE2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DF84A-7C52-4A6E-8938-D066B1C4E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32F796-2087-41F5-97B1-6FB1EEA5C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6DF245-2956-4176-A0FB-9954EBA5E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37AA96-F205-4D06-A0DC-E304A9CC6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0BA751-C605-47B3-B135-02BF488A2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2446A1-265C-4C6E-B450-B6164DF0D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EFC36-DC0D-40FE-8A0D-81A7FE4F8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D9BBEC-D227-4638-9628-59A57A754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188FF0-03B5-4C46-A198-E85943E05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D4151E-C72D-4C92-9812-06067AA52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657562-04EE-4408-B0E3-182099560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6FA8BD-034B-4662-8275-144B2B7D0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74BD68-8649-4732-9299-C4261B078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696BD5-E653-4568-BD0C-02EC3F04E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A9ACFC-678C-4F53-8F7F-6673A899F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044D35-B01E-49A1-B000-A8328204A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132453-43C0-4A4D-8395-61C844C6C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2CB7E-9F9E-4893-9C17-5A275E26D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53A9A6-4A16-4760-9E70-B9026EAAB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852EE5-84A5-4B6D-A914-B551DB522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F63275-DEF7-4DC1-8B0E-1EF480C0E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3911AB-49CE-4499-A1FC-98F26C7A5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B274A7-368A-4EFE-95D7-1CC7900FF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F39BFE-F0D1-4E81-A1F7-CBE671920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C068E7-5FCB-4040-AD6A-926826AD5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6C6C55-2A2C-4D55-9C15-4A07BDB9A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0A5D88-BC63-4167-A688-8B2E59733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4ECCD1-71DD-444F-B20C-A35DBD853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E90F7-C019-4208-80D4-56CBC81FF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8A5B11-5D84-4E7C-9A3F-9EA2F06EA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BBB00E-B4D6-4D96-81D0-0F41D6248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6A2EA5-6D24-4D29-A596-FF35C2750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16AA6C-898E-4477-9CA2-ACF7E48B2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BAFDF2-2A88-484C-9878-FC6CF56AC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FBDB88-55F9-4725-9BF0-517D83328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097994-1AC0-4C87-A62A-5263B331A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C78B66-AECA-4B05-8D99-84F1CDBB8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E82477-6E6C-4001-8F6A-92E095B0C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3F7DBC-8329-4795-A68A-A6CEFA843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AF841-1490-425B-B5C5-D852E8D1C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3C76F0-C501-4C9A-8DAC-99F0B12BD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A1DE7-406B-45FD-88AD-AAA20D4DC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98C8E-0080-4EEF-BB6A-260703C0C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A1242-A265-4F9A-9F27-956287357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7E35D-89A7-40A5-A477-7AE28B2B4894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16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Straight Connector 17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8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9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20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21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23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280" cy="569736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ADC81-D6B5-412D-A40C-05E0F3F5DBF3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DD755-686D-4907-9271-663D3C1C798E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2EC20-9302-430F-BC76-1F8273A59DED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2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213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864C9-A309-43D1-9B7C-9A7E7CB2B412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431720" y="360000"/>
            <a:ext cx="5732280" cy="692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500" spc="-1" strike="noStrike">
                <a:solidFill>
                  <a:srgbClr val="90c226"/>
                </a:solidFill>
                <a:latin typeface="Trebuchet MS"/>
              </a:rPr>
              <a:t>1270, Стратегический менеджмент базовый курс</a:t>
            </a:r>
            <a:endParaRPr b="0" lang="en-US" sz="25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1187280" y="4233960"/>
            <a:ext cx="7407360" cy="94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7f7f7f"/>
                </a:solidFill>
                <a:latin typeface="Trebuchet MS"/>
              </a:rPr>
              <a:t>Канд. экон. наук, доцент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7f7f7f"/>
                </a:solidFill>
                <a:latin typeface="Trebuchet MS"/>
              </a:rPr>
              <a:t>Попова Инна Викторовна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3" name="Rectangle 4"/>
          <p:cNvSpPr/>
          <p:nvPr/>
        </p:nvSpPr>
        <p:spPr>
          <a:xfrm>
            <a:off x="1116000" y="1989000"/>
            <a:ext cx="7407360" cy="12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Trebuchet MS"/>
              </a:rPr>
              <a:t>Стратегическое управление в системе менеджмента организации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5"/>
          <p:cNvSpPr/>
          <p:nvPr/>
        </p:nvSpPr>
        <p:spPr>
          <a:xfrm>
            <a:off x="1093680" y="3357720"/>
            <a:ext cx="74073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rmAutofit/>
          </a:bodyPr>
          <a:p>
            <a:pPr marL="27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122027"/>
                </a:solidFill>
                <a:latin typeface="Trebuchet MS"/>
              </a:rPr>
              <a:t>Тема 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000080" y="274320"/>
            <a:ext cx="7748640" cy="200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rebuchet MS"/>
              </a:rPr>
              <a:t>Стратегическое управление на предприятии выражается в следующих пяти </a:t>
            </a:r>
            <a:r>
              <a:rPr b="0" lang="ru-RU" sz="4000" spc="-1" strike="noStrike" u="sng">
                <a:solidFill>
                  <a:srgbClr val="000000"/>
                </a:solidFill>
                <a:uFillTx/>
                <a:latin typeface="Trebuchet MS"/>
              </a:rPr>
              <a:t>функциях</a:t>
            </a:r>
            <a:r>
              <a:rPr b="0" lang="ru-RU" sz="4000" spc="-1" strike="noStrike">
                <a:solidFill>
                  <a:srgbClr val="000000"/>
                </a:solidFill>
                <a:latin typeface="Trebuchet MS"/>
              </a:rPr>
              <a:t>: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928800" y="2428560"/>
            <a:ext cx="7686720" cy="386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Планирование стратегии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Организация выполнения стратегических планов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Координация действий по реализации стратегических задач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Мотивация на достижение стратегических результатов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Контроль за процессом выполнения стратегии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8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71360" y="274680"/>
            <a:ext cx="7615080" cy="639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3600" spc="-1" strike="noStrike" u="sng">
                <a:solidFill>
                  <a:srgbClr val="000000"/>
                </a:solidFill>
                <a:uFillTx/>
                <a:latin typeface="Trebuchet MS"/>
              </a:rPr>
              <a:t>Сущность стратегического управления</a:t>
            </a:r>
            <a:r>
              <a:rPr b="1" i="1" lang="ru-RU" sz="3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rebuchet MS"/>
              </a:rPr>
              <a:t>состоит в формировании и реализации стратегии развития организации на основе непрерывного контроля и оценки происходящих изменений в ее деятельности с целью поддержания способности к выживанию и эффективному функционированию в условиях нестабильной внешней среды 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0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071360" y="274680"/>
            <a:ext cx="7677000" cy="243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Стратегическое управление предприятием включает </a:t>
            </a: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Trebuchet MS"/>
              </a:rPr>
              <a:t>пять основных компонентов</a:t>
            </a: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, образующих следующую цепь перспективно-целевых решений:</a:t>
            </a: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457200" y="3141720"/>
            <a:ext cx="8229600" cy="298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3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400" spc="-1" strike="noStrike">
                <a:solidFill>
                  <a:srgbClr val="404040"/>
                </a:solidFill>
                <a:latin typeface="Trebuchet MS"/>
              </a:rPr>
              <a:t>Видение </a:t>
            </a:r>
            <a:r>
              <a:rPr b="0" lang="ru-RU" sz="4400" spc="-1" strike="noStrike">
                <a:solidFill>
                  <a:srgbClr val="404040"/>
                </a:solidFill>
                <a:latin typeface="Symbol"/>
                <a:ea typeface="Symbol"/>
              </a:rPr>
              <a:t></a:t>
            </a:r>
            <a:r>
              <a:rPr b="0" lang="ru-RU" sz="4400" spc="-1" strike="noStrike">
                <a:solidFill>
                  <a:srgbClr val="404040"/>
                </a:solidFill>
                <a:latin typeface="Trebuchet MS"/>
              </a:rPr>
              <a:t> Сфера бизнеса </a:t>
            </a:r>
            <a:r>
              <a:rPr b="0" lang="ru-RU" sz="4400" spc="-1" strike="noStrike">
                <a:solidFill>
                  <a:srgbClr val="404040"/>
                </a:solidFill>
                <a:latin typeface="Symbol"/>
                <a:ea typeface="Symbol"/>
              </a:rPr>
              <a:t></a:t>
            </a:r>
            <a:r>
              <a:rPr b="0" lang="ru-RU" sz="4400" spc="-1" strike="noStrike">
                <a:solidFill>
                  <a:srgbClr val="404040"/>
                </a:solidFill>
                <a:latin typeface="Trebuchet MS"/>
              </a:rPr>
              <a:t> Миссия </a:t>
            </a:r>
            <a:r>
              <a:rPr b="0" lang="ru-RU" sz="4400" spc="-1" strike="noStrike">
                <a:solidFill>
                  <a:srgbClr val="404040"/>
                </a:solidFill>
                <a:latin typeface="Symbol"/>
                <a:ea typeface="Symbol"/>
              </a:rPr>
              <a:t></a:t>
            </a:r>
            <a:r>
              <a:rPr b="0" lang="ru-RU" sz="4400" spc="-1" strike="noStrike">
                <a:solidFill>
                  <a:srgbClr val="404040"/>
                </a:solidFill>
                <a:latin typeface="Trebuchet MS"/>
              </a:rPr>
              <a:t> Стратегии </a:t>
            </a:r>
            <a:r>
              <a:rPr b="0" lang="ru-RU" sz="4400" spc="-1" strike="noStrike">
                <a:solidFill>
                  <a:srgbClr val="404040"/>
                </a:solidFill>
                <a:latin typeface="Symbol"/>
                <a:ea typeface="Symbol"/>
              </a:rPr>
              <a:t></a:t>
            </a:r>
            <a:r>
              <a:rPr b="0" lang="ru-RU" sz="4400" spc="-1" strike="noStrike">
                <a:solidFill>
                  <a:srgbClr val="404040"/>
                </a:solidFill>
                <a:latin typeface="Trebuchet MS"/>
              </a:rPr>
              <a:t> Программы и планы</a:t>
            </a:r>
            <a:endParaRPr b="0" lang="en-US" sz="4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3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3600" spc="-1" strike="noStrike" u="sng">
                <a:solidFill>
                  <a:srgbClr val="000000"/>
                </a:solidFill>
                <a:uFillTx/>
                <a:latin typeface="Trebuchet MS"/>
              </a:rPr>
              <a:t>Процесс стратегического управления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5" name="Нижний колонтитул 2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Рисунок 2" descr="процесс стр упр 2.png"/>
          <p:cNvPicPr/>
          <p:nvPr/>
        </p:nvPicPr>
        <p:blipFill>
          <a:blip r:embed="rId1"/>
          <a:stretch/>
        </p:blipFill>
        <p:spPr>
          <a:xfrm>
            <a:off x="1039680" y="2000160"/>
            <a:ext cx="7961400" cy="393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900" spc="-1" strike="noStrike" u="sng">
                <a:solidFill>
                  <a:srgbClr val="000000"/>
                </a:solidFill>
                <a:uFillTx/>
                <a:latin typeface="Trebuchet MS"/>
              </a:rPr>
              <a:t>Уровни стратегий</a:t>
            </a:r>
            <a:r>
              <a:rPr b="0" lang="ru-RU" sz="2900" spc="-1" strike="noStrike">
                <a:solidFill>
                  <a:srgbClr val="000000"/>
                </a:solidFill>
                <a:latin typeface="Trebuchet MS"/>
              </a:rPr>
              <a:t>          и          </a:t>
            </a:r>
            <a:r>
              <a:rPr b="1" i="1" lang="ru-RU" sz="2900" spc="-1" strike="noStrike" u="sng">
                <a:solidFill>
                  <a:srgbClr val="000000"/>
                </a:solidFill>
                <a:uFillTx/>
                <a:latin typeface="Trebuchet MS"/>
              </a:rPr>
              <a:t>объекты</a:t>
            </a:r>
            <a:br>
              <a:rPr sz="2900"/>
            </a:br>
            <a:r>
              <a:rPr b="0" lang="ru-RU" sz="2900" spc="-1" strike="noStrike">
                <a:solidFill>
                  <a:srgbClr val="000000"/>
                </a:solidFill>
                <a:latin typeface="Trebuchet MS"/>
              </a:rPr>
              <a:t> стратегического управления</a:t>
            </a:r>
            <a:endParaRPr b="0" lang="en-US" sz="29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609120" y="2160360"/>
            <a:ext cx="308772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Корпоративный уровень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Бизнес-уровень (конкурентный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Функциональный  уровень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3868560" y="2160360"/>
            <a:ext cx="308952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Предприятие в целом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Стратегическое поле бизнеса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Функциональные сферы деятельности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0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 u="sng">
                <a:solidFill>
                  <a:srgbClr val="90c226"/>
                </a:solidFill>
                <a:uFillTx/>
                <a:latin typeface="Trebuchet MS"/>
              </a:rPr>
              <a:t>План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285920" y="1268280"/>
            <a:ext cx="740088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Предпосылки возникновения стратегического менеджмента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Понятие стратегического управления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Сравнение стратегического и оперативного управления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Сущность стратегического управления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Процесс стратегического управления и его компоненты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Уровни стратегий и объекты стратегического управления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7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500" spc="-1" strike="noStrike" u="sng">
                <a:solidFill>
                  <a:srgbClr val="000000"/>
                </a:solidFill>
                <a:uFillTx/>
                <a:latin typeface="Trebuchet MS"/>
              </a:rPr>
              <a:t>Факторы-условия, определяющие актуальность стратегического управления</a:t>
            </a:r>
            <a:endParaRPr b="0" lang="en-US" sz="25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Trebuchet MS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Рост числа управленческих задач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514440" indent="-51444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Trebuchet MS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Расширением географических рамок</a:t>
            </a:r>
            <a:r>
              <a:rPr b="0" i="1" lang="ru-RU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деятельности национальных экономик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514440" indent="-514440">
              <a:spcBef>
                <a:spcPts val="1001"/>
              </a:spcBef>
              <a:buClr>
                <a:srgbClr val="90c226"/>
              </a:buClr>
              <a:buSzPct val="80000"/>
              <a:buFont typeface="Trebuchet MS"/>
              <a:buAutoNum type="arabicPeriod" startAt="3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Возрастание роли высшего звена управления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514440" indent="-514440">
              <a:spcBef>
                <a:spcPts val="1001"/>
              </a:spcBef>
              <a:buClr>
                <a:srgbClr val="90c226"/>
              </a:buClr>
              <a:buSzPct val="80000"/>
              <a:buFont typeface="Trebuchet MS"/>
              <a:buAutoNum type="arabicPeriod" startAt="3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Усиление нестабильности внешней среды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514440" indent="-51444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Trebuchet MS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514440" indent="-51444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Trebuchet MS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0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071360" y="228600"/>
            <a:ext cx="7615080" cy="577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Trebuchet MS"/>
              </a:rPr>
              <a:t>Стратегическое управление</a:t>
            </a:r>
            <a:r>
              <a:rPr b="1" lang="ru-RU" sz="3600" spc="-1" strike="noStrike">
                <a:solidFill>
                  <a:srgbClr val="000000"/>
                </a:solidFill>
                <a:latin typeface="Trebuchet MS"/>
              </a:rPr>
              <a:t> — </a:t>
            </a:r>
            <a:r>
              <a:rPr b="0" lang="ru-RU" sz="3600" spc="-1" strike="noStrike">
                <a:solidFill>
                  <a:srgbClr val="000000"/>
                </a:solidFill>
                <a:latin typeface="Trebuchet MS"/>
              </a:rPr>
              <a:t>процесс разработки, принятия и реализации стратегических решений, центральным звеном которого является стратегический выбор, основанный на сопоставлении собственного ресурсного потенциала предприятия с возможностями и угрозами внешнего окружения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82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42640" y="404280"/>
            <a:ext cx="75438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Trebuchet MS"/>
              </a:rPr>
              <a:t>Стратегия</a:t>
            </a:r>
            <a:r>
              <a:rPr b="0" lang="ru-RU" sz="3600" spc="-1" strike="noStrike">
                <a:solidFill>
                  <a:srgbClr val="000000"/>
                </a:solidFill>
                <a:latin typeface="Trebuchet MS"/>
              </a:rPr>
              <a:t> — это заранее спланированная реакция организации на изменение внешней среды, линия ее поведения, выбранная для достижения желаемого результата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84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000080" y="285480"/>
            <a:ext cx="7801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rebuchet MS"/>
              </a:rPr>
              <a:t>Сравнение стратегического и оперативного управления</a:t>
            </a:r>
            <a:endParaRPr b="0" lang="en-US" sz="2800" spc="-1" strike="noStrike">
              <a:solidFill>
                <a:srgbClr val="90c226"/>
              </a:solidFill>
              <a:latin typeface="Trebuchet MS"/>
            </a:endParaRPr>
          </a:p>
        </p:txBody>
      </p:sp>
      <p:graphicFrame>
        <p:nvGraphicFramePr>
          <p:cNvPr id="286" name=""/>
          <p:cNvGraphicFramePr/>
          <p:nvPr/>
        </p:nvGraphicFramePr>
        <p:xfrm>
          <a:off x="1000080" y="1600200"/>
          <a:ext cx="7686720" cy="4495680"/>
        </p:xfrm>
        <a:graphic>
          <a:graphicData uri="http://schemas.openxmlformats.org/drawingml/2006/table">
            <a:tbl>
              <a:tblPr/>
              <a:tblGrid>
                <a:gridCol w="2000160"/>
                <a:gridCol w="2643480"/>
                <a:gridCol w="3043080"/>
              </a:tblGrid>
              <a:tr h="434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арактеристи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еративное управл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атегическое управл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56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ссия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назнач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изводство товаров и услуг с целью получения дохода от их реализаци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живание организации в долгосрочной перспективе посредством установления динамичного баланса с окружением, позволяющего решать проблемы заинтересованных в деятельности организации лиц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951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ъект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центра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нимания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неджмен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гляд внутрь организации, поиск путей более эффективного использования ресурсов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гляд вовне организации, поиск новых возможностей в конкурентной борьбе, отслеживание и адаптация к изменениям в окружени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7" name="Нижний колонтитул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000080" y="285480"/>
            <a:ext cx="7801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rebuchet MS"/>
              </a:rPr>
              <a:t>Сравнение стратегического и оперативного управления</a:t>
            </a:r>
            <a:endParaRPr b="0" lang="en-US" sz="2800" spc="-1" strike="noStrike">
              <a:solidFill>
                <a:srgbClr val="90c226"/>
              </a:solidFill>
              <a:latin typeface="Trebuchet MS"/>
            </a:endParaRPr>
          </a:p>
        </p:txBody>
      </p:sp>
      <p:graphicFrame>
        <p:nvGraphicFramePr>
          <p:cNvPr id="289" name=""/>
          <p:cNvGraphicFramePr/>
          <p:nvPr/>
        </p:nvGraphicFramePr>
        <p:xfrm>
          <a:off x="1000080" y="1268280"/>
          <a:ext cx="7697880" cy="5145120"/>
        </p:xfrm>
        <a:graphic>
          <a:graphicData uri="http://schemas.openxmlformats.org/drawingml/2006/table">
            <a:tbl>
              <a:tblPr/>
              <a:tblGrid>
                <a:gridCol w="2000160"/>
                <a:gridCol w="2646360"/>
                <a:gridCol w="3051360"/>
              </a:tblGrid>
              <a:tr h="64044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арактерист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еративное управл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атегическое управл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0212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ет фактора времен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иентация на краткосрочную и среднесрочную перспективу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иентация на долгосрочную перспективу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340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нова построения системы управл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ункции и организационные структуры, процедуры, техника и технология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юди, системы информационного обеспечения, рынок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3772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ход к управлению персонало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гляд на работников как на ресурс организации, как на исполнителей отдельных работ и функций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гляд на работников как на основу организации, ее главную ценность и источник ее благополучия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0" name="Нижний колонтитул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000080" y="228240"/>
            <a:ext cx="76867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rebuchet MS"/>
              </a:rPr>
              <a:t>Сравнение стратегического и оперативного управления</a:t>
            </a:r>
            <a:endParaRPr b="0" lang="en-US" sz="2800" spc="-1" strike="noStrike">
              <a:solidFill>
                <a:srgbClr val="90c226"/>
              </a:solidFill>
              <a:latin typeface="Trebuchet MS"/>
            </a:endParaRPr>
          </a:p>
        </p:txBody>
      </p:sp>
      <p:graphicFrame>
        <p:nvGraphicFramePr>
          <p:cNvPr id="292" name=""/>
          <p:cNvGraphicFramePr/>
          <p:nvPr/>
        </p:nvGraphicFramePr>
        <p:xfrm>
          <a:off x="1000080" y="2274840"/>
          <a:ext cx="7547040" cy="3079800"/>
        </p:xfrm>
        <a:graphic>
          <a:graphicData uri="http://schemas.openxmlformats.org/drawingml/2006/table">
            <a:tbl>
              <a:tblPr/>
              <a:tblGrid>
                <a:gridCol w="2357640"/>
                <a:gridCol w="2222280"/>
                <a:gridCol w="2967120"/>
              </a:tblGrid>
              <a:tr h="649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арактерист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еративное управл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атегическое управл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итерии эффективности управл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быльность и рациональность использование производственного потенциал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оевременность и точность реакция организации на новые запросы рынка и изменения в зависимости от изменения окружения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3" name="Нижний колонтитул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071360" y="274320"/>
            <a:ext cx="7615080" cy="617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3600" spc="-1" strike="noStrike" u="sng">
                <a:solidFill>
                  <a:srgbClr val="000000"/>
                </a:solidFill>
                <a:uFillTx/>
                <a:latin typeface="Trebuchet MS"/>
              </a:rPr>
              <a:t>Главная цель стратегического управления</a:t>
            </a:r>
            <a:r>
              <a:rPr b="1" lang="ru-RU" sz="3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rebuchet MS"/>
              </a:rPr>
              <a:t>— развитие потенциала и поддержание стратегической способности предприятия к выживанию и эффективному функционированию в ус­ловиях нестабильной внешней среды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95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9T08:53:50Z</dcterms:created>
  <dc:creator>User</dc:creator>
  <dc:description/>
  <dc:language>en-US</dc:language>
  <cp:lastModifiedBy>Толя</cp:lastModifiedBy>
  <dcterms:modified xsi:type="dcterms:W3CDTF">2014-12-01T06:54:10Z</dcterms:modified>
  <cp:revision>14</cp:revision>
  <dc:subject/>
  <dc:title>Theme 1</dc:title>
</cp:coreProperties>
</file>