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449-066A-40E1-9075-FB385CA9A5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9FAF-1E5E-4394-9183-909B1C89B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11C-6C3D-464F-981C-804CFD5A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9D6-0932-4049-BA33-4F9D4764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1FF-B7FA-43CE-9475-5DB43571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DC6-E3C6-4261-AD04-55DD7A89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ADAD-D64E-4C73-AA36-BF62BA3F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042C-511D-42D5-9985-6562179C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B5D2-06A3-4BAD-AEE9-A57BD1AF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97F6-E5AA-4C17-97D8-0F04EE6E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5B07-99EB-4801-BE92-9FDE13AD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85C8-6463-474F-81FA-C97BB420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996F-5CC3-44AD-9639-C361CAB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F71-7A37-40F6-8044-898D701A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ABE9-5BEF-445E-AD8B-89A3F62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9424-740E-43B7-A709-D577449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3D92-3381-4F85-A4F1-BAC73DFE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8333-BF69-44BC-8EFF-63CEEC99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0E61-1633-44A4-9DB7-5545ED12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7F4A-509E-47C9-88BB-A6894A5B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DAA9-C05A-4BA7-A368-D242CE74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512E-F528-4E0D-A6CB-1B4DBCF7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1D15-C21F-449D-A8E4-889864D2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0867-F21F-41C5-A7DF-14A721E1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995-D01F-4BD7-A544-FCD12676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CA14-55D0-471F-9850-828079B1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64BC-C939-4963-9920-E8CD2ABD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934E-F2B9-4AEE-A76F-894C526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6FB0-02FD-4D44-8E6F-1EFA60CF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76B4-025A-46CF-B628-0622357F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28AE-C159-4B25-98C6-C1FDD679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2E0E-D1D2-4F62-A9AB-66DF8A34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C0E1-AF41-43EF-812F-D20DBD4F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55B6-7DC8-41B8-8FF7-9BC9CD8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3680-3B79-4046-9F34-0CC2A24F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77E-69E3-4FBF-AF56-F62A34ED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EA6D3-2A0D-45B5-9C9D-7489863B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3344F-7E84-4DFD-BF93-AEDC2FF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BD264-E2AF-4EEF-8F9A-38C53648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6ABB-AAEC-4466-ABD4-1A5D98B9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FB2C7-7D77-4619-9BD0-18FA18B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16E7-67BB-4CEC-8F9A-A97C3647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31A0-505C-4FBD-974F-B8855FD5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7079-5815-44CF-BDAF-284A7B5A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655FF-FFBB-48FB-A4CD-19D5A2E4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D64-D2BE-4C6B-BFA8-278C6D09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189-C3A6-49B1-A1C7-FA1AB85C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F04-30C5-4246-8939-AF78CC03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DB1-F71B-4472-8CD6-9E83B99E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35A-002C-405E-A7AB-153DBE1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F2A0-7D8D-4A73-9913-67F19740934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AAFF-7AD5-4C31-AA0C-9114E08DB272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00AF-6DC4-4B49-BBCD-A14F5F676A6D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BF2A-AE34-4F42-B9A5-C3C4E445E099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B2BE-8CD7-4ECC-8525-04FA557C782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4217-1598-4C88-96BD-6CB6FBDC705C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A3CD-AEC1-4CEF-BCC4-4F8E5CDB41B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BC25-3694-4EDF-A381-36EAEF89A30A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84c2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ункциональные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84c2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роль функциональной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 функциональн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НИОК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84c22"/>
                </a:solidFill>
                <a:uFillTx/>
                <a:latin typeface="Trebuchet MS"/>
              </a:rPr>
              <a:t>Функциональная стратегия </a:t>
            </a: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определяет направление деятельности той или иной функциональной службы (или отдела) внутри одной сферы бизнеса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ль функциональной стратегии заключается в поддержке общей деловой стратегии и конкурентоспособности фирмы, а также в создании управленческих ориентиров для достижения намеченных функциональных целей компа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1680" y="785880"/>
          <a:ext cx="7858080" cy="5371920"/>
        </p:xfrm>
        <a:graphic>
          <a:graphicData uri="http://schemas.openxmlformats.org/drawingml/2006/table">
            <a:tbl>
              <a:tblPr/>
              <a:tblGrid>
                <a:gridCol w="2060280"/>
                <a:gridCol w="5797800"/>
              </a:tblGrid>
              <a:tr h="5634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стратегическ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 сохранение лояльной группы потребителей посредством уникального сочетания товара, сбыта, продвижения и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использование производственных возможностей, снижение относительных издержек производства и макси­мизация контро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 пределах установленного бюджета, упор на прибыльную продукцию, контроль кредита и ми­нимизация стоимости зай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изация отчетности, тщательная детализация издержек, стандартизация сде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блюдение конкретных спецификаций, ограничение числа моделей и вариантов, концентрация на улучшении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материалов большими однородными партиями по низким ценам и поддержание небольших зап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технологических прорывов, улучшение качества продукции, выявление нововве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Производственная стратегия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это долгосрочная программа конкретных действий по созданию и реализации продукции предприятия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ая стратег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размещен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рганизации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 НИОКР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это долгосрочная программа конкретных действий, связанных с созданием нового продукта и технологии производства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ступатель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щит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глощающ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бойничь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Выбор стратегии НИОКР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38" name="Group 219" descr=""/>
          <p:cNvPicPr/>
          <p:nvPr/>
        </p:nvPicPr>
        <p:blipFill>
          <a:blip r:embed="rId1"/>
          <a:stretch/>
        </p:blipFill>
        <p:spPr>
          <a:xfrm>
            <a:off x="487440" y="1420920"/>
            <a:ext cx="8192880" cy="499248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9:26:04Z</dcterms:created>
  <dc:creator>И.В.</dc:creator>
  <dc:description/>
  <dc:language>en-US</dc:language>
  <cp:lastModifiedBy>Толя</cp:lastModifiedBy>
  <dcterms:modified xsi:type="dcterms:W3CDTF">2014-12-01T07:01:49Z</dcterms:modified>
  <cp:revision>5</cp:revision>
  <dc:subject/>
  <dc:title>Функциональные стратегии</dc:title>
</cp:coreProperties>
</file>