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F144-F33F-47F9-B090-21DD4EB431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23F4-3D4D-495A-9284-B27EE39FB9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8E3A-386B-46D6-A992-713539437F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0728-44C5-4901-AB75-DDEF5006AB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2851-973B-4B47-8037-E6220A9A6A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51F8-CFB8-4F47-BD5E-85B90ACD4E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0EE0-6438-4EF5-A856-01BA3C4DEF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3A6B-2C7D-4E70-AD16-1D39CB7D9D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224B-F5F3-4250-B3BB-6776800CE0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A9BD-01AE-4372-A6AD-A8A6F7CEEF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6D55-0D8D-41CE-8CE5-4157F569E3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85F8-2D64-4925-8FD7-40A46B8374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A599-C40D-4CEC-A833-CAB0EB8BD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B376-9870-49D5-A03D-59E067D8ED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98C1-933D-456A-8712-34A53E97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474E-D44E-4B93-9FB1-73BF9F60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67E1-92CE-463E-BA86-3CE9A3EB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C48-AAD9-4060-B1C4-06B032A4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7C11-3493-4087-B8C7-AF785E56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A707-3946-41AA-931D-BCAD9477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8667-A4EA-4820-8985-DBD04E6C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B955-4EEF-445A-8B60-9909D676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B27E-F40E-4F30-90C8-33545EE4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0ED1-9562-4203-9746-800317D1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4990-0832-49F0-98FC-B1AB95DC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6DB7-1765-427F-A1CC-A69ED3F8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C9DF-DB86-4A0C-9972-549026DF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D9CD-CA7B-4285-BF0A-CDC69F7B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1097-2D01-412B-BB1E-A99302F6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8F16-C51D-4230-85E4-F06BB3CA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998D-C891-4D54-9201-0D4530A9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9CE12-81DD-40B3-B4DB-5B2AF850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32866-8A85-42C9-B29F-CB36D9D7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9C5F9-A837-4A44-8B88-74190971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438D2-3D28-4B1D-A9DC-D05C6CD7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D0F09-3143-4A99-9F54-0EE50087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C0E-B721-41CB-9C78-4EB58C86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CC1CB-4798-4FCE-8608-E6F12571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19613-5D0B-4C9B-9D47-6F71345F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496C0-8DBF-4F0B-AA1D-71AC848D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1F0C4-6485-404A-BE86-2C1E82A2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3A026-EBF1-4801-A9E2-D75309DA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851FB-EE4D-405F-BEBB-86F7BD18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5080B-BAB4-4AFC-8F43-DD187F63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47D3F-0408-4FE6-B606-A4351354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69967-C3C6-45D4-A832-FDC07A1F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20376-4F92-4AC3-86E2-2D1EC18F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FCC-6B28-4468-9C6B-0BB072A7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82292-712C-4E88-B419-FA2AD4C2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9BC69-9C3A-47CC-A532-7B968B3C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8DB30-364B-480C-8F53-9649A581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418CC-78F6-456A-A8EC-FC3E339D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4880F-551C-47AE-8FFF-80F817B2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595C9-52AD-4DF3-B805-51E26088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44C99-C7FC-4733-89D2-4D267D39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74FCD-F733-44C2-B27E-EA4367D8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9299D-8CF5-4E4A-B501-9F477061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7F8C1-AC6A-4383-A06A-CF8F6FF9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FC9-98A9-44C2-B431-48BA5FBD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E6BA3-853B-4FCF-BF24-A8071327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9F697-E377-4A73-92DC-141D3AD2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2E908-3A50-4F1B-A3BE-86717785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5E65B-9A8D-49F1-84BC-C700165E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E7DDA-05E0-4FB9-870C-2B06194D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B91BE-982D-4935-B67E-9D73E5CC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41586-E793-4BF8-8FD3-54FAD674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59DE0-BD2E-4022-AB00-41A16C83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485AD-CE8E-4348-B5DF-18FF2021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89F9D-E90D-4DAD-8732-4D5D7FC1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7FF-0F7B-41FF-B500-191D52EB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DDAA5-F418-4487-9383-5C67411D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1D4-8892-4E9B-9BE1-07E6CEC9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7E5-3CCF-4756-8EE9-A489B2AC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9A8-03A8-4567-AE67-4409D6CC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9759-99DC-4B7A-9ECE-6CD2D31FEB0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EC3A-4258-48D0-AD5D-1D6014260B9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5FB2-9A04-4618-8953-E8CE0278845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8073-4A2E-4802-8B54-E595B6CFDDD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71CC-7DE9-4056-A620-4977C3BD318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90c226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в системе менеджмента организаци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22027"/>
                </a:solidFill>
                <a:latin typeface="Trebuchet MS"/>
              </a:rPr>
              <a:t>Тема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748640" cy="20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на предприятии выражается в следующих пят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rebuchet MS"/>
              </a:rPr>
              <a:t>функциях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28800" y="2428560"/>
            <a:ext cx="7686720" cy="38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ланирование стратег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рганизация выполнения стратегических план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оординация действий по реализации стратегических задач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Мотивация на достижение стратегических результат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онтроль за процессом выполнения стратег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615080" cy="63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ущность стратегического управления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остоит в формировании и реализации стратегии развития организации на основе непрерывного контроля и оценки происходящих изменений в ее деятельности с целью поддержания способности к выживанию и эффективному функционированию в условиях нестабильной внешней среды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677000" cy="24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предприятием включает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rebuchet MS"/>
              </a:rPr>
              <a:t>пять основных компонентов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, образующих следующую цепь перспективно-целевых решений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Видение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Сфера бизнеса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Миссия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Стратегии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Программы и планы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Процесс стратегического управл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Рисунок 2" descr="процесс стр упр 2.png"/>
          <p:cNvPicPr/>
          <p:nvPr/>
        </p:nvPicPr>
        <p:blipFill>
          <a:blip r:embed="rId1"/>
          <a:stretch/>
        </p:blipFill>
        <p:spPr>
          <a:xfrm>
            <a:off x="1039680" y="2000160"/>
            <a:ext cx="796140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Уровни стратегий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         и         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объекты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стратегического управления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рпоративный уровен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изнес-уровень (конкурентны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кциональный  уровен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риятие в цело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ое поле бизнес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кциональные сферы деятельност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90c226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85920" y="1268280"/>
            <a:ext cx="7400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осылки возникновения стратегического менеджмен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равнение стратегического и оперативн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ущность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цесс стратегического управления и его компонент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ровни стратегий и объекты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rebuchet MS"/>
              </a:rPr>
              <a:t>Факторы-условия, определяющие актуальность стратегического управления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ост числа управленческих задач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ширением географических рамок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еятельности национальных экономи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зрастание роли высшего звена управл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силение нестабильности внешней сред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71360" y="228600"/>
            <a:ext cx="761508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ческое управление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—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роцесс разработки, принятия и реализации стратегических решений, центральным звеном которого является стратегический выбор, основанный на сопоставлении собственного ресурсного потенциала предприятия с возможностями и угрозами внешнего окруж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404280"/>
            <a:ext cx="754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я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— это заранее спланированная реакция организации на изменение внешней среды, линия ее поведения, выбранная для достижения желаемого результа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801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000080" y="1600200"/>
          <a:ext cx="7686720" cy="4495680"/>
        </p:xfrm>
        <a:graphic>
          <a:graphicData uri="http://schemas.openxmlformats.org/drawingml/2006/table">
            <a:tbl>
              <a:tblPr/>
              <a:tblGrid>
                <a:gridCol w="2000160"/>
                <a:gridCol w="2643480"/>
                <a:gridCol w="304308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сси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назна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товаров и услуг с целью получения дохода от их реализ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живание организации в долгосрочной перспективе посредством установления динамичного баланса с окружением, позволяющего решать проблемы заинтересованных в деятельности организации ли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внутрь организации, поиск путей более эффективного использования ресурс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вовне организации, поиск новых возможностей в конкурентной борьбе, отслеживание и адаптация к изменениям в окружен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801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000080" y="1268280"/>
          <a:ext cx="7697880" cy="5145120"/>
        </p:xfrm>
        <a:graphic>
          <a:graphicData uri="http://schemas.openxmlformats.org/drawingml/2006/table">
            <a:tbl>
              <a:tblPr/>
              <a:tblGrid>
                <a:gridCol w="2000160"/>
                <a:gridCol w="2646360"/>
                <a:gridCol w="305136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2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 фактора вре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ация на краткосрочную и среднесрочную перспекти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ация на долгосрочную перспекти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 построения системы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 и организационные структуры, процедуры, техника и технолог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ди, системы информационного обеспечения, рын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ход к управлению персона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на работников как на ресурс организации, как на исполнителей отдельных работ и функц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на работников как на основу организации, ее главную ценность и источник ее благополуч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00080" y="22824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000080" y="2274840"/>
          <a:ext cx="7547040" cy="3079800"/>
        </p:xfrm>
        <a:graphic>
          <a:graphicData uri="http://schemas.openxmlformats.org/drawingml/2006/table">
            <a:tbl>
              <a:tblPr/>
              <a:tblGrid>
                <a:gridCol w="2357640"/>
                <a:gridCol w="2222280"/>
                <a:gridCol w="2967120"/>
              </a:tblGrid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эффективности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ность и рациональность использование производственного потенциа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евременность и точность реакция организации на новые запросы рынка и изменения в зависимости от изменения окру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615080" cy="617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Главная цель стратегического управления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— развитие потенциала и поддержание стратегической способности предприятия к выживанию и эффективному функционированию в ус­ловиях нестабильной внешней сред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08:53:50Z</dcterms:created>
  <dc:creator>User</dc:creator>
  <dc:description/>
  <dc:language>en-US</dc:language>
  <cp:lastModifiedBy>Толя</cp:lastModifiedBy>
  <dcterms:modified xsi:type="dcterms:W3CDTF">2014-12-01T06:54:10Z</dcterms:modified>
  <cp:revision>14</cp:revision>
  <dc:subject/>
  <dc:title>Theme 1</dc:title>
</cp:coreProperties>
</file>