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3790-4A2E-4304-837A-2A1CA2588D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412-60FA-473D-95B4-459D67DC6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73E-311D-4C83-AB6D-B307D079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098-2DC0-4010-BF7A-44FC3B11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B1C-4E2E-4AAD-AB55-9079E75F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C08-47B6-454D-83C8-065332F5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672E-B641-49FB-8FC0-E60230DE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EE62-A801-4B54-94AC-700D7FA1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6DBC-5BBB-4F7A-B7BA-94CDA687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6DD8-9108-4A21-8882-1048BF5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86FB-55B5-4FA1-8AEC-43EF3D2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99C5-F9CE-49AA-B74F-2AAC6751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E3BC-5DE2-4514-90D3-4BFC57B1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3FA-D6E3-4229-9336-59EB499F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159D-3006-4907-83D8-73B69E35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B978-B3C1-4B4E-AA7B-262D1BE9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0E83-518A-4313-B382-AA9CE60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467D-D5DD-4CCE-A6EC-109596A7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3688-CEDB-440D-BF47-846109EB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C6141-FAC0-4F1D-BAF8-64363AEA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10F3-7BC7-4C1F-846D-A5D5A1BB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D85D-3900-4148-AB69-AFC54539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EF98-4D02-4150-B6E9-95C64273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DE60-243C-4D2C-BF3C-29DE3CE5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8D3-06CB-40C3-B698-ABBE9F02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FE94-2A8E-4FCC-886F-78FC609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030D4-2AAB-4E87-BD89-D2700A3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1AA4-080B-457D-8A88-2FC1F8AA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8C4B-C2E6-484F-99C2-E237A0EB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0102-1A7C-4198-A994-2CC3CDD9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DE2F-7B75-4170-854F-9CFAA2F8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82A1-11F2-4B9A-A824-A2BFF70B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F8B8-29FF-432F-B4B7-5B2EDEEC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841B-A983-4E3C-AEEC-262A0A48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76775-823B-487A-AA31-C4D5DB67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A7F-A4FB-4FB9-8226-7C5FF094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F69A-853C-4EF8-812F-6AFECC00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11936-DA5A-44D4-A93B-9F69DB1C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0190-793D-4E95-B9FE-89351463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EDDB-FF26-44BF-A120-8A45647A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46E23-C86E-4063-86F4-3B4A7ADD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6DFA-33A5-4DC7-844E-191CA74D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8735D-244B-4A1A-ACA8-FD619990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2EE0-222C-491E-8F4A-B18943A6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EDF2-65EA-4B05-A3EA-D8EDBD94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6D8-CF40-48CB-A6AA-73532B5D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CCE-0908-4FC3-A44D-09356C1E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ABF-3674-485A-BE35-48475F2E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C59-B5CE-403A-9A2B-F622E4E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218-31B6-41A3-9970-01A5E453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3A35-3B46-47C8-95A9-8395D23B926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DDB9-4D93-41AA-8D49-7E8F6EA53767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152B-DEDD-4B61-B923-8235D6F8BC7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C3F1-DAD7-47A5-855B-400EB6766268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B64D-6889-477A-A2D6-D7F8E47DFF0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63A8-4B6B-4DC9-AFFE-FF95514BECBB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8476-3412-4880-AE31-E8909265D91B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DE59-BC5B-4636-8DA8-10A46CCB9149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5fcbef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  <a:ea typeface="Arial"/>
              </a:rPr>
              <a:t>Разработка стратегии на корпоративном уров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</a:t>
            </a:r>
            <a:r>
              <a:rPr b="1" lang="en-US" sz="2600" spc="-1" strike="noStrike">
                <a:solidFill>
                  <a:srgbClr val="090d33"/>
                </a:solidFill>
                <a:latin typeface="Trebuchet MS"/>
                <a:ea typeface="Arial"/>
              </a:rPr>
              <a:t>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роста через диверсификацию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лагает выход за рамки отраслевой технологической цепочки, используя возможности, открывающиеся вне зоны традиционной деятельности фирм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огласно принципу слияния существует связанная и несвязанная диверсификац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иверсификация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9680" y="142884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2071440"/>
            <a:ext cx="40402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сути является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интеграцией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(горизонтальной или вертикальной), т.е. основывается на присоединении к предприятию новых видов деятельности на стадиях до или после производства основного продук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3280" y="142848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Несвязан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4720" y="207144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хватывает такие направления деятельности, которые не имеют прямой непосредственной связи с основной деятельностью предпри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центрированной диверсификации 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ратегия конгломератной диверсификации 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и сокращ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квидац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—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наиболее радикальный вариант сокращения, связанный с полной распродажей материальных запасов и активов фирмы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родажа организаци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фирме, для которой данная сфера бизнеса может представлять интер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е и переориент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именяются, когда есть необходимость в сокращении фирмой части своей деятель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зинтеграц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предусматривает отказ фирмы от определенных производственных цепочек и переход на внешние сдел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Матрица «товар-рынок»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8319960" cy="42145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щие корпоративные 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и интенсив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интегр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диверсифкационного ро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я сокра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5fcbef"/>
                </a:solidFill>
                <a:uFillTx/>
                <a:latin typeface="Trebuchet MS"/>
              </a:rPr>
              <a:t>Типы корпоративных стратегий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табильност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сосредоточена на существующих направ­лениях деятельности организации и сохранении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рос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редусматривает превышение уровня развития фирмы над предыдущим период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окращен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- по сути, стратегия отступления, которая предусматривает установление уровня целей организации ниже достигнутого в прошл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Дерево общих стратегий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39640" y="1285920"/>
            <a:ext cx="6858000" cy="5286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Интенсивный рост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125360"/>
            <a:ext cx="7358040" cy="558828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80724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5fcbef"/>
                </a:solidFill>
                <a:uFillTx/>
                <a:latin typeface="Trebuchet MS"/>
              </a:rPr>
              <a:t>Стратегия интеграционного рос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вязана с возможностями объединения с другими элементами отрасл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ю является рост в пределах индустриальной технологической цепочк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правдана, когда нет возможности роста по отношению к базовому рынк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е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ертикальная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ол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частична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горизонтальна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Вертик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7599240" cy="1622520"/>
          </a:xfrm>
          <a:prstGeom prst="rect">
            <a:avLst/>
          </a:prstGeom>
          <a:ln w="0">
            <a:noFill/>
          </a:ln>
        </p:spPr>
      </p:pic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5fcbef"/>
                </a:solidFill>
                <a:latin typeface="Trebuchet MS"/>
              </a:rPr>
              <a:t>Горизонтальная интегр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следует цель усиления позиции фирмы путем поглощения или слияния с однопрофильными организац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иболее существенным при данном способе роста является достижение положительной синерг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Синергия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— это стратегические преимущества, которые возникают при соединении двух и более орга­низаций в рамках единой структур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5fcbef"/>
                </a:solidFill>
                <a:latin typeface="Trebuchet MS"/>
              </a:rPr>
              <a:t>Источники синергетического эффект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операционных расход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финансовых риск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эффективности менеджмент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лучшение конкурентной позиции на рынк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еличение прибыли в денежном выра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нижение потребности в инвестиция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1:05:37Z</dcterms:created>
  <dc:creator>И.В.</dc:creator>
  <dc:description/>
  <dc:language>en-US</dc:language>
  <cp:lastModifiedBy>Толя</cp:lastModifiedBy>
  <dcterms:modified xsi:type="dcterms:W3CDTF">2014-12-01T07:00:06Z</dcterms:modified>
  <cp:revision>12</cp:revision>
  <dc:subject/>
  <dc:title>Разработка стратегии на корпоративном уровне</dc:title>
</cp:coreProperties>
</file>