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4204-DBAA-4CD0-8B72-B2B5D0AD9B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1A24-B7B3-4CA9-AB16-70C43A13C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AEEE-0A43-4CFD-80A1-842C73BC91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901C-6734-4438-8C63-8FDCAE5D46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4F3A-296F-4073-8992-35EA8872A8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0182-33EA-4081-AC4B-F02FEA37BD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C5A0-BABA-40F8-AB75-06F8221E17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4C24-6278-4728-B3DB-C8915F460D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E570-0BD9-4891-A430-84BB111DC9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429A-D4EA-4E0D-B2D7-F2A534A647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9A13-954B-4C96-B7E7-6CFD8698CB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591A-C8A8-4CF4-8730-232CBA817D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3240-CEA9-4714-A911-AA770414C9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EFB1-F9DD-46F9-84D8-6453125106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E3A3-5AA6-418F-A029-6FE3F64AC2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27E-7EDF-485D-857F-F807175A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845-B5AB-4224-8B60-A9489B2E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1F9-4723-46E2-AE27-2007D436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DE6E-4464-43AD-B0E8-987E255F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A266-64D0-4721-9331-7BD8205A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1278-8B63-4590-A1C6-867B2CD2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ECE5-F7E7-4284-B9B7-B4CC692C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D199-83BE-422F-A1EB-399E6846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A967-8359-4EB2-8F6E-E00125FA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58C3-9758-442D-B1F0-368BE0A8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D498-E517-409F-B392-F08D5369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52B-E795-488F-9B80-5B8CD838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001A-F82B-4B83-9E76-A508921A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E675-2EDC-4A46-9339-2FA8AFE0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6013-589A-48C8-8E04-AAF30A0A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D74E-0419-4F76-9792-85C30143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6F43-8067-4C8B-B615-6F5BA442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0B191-B53A-4249-9970-A65CF9CB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7EE3A-68E8-4311-AD8D-F132A9BB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68E51-91F7-41D3-9258-0112460A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F522B-F712-4AC6-BBB6-5B596C96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D023A-B144-46FE-B1C9-3A7B0D90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C6E-CA2E-47D1-807F-AD3B9BE1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A50F9-02DF-465F-9425-7ADADF0D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65B18-A94E-4925-B65A-9AB08BAF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85F0D-8C3E-48B4-A031-7A2F537C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2CEA6-9908-4646-A866-75D86473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F0A8-62C1-4B0E-B943-E2F9B9EF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4C80-704F-433D-B5E0-07D5B1DF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5189F-DA48-4473-89FF-CC8C1EF9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8F2D9-DE95-48CE-AEF2-F9398E3F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5DF71-D9BC-461D-AB36-47CF600D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4324F-4D65-497B-AEC7-6BA43DC6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A8A-D168-4553-A6D0-53FE4344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75CDE-5956-4D53-BC76-4C674633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7485E-5DD9-40A0-9CA1-24012F2E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7D4D5-47F2-46AC-9B40-B18E847C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C3851-1BB2-4917-9E72-69F4D5EA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93B37-133D-4CDE-B218-03DEE395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4ADF4-DB02-4377-BDF3-29F67CDA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4D0F0-2F91-42D9-9305-2F58530B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CBE9C-0898-42BD-B7AE-DA2BC88F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E125-5622-4275-AF1E-DEFC8591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586-9FF1-44D9-A762-614461CC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F08-3B7F-4177-949F-0C6D424A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45A-5DC3-4EE0-ADB8-E19C2C54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BBC-C20F-4FCA-8762-51C80125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2EBB-7962-4968-9809-51B87597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C25A-F182-4811-8C56-D84E473FC44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A7BD-0B12-4607-9908-9C211A0EDA5D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DFC4-8105-4CC1-A97B-3F03CD2F3A4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A7F8-D1A2-425B-9626-CAFF2276BAD4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858E-897F-4993-AD40-5E3B0D8DD2C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A66E-1293-4B9E-BFAA-2B0AD6F6A6A4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ad84c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ad84c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8784c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4ea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eb5dd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d84c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ad84c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eb5d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ad84c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9B8B-04E1-48C3-A23B-EC141F881AA7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ad84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C54D-8032-4C5B-8A60-1E097F776F05}" type="slidenum">
              <a:rPr b="0" lang="ru-RU" sz="900" spc="-1" strike="noStrike">
                <a:solidFill>
                  <a:srgbClr val="ad84c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ad84c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Стратегический анализ внешней среды орга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Конкурентны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исследование структуры отрасли, оценка конкурентной позиции отдельных СБЕ дает возможность фирме выбрать оптимальную деловую стратегию, ориентированную на создание долгосрочных конкурентных преимущест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ad84c6"/>
                </a:solidFill>
                <a:latin typeface="Trebuchet MS"/>
              </a:rPr>
              <a:t>Модель пяти конкурентных сил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pic>
        <p:nvPicPr>
          <p:cNvPr id="247" name="Рисунок 3" descr="Q:\Инна\В Г У Э С\Лекции\Стратегический менеджмент - бакалавры\media\image3.jpeg"/>
          <p:cNvPicPr/>
          <p:nvPr/>
        </p:nvPicPr>
        <p:blipFill>
          <a:blip r:embed="rId1"/>
          <a:stretch/>
        </p:blipFill>
        <p:spPr>
          <a:xfrm>
            <a:off x="324000" y="1700280"/>
            <a:ext cx="7929360" cy="4929120"/>
          </a:xfrm>
          <a:prstGeom prst="rect">
            <a:avLst/>
          </a:prstGeom>
          <a:ln w="0">
            <a:noFill/>
          </a:ln>
        </p:spPr>
      </p:pic>
      <p:sp>
        <p:nvSpPr>
          <p:cNvPr id="24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ая конкуренция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71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соперничество среди основных конкуренто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Рисунок 3" descr="Q:\Инна\В Г У Э С\Лекции\Стратегический менеджмент - бакалавры\media\image4.jpeg"/>
          <p:cNvPicPr/>
          <p:nvPr/>
        </p:nvPicPr>
        <p:blipFill>
          <a:blip r:embed="rId1"/>
          <a:stretch/>
        </p:blipFill>
        <p:spPr>
          <a:xfrm>
            <a:off x="179280" y="2133720"/>
            <a:ext cx="7858080" cy="3714480"/>
          </a:xfrm>
          <a:prstGeom prst="rect">
            <a:avLst/>
          </a:prstGeom>
          <a:ln w="0">
            <a:noFill/>
          </a:ln>
        </p:spPr>
      </p:pic>
      <p:sp>
        <p:nvSpPr>
          <p:cNvPr id="252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Отраслевой 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экономических характеристик отраслевого окруж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ценка степени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явление движущих сил конкурен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ключевых факторов успех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ение о степени привлекательности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ad84c6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общие для всех предприя­тий отрасли управляемые переменные, реализация которых дает возможность улучшить конкурентные позиции предприятия в отрас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ИОКР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о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нансы и т.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ad84c6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Характеристика и цели анализа внешней сред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WOT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раслевой анализ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ифирменная диагности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785520"/>
            <a:ext cx="822960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ое назначение анализа внешней среды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выявить и уяснить возможности и угрозы, которые могут возникнуть для предприятия в будущем, с тем чтобы правильно определить стратегию и общую политику предприят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степени воздействия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 процессы, протекающие в рамках предприятия, выделяют две группы внешних факторов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даленного воздействия, представляющих макросфер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посредственного влияния ближнего окружения, или отраслевые факто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РЕ</a:t>
            </a:r>
            <a:r>
              <a:rPr b="1" lang="en-US" sz="3200" spc="-1" strike="noStrike" u="sng">
                <a:solidFill>
                  <a:srgbClr val="ad84c6"/>
                </a:solidFill>
                <a:uFillTx/>
                <a:latin typeface="Trebuchet MS"/>
              </a:rPr>
              <a:t>S</a:t>
            </a:r>
            <a:r>
              <a:rPr b="1" lang="ru-RU" sz="3200" spc="-1" strike="noStrike" u="sng">
                <a:solidFill>
                  <a:srgbClr val="ad84c6"/>
                </a:solidFill>
                <a:uFillTx/>
                <a:latin typeface="Trebuchet MS"/>
              </a:rPr>
              <a:t>Т-анализ</a:t>
            </a:r>
            <a:endParaRPr b="0" lang="en-US" sz="32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стоит в выявлении и оценке влияния факторов макросреды на результаты текущей и будущей деятельности предприят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Цель РЕ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Т-анализ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отслеживание (мониторинг) изменений макросреды по четырем узловым направлениям и выявление тенденций, событий, не подконтрольных предприятию, но оказывающих влияние на результаты принятых стратегических решен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571680" y="1165320"/>
          <a:ext cx="8072280" cy="5335560"/>
        </p:xfrm>
        <a:graphic>
          <a:graphicData uri="http://schemas.openxmlformats.org/drawingml/2006/table">
            <a:tbl>
              <a:tblPr/>
              <a:tblGrid>
                <a:gridCol w="4035240"/>
                <a:gridCol w="4037040"/>
              </a:tblGrid>
              <a:tr h="28080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5104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авительственная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стабиль­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законодатель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Государственное влияние на отрасли, включая долю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госсоб­стве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осударственное регулирова­ние конкуренции в отрас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Налоговая поли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щая характеристика эконо­мической ситуации (подъем, стабилизация, спад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урс национальной валюты 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рефинансир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нфля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ровен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безработиц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Цены на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энергоресурс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2560"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емографические изме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Изменение структуры доход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тношение к труду и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тдых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циальная мобильность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насе­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Активность потребите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.Государственная техническая,  поли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2. Значимые тенденц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родукты (скорость об­новления и освоения новых тех­нолог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Новые </a:t>
                      </a:r>
                      <a:r>
                        <a:rPr b="0" lang="ru-RU" sz="18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патен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ad84c6"/>
                </a:solidFill>
                <a:uFillTx/>
                <a:latin typeface="Trebuchet MS"/>
              </a:rPr>
              <a:t>SWOT</a:t>
            </a:r>
            <a:r>
              <a:rPr b="0" lang="ru-RU" sz="3600" spc="-1" strike="noStrike" u="sng">
                <a:solidFill>
                  <a:srgbClr val="ad84c6"/>
                </a:solidFill>
                <a:uFillTx/>
                <a:latin typeface="Trebuchet MS"/>
              </a:rPr>
              <a:t>-анализ</a:t>
            </a:r>
            <a:endParaRPr b="0" lang="en-US" sz="3600" spc="-1" strike="noStrike">
              <a:solidFill>
                <a:srgbClr val="ad84c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действенный инструмент оценки стратегического состояния организации на основе понимания ее внутренних сильных и слабых сторон и внешней среды, которая представляется в виде возможностей и угро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ает обобщенную оценку организационной среды, имеющую преимущественно качественный характер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ad84c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ильн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то, в чем она преуспела, ее от­личительные особенности, которые усиливают конкурентоспособность и дают фирме преимущества на рынке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лабые стороны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связаны в основном с отсутствием чего-то важного для функционирования фирмы или с тем, что у нее получается хуже в сравнении с прямыми конкурентам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Возмож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ужно рассматривать прежде всего с точки зрения рыночной привлекательности, которая может обеспечить максимальный рост прибыли фирмы и конкурентное преимущество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5d739a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Угроз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(опас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) — это определенные факторы внешней среды, которые могут отрицательно повлиять на благосостояние фирмы и препятствовать ее успешному развити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Q:\Инна\В Г У Э С\Лекции\Стратегический менеджмент - бакалавры\media\image1.jpeg"/>
          <p:cNvPicPr/>
          <p:nvPr/>
        </p:nvPicPr>
        <p:blipFill>
          <a:blip r:embed="rId1"/>
          <a:stretch/>
        </p:blipFill>
        <p:spPr>
          <a:xfrm>
            <a:off x="646200" y="281160"/>
            <a:ext cx="6218280" cy="63147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ad84c6"/>
                </a:solidFill>
                <a:latin typeface="Trebuchet MS"/>
              </a:rPr>
              <a:t>Матрица «вероятность усиления — интенсивность воздействия»</a:t>
            </a:r>
            <a:endParaRPr b="0" lang="en-US" sz="2900" spc="-1" strike="noStrike">
              <a:solidFill>
                <a:srgbClr val="ad84c6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0040" y="2071800"/>
          <a:ext cx="8072640" cy="4066920"/>
        </p:xfrm>
        <a:graphic>
          <a:graphicData uri="http://schemas.openxmlformats.org/drawingml/2006/table">
            <a:tbl>
              <a:tblPr/>
              <a:tblGrid>
                <a:gridCol w="2017800"/>
                <a:gridCol w="2019240"/>
                <a:gridCol w="2017800"/>
                <a:gridCol w="2017800"/>
              </a:tblGrid>
              <a:tr h="305280">
                <a:tc rowSpan="2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ейст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ятность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304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832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960"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r>
                        <a:rPr b="0" i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2:14:18Z</dcterms:created>
  <dc:creator>И.В.</dc:creator>
  <dc:description/>
  <dc:language>en-US</dc:language>
  <cp:lastModifiedBy>Толя</cp:lastModifiedBy>
  <dcterms:modified xsi:type="dcterms:W3CDTF">2014-12-01T07:05:45Z</dcterms:modified>
  <cp:revision>9</cp:revision>
  <dc:subject/>
  <dc:title>Theme 6</dc:title>
</cp:coreProperties>
</file>