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5D47-889C-4B91-9E3C-5B1D9FDFC8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8782-388B-48E3-880A-4E6BE76E69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73F1-B915-4C91-97FF-EAB4028436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6B1C-075A-4531-8DD7-AB5367691A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84F6-BB1B-49ED-948F-00A5E7077B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64D0-658B-43F5-BD16-B2C4414DC4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B4C8-9082-4B60-84DC-6137B56012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6FBC-55F3-438E-BDB0-246A0F85A3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F67E-840A-445D-96BE-859A941702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8015-F8B3-4B6D-B049-76115B8986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C383-2DF5-42A9-AD20-A996998A73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77F1-D79E-4518-A083-0302D8A253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4EF9-6036-471C-9DE6-812BEBFE58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4C9B-21FD-4701-8A89-7155E5295B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B17B-B43C-4940-8E74-157835D5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E153-EFF5-43C7-9440-B27CAFDD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A813-A5B3-4524-ADD4-E7DD4F48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2AA-8BD0-4D5B-AFE2-B4E177F4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8515-20E6-4F5C-BA99-44F6BB58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26F1-C07F-448F-A861-4B3D851A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7C1E-5CC0-468E-92B2-865353C4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6974-FA1A-478C-A299-F1751FA1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A6F2-9B77-4323-A8C0-99076093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6CD5-9647-465B-B368-66046F48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2EBA-1527-457B-8A87-892867EA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505E-44D7-43C9-AB42-00266854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4931-8B7C-45B1-92F2-0D55D249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5E6E-8949-42A5-BC1D-90DA88FC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E6CC-2ACD-43FC-853C-0D39483F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7BBD-DF41-4A48-8592-F8579425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09F7-F012-4537-A184-CF46273F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3E953-6114-4721-8F16-D781638C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74725-7034-4EE0-8CDD-6BFB5205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66C96-B8ED-4DC9-9C04-2EE2BB16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21DF0-CBEE-4AFC-9E84-BEEC451A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E0BA9-2053-4DFD-9D7E-126A146E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05DB-61AF-417D-A74D-22718AD8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2E1F5-9049-40CC-81A8-E67BCE9B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3D418-FAD5-4D21-BFEA-0F363772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FD750-7BBB-4AFB-BD3A-FBB5185B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4BA7F-8E15-4DEC-8522-B68047B1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1332F-4101-4730-892A-19A0AC58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F8D86-4171-4590-BB0D-1D96F8C7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F4D9B-6A9E-460E-BDC6-DF5DA9B9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96AA2-85D9-4701-82B7-88DA7C0D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C5A96-622E-4FE2-B881-C84361D6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16972-6B2B-45A0-B75E-B6CE0894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7B51-2E7F-43C5-9EA3-0CB9467B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E2F1E-33C1-4F89-852C-95E04661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67218-5709-4272-8485-5131BC78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E86CA-934B-429E-AC69-18F88A9B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0706C-76E0-44F8-BFE2-1CF250FF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291BE-B8BD-4F39-864D-8D21AB53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5BBBF-7FBC-444A-A62F-C87F9065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7E1F1-6C3D-4EB1-8A72-D5428404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95CAB-1D70-48E2-8FBA-5EDEEA17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F1ECF-408D-4EA5-A241-7460D53F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B5964-E867-4D7D-BA3F-1615F48A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62E-9CD5-47C9-9DC7-C9ABF8DA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209BE-9B5D-4B4E-A185-38849C8E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15E9F-709E-449A-B0C7-6C6B5072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E944D-BD47-45A2-B7F2-7B40CCBE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43CC1-8668-4B51-9F24-A93A1F3A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55E79-4638-4E30-9E5B-A22E9B05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6B57F-3420-4C8F-9F20-9BB71CC6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F6F22-ACE4-4C1F-9527-B4CECD76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3D1C9-554B-436B-940B-4970B961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1F191-B4D0-466C-B860-05495870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9D5B8-2417-4D10-9EC2-7A9D822F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1232-90B6-4148-8473-1B38B430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00DF1-6724-4A16-8869-D7ACA0CC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1FA4-A08A-486A-94EF-80F96CFF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38F1-0992-4550-B950-D561DBFB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D5B1-AF90-4CE1-848D-D2D92007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478D-5961-4D6A-AAAB-5C1ADBB075B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BE14-124E-4716-8CEB-433E9B90A20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B0A8-9F8B-4FBA-B20D-01B644AE353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E048-DDD8-4BBD-B943-A27482F4511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4674-E028-4420-B8F8-CD98BE42899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90c226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rebuchet MS"/>
              </a:rPr>
              <a:t>Стратегическое управление в системе менеджмента организаци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22027"/>
                </a:solidFill>
                <a:latin typeface="Trebuchet MS"/>
              </a:rPr>
              <a:t>Тема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748640" cy="20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Стратегическое управление на предприятии выражается в следующих пяти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rebuchet MS"/>
              </a:rPr>
              <a:t>функциях</a:t>
            </a: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28800" y="2428560"/>
            <a:ext cx="7686720" cy="38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ланирование стратеги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рганизация выполнения стратегических плано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Координация действий по реализации стратегических задач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Мотивация на достижение стратегических результато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Контроль за процессом выполнения стратеги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615080" cy="63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ущность стратегического управления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остоит в формировании и реализации стратегии развития организации на основе непрерывного контроля и оценки происходящих изменений в ее деятельности с целью поддержания способности к выживанию и эффективному функционированию в условиях нестабильной внешней среды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677000" cy="24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тратегическое управление предприятием включает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rebuchet MS"/>
              </a:rPr>
              <a:t>пять основных компонентов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, образующих следующую цепь перспективно-целевых решений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Видение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Сфера бизнеса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Миссия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Стратегии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Программы и планы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Процесс стратегического управл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Рисунок 2" descr="процесс стр упр 2.png"/>
          <p:cNvPicPr/>
          <p:nvPr/>
        </p:nvPicPr>
        <p:blipFill>
          <a:blip r:embed="rId1"/>
          <a:stretch/>
        </p:blipFill>
        <p:spPr>
          <a:xfrm>
            <a:off x="1039680" y="2000160"/>
            <a:ext cx="796140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Уровни стратегий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         и          </a:t>
            </a: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объекты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стратегического управления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рпоративный уровен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изнес-уровень (конкурентный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кциональный  уровен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приятие в цело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ое поле бизнес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кциональные сферы деятельност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90c226"/>
                </a:solidFill>
                <a:uFillTx/>
                <a:latin typeface="Trebuchet MS"/>
              </a:rPr>
              <a:t>План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85920" y="1268280"/>
            <a:ext cx="7400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посылки возникновения стратегического менеджмен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нятие стратегическ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равнение стратегического и оперативн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ущность стратегическ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цесс стратегического управления и его компонент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ровни стратегий и объекты стратегическ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rebuchet MS"/>
              </a:rPr>
              <a:t>Факторы-условия, определяющие актуальность стратегического управления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ост числа управленческих задач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сширением географических рамок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еятельности национальных экономи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озрастание роли высшего звена управл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силение нестабильности внешней сред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71360" y="228600"/>
            <a:ext cx="761508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тратегическое управление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—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роцесс разработки, принятия и реализации стратегических решений, центральным звеном которого является стратегический выбор, основанный на сопоставлении собственного ресурсного потенциала предприятия с возможностями и угрозами внешнего окруж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404280"/>
            <a:ext cx="754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тратегия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— это заранее спланированная реакция организации на изменение внешней среды, линия ее поведения, выбранная для достижения желаемого результат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801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равнение стратегического и оперативного управлен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000080" y="1600200"/>
          <a:ext cx="7686720" cy="4495680"/>
        </p:xfrm>
        <a:graphic>
          <a:graphicData uri="http://schemas.openxmlformats.org/drawingml/2006/table">
            <a:tbl>
              <a:tblPr/>
              <a:tblGrid>
                <a:gridCol w="2000160"/>
                <a:gridCol w="2643480"/>
                <a:gridCol w="304308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ое 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сси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назна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 товаров и услуг с целью получения дохода от их реализ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живание организации в долгосрочной перспективе посредством установления динамичного баланса с окружением, позволяющего решать проблемы заинтересованных в деятельности организации ли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дж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внутрь организации, поиск путей более эффективного использования ресурс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вовне организации, поиск новых возможностей в конкурентной борьбе, отслеживание и адаптация к изменениям в окружен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801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равнение стратегического и оперативного управлен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000080" y="1268280"/>
          <a:ext cx="7697880" cy="5145120"/>
        </p:xfrm>
        <a:graphic>
          <a:graphicData uri="http://schemas.openxmlformats.org/drawingml/2006/table">
            <a:tbl>
              <a:tblPr/>
              <a:tblGrid>
                <a:gridCol w="2000160"/>
                <a:gridCol w="2646360"/>
                <a:gridCol w="305136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2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 фактора вре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ация на краткосрочную и среднесрочную перспектив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ация на долгосрочную перспектив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 построения системы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 и организационные структуры, процедуры, техника и технолог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ди, системы информационного обеспечения, рын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ход к управлению персона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на работников как на ресурс организации, как на исполнителей отдельных работ и функц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на работников как на основу организации, ее главную ценность и источник ее благополуч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00080" y="22824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равнение стратегического и оперативного управлен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000080" y="2274840"/>
          <a:ext cx="7547040" cy="3079800"/>
        </p:xfrm>
        <a:graphic>
          <a:graphicData uri="http://schemas.openxmlformats.org/drawingml/2006/table">
            <a:tbl>
              <a:tblPr/>
              <a:tblGrid>
                <a:gridCol w="2357640"/>
                <a:gridCol w="2222280"/>
                <a:gridCol w="2967120"/>
              </a:tblGrid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эффективности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ность и рациональность использование производственного потенциа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евременность и точность реакция организации на новые запросы рынка и изменения в зависимости от изменения окру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615080" cy="617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Главная цель стратегического управления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— развитие потенциала и поддержание стратегической способности предприятия к выживанию и эффективному функционированию в ус­ловиях нестабильной внешней сред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08:53:50Z</dcterms:created>
  <dc:creator>User</dc:creator>
  <dc:description/>
  <dc:language>en-US</dc:language>
  <cp:lastModifiedBy>Толя</cp:lastModifiedBy>
  <dcterms:modified xsi:type="dcterms:W3CDTF">2014-12-01T06:54:10Z</dcterms:modified>
  <cp:revision>14</cp:revision>
  <dc:subject/>
  <dc:title>Theme 1</dc:title>
</cp:coreProperties>
</file>