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18ab3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576F-04EC-47ED-95D2-862CE0A9E3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D33D-DE4B-47CF-A660-B2460FC485F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78DD-B2CE-4EA1-8D6D-0EAFC96B48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5EE0-6BC3-4A49-A2CF-61FE8BEAB0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B4E6-67D7-42B7-A6F5-55B8907374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4E81-4AE2-4176-A8B8-A33A38B5FE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6411-AAF8-48CB-942E-DA0B97C800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A553-3EA1-4ED2-B40B-B512808823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9394-0114-49E3-9D22-A582DDF223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AAEF-8C31-49EE-8A77-558D91F754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B289-C27F-484B-B0FC-D9E146621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6503-2CA0-4FF5-BE94-12E02473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DEA4-4E59-42AE-B3A8-3511F3A32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2B47-465D-41F8-A44C-1B9C62E2D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DCC2-C6FB-4A58-BA1D-37A3933BB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670D-9623-4E51-AA13-024763DE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AFA1-572E-464C-B63C-C394A91B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841A-7CC0-485D-B9E5-33F046CA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6C4F-BECB-424F-8A37-B7A44CAE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1D1D-9DF9-4C9F-BD09-7637F177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BD9B-9A42-4961-84F1-0A7A125A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165A-B03A-45EF-854A-E72D0A77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EA30-3C18-40ED-8BC7-23126F03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E987-9853-463C-9CA3-8E37FBBA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7074-9325-4234-9160-E59788A0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1C0F-A9EE-454E-9B5B-705A6BB13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EC78-B8CE-403E-936A-D5BB8D9B0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022B6-A36C-4528-8437-CD42BAC5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37BD3-00EE-4F60-B4E1-1CC08C9C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FC1CE-FAF3-4A48-B764-6F8753FD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68A82-5843-4FF9-8A44-A5E4CBB4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B2DFD-3669-4671-9EE3-D7F084E3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66B9-9F48-4259-B78F-F39EC5CA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B9D47-9D06-469A-AB94-984BE199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3796A-AA0D-42EE-B9E8-2635CF6A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0BEB6-3BBE-43EF-BB3F-AEC8AC6F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04A56-2471-4EAE-B6D9-F32AC915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F19D8-2B1E-4CFF-A345-E8BECFD1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6CB54-8D6E-495C-8CE8-DF14678EA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238F7-7805-4CCA-B30C-0822AB9BF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9737A-6380-453B-9349-D5A57D320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516E3-86C5-41A1-816E-EB021F26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CC62B-066A-4494-874C-27D41561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8C04-8B72-4AE7-A2EE-E8A4B7F1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7156C-35BA-464A-B58F-C0CD8083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11B74-4779-489E-8DCA-126A6D56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9DD77-52DA-471B-AEF5-30FCFD2D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71167-1DEE-43B0-803E-F9F1B792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688F7-8A4B-46F2-BB95-25264B5B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6F679-79C0-4025-8A9F-1D959A1E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B8C4A-F6C6-4630-8A46-55B0DA2D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24EFB-46B1-42FF-864A-A872D2D3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65EEB-123E-4965-A26D-BA4117005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D0EE-BC9D-4838-83B7-21838063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4790-5F68-4729-8464-86DD71F0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5526-6102-4BF1-A20E-BB42C385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08D7-0A63-4F87-B87A-1943F665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38BB-EB41-4296-87F1-2A7637AB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18ab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18ab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a6b72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891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8abad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18ab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18ab3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18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9E69-2344-42EB-8E05-C57ACEEC90EA}" type="slidenum">
              <a:rPr b="0" lang="ru-RU" sz="900" spc="-1" strike="noStrike">
                <a:solidFill>
                  <a:srgbClr val="418ab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18ab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a6b72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891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8abad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18ab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418ab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18ab3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18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721C-33A4-42F8-860C-824BEB271583}" type="slidenum">
              <a:rPr b="0" lang="ru-RU" sz="900" spc="-1" strike="noStrike">
                <a:solidFill>
                  <a:srgbClr val="418ab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18ab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18ab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a6b72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891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8abad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18ab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abad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abad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18ab3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18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0893-ECAC-4C50-8E9E-C0553B87A9C3}" type="slidenum">
              <a:rPr b="0" lang="ru-RU" sz="900" spc="-1" strike="noStrike">
                <a:solidFill>
                  <a:srgbClr val="418ab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18ab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18ab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a6b72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891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8abad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18ab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abad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abad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18ab3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18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BE78-E255-42A9-9445-C19086D1CC66}" type="slidenum">
              <a:rPr b="0" lang="ru-RU" sz="900" spc="-1" strike="noStrike">
                <a:solidFill>
                  <a:srgbClr val="418ab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18ab3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Реализация страте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</a:rPr>
              <a:t>Тема 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418ab3"/>
                </a:solidFill>
                <a:uFillTx/>
                <a:latin typeface="Trebuchet MS"/>
              </a:rPr>
              <a:t>План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сновные стадии выполнения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ческие измен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ческий контрол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418ab3"/>
                </a:solidFill>
                <a:uFillTx/>
                <a:latin typeface="Trebuchet MS"/>
              </a:rPr>
              <a:t>Деятельность по реализации стратегии: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50560" y="1600200"/>
            <a:ext cx="8713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Мобилизация (3-6 мес.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План и проработка (6 мес.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Реализация преобразований (12-24 мес.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Новая стратегия предполагает новые критерии работы с клиентами, новые продукты, новые рабочие процессы, новые навыки, новые технологии и новую корпоративную культуру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79280" y="785520"/>
            <a:ext cx="878544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5e5e5e"/>
                </a:solidFill>
                <a:latin typeface="Trebuchet MS"/>
              </a:rPr>
              <a:t>Проведение необходимых изменений способствует тому, что на предприятии создаются условия, необходимые для осуществления выбранной стратегии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404040"/>
                </a:solidFill>
                <a:uFillTx/>
                <a:latin typeface="Trebuchet MS"/>
              </a:rPr>
              <a:t>Типы стратегических изменений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ундаментальные измене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дикальное преобразовани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меренное преобразовани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ычные изменен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18ab3"/>
                </a:solidFill>
                <a:latin typeface="Trebuchet MS"/>
              </a:rPr>
              <a:t>Последовательность внутренних изменений </a:t>
            </a:r>
            <a:r>
              <a:rPr b="0" lang="ru-RU" sz="3200" spc="-1" strike="noStrike">
                <a:solidFill>
                  <a:srgbClr val="418ab3"/>
                </a:solidFill>
                <a:latin typeface="Trebuchet MS"/>
              </a:rPr>
              <a:t>в </a:t>
            </a:r>
            <a:r>
              <a:rPr b="1" lang="ru-RU" sz="3200" spc="-1" strike="noStrike">
                <a:solidFill>
                  <a:srgbClr val="418ab3"/>
                </a:solidFill>
                <a:latin typeface="Trebuchet MS"/>
              </a:rPr>
              <a:t>организации</a:t>
            </a:r>
            <a:endParaRPr b="0" lang="en-US" sz="3200" spc="-1" strike="noStrike">
              <a:solidFill>
                <a:srgbClr val="418ab3"/>
              </a:solidFill>
              <a:latin typeface="Trebuchet MS"/>
            </a:endParaRPr>
          </a:p>
        </p:txBody>
      </p:sp>
      <p:pic>
        <p:nvPicPr>
          <p:cNvPr id="232" name="Picture 2" descr="Q:\Инна\В Г У Э С\Лекции\Стратегический менеджмент - бакалавры\media\image1.png"/>
          <p:cNvPicPr/>
          <p:nvPr/>
        </p:nvPicPr>
        <p:blipFill>
          <a:blip r:embed="rId1"/>
          <a:stretch/>
        </p:blipFill>
        <p:spPr>
          <a:xfrm>
            <a:off x="395280" y="2276640"/>
            <a:ext cx="8201160" cy="3429000"/>
          </a:xfrm>
          <a:prstGeom prst="rect">
            <a:avLst/>
          </a:prstGeom>
          <a:ln w="0">
            <a:noFill/>
          </a:ln>
        </p:spPr>
      </p:pic>
      <p:sp>
        <p:nvSpPr>
          <p:cNvPr id="233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78920" y="620280"/>
            <a:ext cx="8713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Организационная структура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Выбор той или иной организационной структуры зависит от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змер и степень разнообразия деятельности, присущие организа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географическое размещение организа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ехнолог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инамизм внешней сред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, реализуемая предприятием.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609120" y="620280"/>
            <a:ext cx="634860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404040"/>
                </a:solidFill>
                <a:uFillTx/>
                <a:latin typeface="Trebuchet MS"/>
              </a:rPr>
              <a:t>Структурные изменения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— это часть организационного процесса, относящегося к изменениям в системе распределения полномочий и ответственности, координации и интеграции деятельности подразделений фирмы, управленческой иерархии и степени централизации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79280" y="476280"/>
            <a:ext cx="87854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Организационная культура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Выделяют пять факторов, определяющих формирование и применение организационной культуры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ценности и убеждения высшего руководств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реакция руководства на критические ситуаци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отношение к работе и стиль поведения руководителей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ритериальная база поощрения сотрудников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ритерии отбора, назначения, продвижения и увольнения из организаци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3640" y="369360"/>
            <a:ext cx="6770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418ab3"/>
                </a:solidFill>
                <a:latin typeface="Trebuchet MS"/>
              </a:rPr>
              <a:t>Процесс приведения организационной культуры в соответствие со стратегией фирмы</a:t>
            </a:r>
            <a:endParaRPr b="0" lang="en-US" sz="29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тличительная особенность «великих компаний» — симбиоз деловой стратегии и корпоративной культур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2" name="Picture 2" descr="Q:\Инна\В Г У Э С\Лекции\Стратегический менеджмент - бакалавры\media\image7.png"/>
          <p:cNvPicPr/>
          <p:nvPr/>
        </p:nvPicPr>
        <p:blipFill>
          <a:blip r:embed="rId1"/>
          <a:stretch/>
        </p:blipFill>
        <p:spPr>
          <a:xfrm>
            <a:off x="304920" y="2146320"/>
            <a:ext cx="8321400" cy="2357280"/>
          </a:xfrm>
          <a:prstGeom prst="rect">
            <a:avLst/>
          </a:prstGeom>
          <a:ln w="0">
            <a:noFill/>
          </a:ln>
        </p:spPr>
      </p:pic>
      <p:sp>
        <p:nvSpPr>
          <p:cNvPr id="24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03:11:31Z</dcterms:created>
  <dc:creator>Инна</dc:creator>
  <dc:description/>
  <dc:language>en-US</dc:language>
  <cp:lastModifiedBy>Толя</cp:lastModifiedBy>
  <dcterms:modified xsi:type="dcterms:W3CDTF">2014-12-01T07:21:20Z</dcterms:modified>
  <cp:revision>12</cp:revision>
  <dc:subject/>
  <dc:title>Theme 9</dc:title>
</cp:coreProperties>
</file>