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A812-DAA1-4548-A921-EFB7D6482E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E0C6-1AE9-4E75-A18C-BE9DACCD2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хеме собраны почти все варианты  названий трех уровней распределенного приложения. Чтобы избежать путаницы, будем именовать уровни так: 1st tier, 2nd tier и 3rd tier, по причине краткости написания. Выбирать названия по другим критериям слишком сложно. 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BCD1-39F9-4638-ADE6-B096C65F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C441-1433-48A6-8411-B1157068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2F59-4197-4ADF-A954-D7FBD372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29C6-9F41-40D1-BF1D-3555D3F1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19DB-43AC-4974-B1DF-011C91D0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CDEB-247C-457F-A837-8E48D7EA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62E8-0DC1-400A-8EA8-464301E3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DF2C-4A86-48F3-A88C-B941D885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4499-9D25-433E-9D80-8C6D9415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0381-F3D9-4177-9513-970D8ED5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A230-D60F-4E72-9B40-867779F3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1FF1-3E62-4F02-986F-6AAF7253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447C-151C-48E8-8237-25F5739C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E6C2-700C-4201-924D-421D0B70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695B-FD5D-4F58-B315-B8453D18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DED0-762A-4517-9B51-E54C6F47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4F81-C9EE-4746-A72D-AF6551A7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1933-0D16-4613-BFB4-823A93C9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D315-E2C9-4A29-A27F-18F92B6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C726-8266-4EAD-95EF-6AEC322F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05EA-FD71-4CAB-91FB-BA7F6412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F710-ACFD-4B8E-BE35-E9B3AD67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4EDC-BFD8-4B9A-8EE7-5E056C4D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FA8B-9089-43A0-8053-26181A7C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E950-519F-40FF-BE0A-D78F8CBD97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982C-D6F6-49A8-9FA1-33C0C25879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дели клиент-серве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х уровневая модель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ая модель (идеальная и фактическая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ципы построения клиент серверных приложений при использовании двух- 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ой модели построения прилож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(идеальны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94172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Такой подход позволяет четко очертить границы уровня бизнес-логики и отличие 3-х уровневого подхода от 2-х уровневого (клиент-сер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net184_5"/>
          <p:cNvPicPr/>
          <p:nvPr/>
        </p:nvPicPr>
        <p:blipFill>
          <a:blip r:embed="rId1"/>
          <a:stretch/>
        </p:blipFill>
        <p:spPr>
          <a:xfrm>
            <a:off x="900000" y="1844640"/>
            <a:ext cx="6912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8360" y="3789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актике, мы имеем нечто подобное. По различным причинам бизнес-логика остается на 1st и 3rd tier. Это может быть оправдано, если не приведет к перегрузке уровня, на котором находится ненормированный код. И если этот код легко можно перенести в 2nd tier объекты. Например,  поместив бизнес-логику в хранимые процедуры в 3rd tier, мы можем получить большой выигрыш в производительности. Если же эти хранимые процедуры написаны в виде внешних модулей на высокоуровневом языке, то перенести их в 2nd tier будет несложно. А вот бизнес-логика на 1st tier распространена повсеместно (как уже упоминалось), и, обычно, связана с неудачной архите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net184_5"/>
          <p:cNvPicPr/>
          <p:nvPr/>
        </p:nvPicPr>
        <p:blipFill>
          <a:blip r:embed="rId1"/>
          <a:stretch/>
        </p:blipFill>
        <p:spPr>
          <a:xfrm>
            <a:off x="2484360" y="1557360"/>
            <a:ext cx="3745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х 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аждый уровень распределенного приложения может взаимодействовать только со смежным уровн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: 1st tier не должен иметь прямого доступа к 3rd tier и наоборот; 2nd и 3rd tiers не должны иметь прямого интерфейса с пользователем; обращение к источнику данных из 1st tier происходит только через объекты 2-nd t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ся сложная бизнес-логика находится в объектах 2nd tier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же упоминалось, это условие часто нарушается, снижая возможность масштабирования. Хотя подобные решения иногда оправд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заимодействие уровней организовано так, чтобы они могли взаимодействовать по сети, находясь физически на различных  компьютер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распределенная архитектура не зависит от способа развертывания (deployment) приложения - все уровни могут быть размещены физически как одном компьютере, так и на разных, в условиях заданной сетевой струк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ущности данных  независимы от способа их хранения,  уникально идентифицируемы по какому-либо ключу, и независимы от способа и места хранения других сущносте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, в частности, иногда означает отсутствие в некоторых таблицах связей по внешним ключам, что позволяет хранить группы таблиц, имеющих отношение к одной сущности, в разных базах данных. Однако тогда необходимо отслеживать целостность данных дополнительным кодом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Уровни клиент-серверной архит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upload.wikimedia.org/wikipedia/commons/thumb/5/51/Overview_of_a_three-tier_application_vectorVersion.svg/400px-Overview_of_a_three-tier_application_vectorVersion.svg.png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рхитектура клиент-сервер, совсем недавно считавшаяся сложной средой, постепенно превратилась в исключительно сложную среду. Почему? Благодаря ускоренному, переходу к использованию в конструкции систем клиент-сервер нескольких звень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ри разработке систем клиент-сервер используются только два звена - клиент и сервер. В двухзвенной системе большую часть логики программы разработчики помещают на системе клиента, используя сервер только для обслуживания данных. Этот тип конфигурации известен также, как модель "толстый клиент - тонкий серве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inet184_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81080" y="1600200"/>
            <a:ext cx="532944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84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ической архитектуре клиент-сервер, бизнес-логика может располагаться как на стороне  клиента, так и на сервере. В результате существует тенденция смешивания бизнес-логики с интерфейсом пользователя и/или со структурой Б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Хотя двухзвенные программы клиент-сервер просты в понимании, построении и обслуживании, эту модель невозможно масштабировать до уровня предприятия. Иными словами, двухзвенная архитектура не может обеспечивать работу тысяч пользователей с программами, установленными на предприятии, и в результате для этих целей применяются большие ЭВ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того чтобы обеспечить работу при столь больших вычислительных нагрузках, разработчики освоили применение трех- или многозвенной архитектуры. Это означает, что программа клиент- сервер распределяется по дополнительным процессорам или звеньям, обеспечивающих дополнительную вычислительную мощ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inet184_2"/>
          <p:cNvPicPr/>
          <p:nvPr/>
        </p:nvPicPr>
        <p:blipFill>
          <a:blip r:embed="rId1"/>
          <a:stretch/>
        </p:blipFill>
        <p:spPr>
          <a:xfrm>
            <a:off x="1295280" y="1752480"/>
            <a:ext cx="64803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хеме на предыдущем слайде собраны почти все варианты  названий трех уровней распределенного прилож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бы избежать путаницы, будем именовать уровни так: 1st tier, 2nd tier и 3rd tier, по причине краткости напис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бирать названия по другим критериям слишком слож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уровня (с позиции программирования) - это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хранение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обработка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представлени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я заключается в том, чтобы не смешивать эти три составляющ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вый подход - это просто хороший стиль программирования. Его можно применять при разработки практически любых приложе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изна же и идея распределенных приложений в том, чтобы иметь возможность распределить эти три уровня физически на различных компьютерах, а также возможность иметь несколько взаимозаменяемых вариантов каждого уровня.  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(идеальны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inet184_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66680" y="1828800"/>
            <a:ext cx="6782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ой подход позволяет четко очертить границы уровня бизнес-логики и отличие 3-х уровневого подхода от 2-х уровневого (клиент-сервер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stov Dmitrii</cp:lastModifiedBy>
  <dcterms:modified xsi:type="dcterms:W3CDTF">2013-02-27T03:33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