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E28-2448-44D7-AA89-DEC4AA80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14B-57B5-4452-BAC8-5004A4C5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BAB9-933C-47A9-AFA0-A048A730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AD8-E1F6-4D50-B098-7461209D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B20D-DA72-428F-B178-D2298C30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70FA-182E-455F-9337-0AE71159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0C03-E22A-4596-8428-0B961F5D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96CE-45EC-40DD-8669-F2CA5544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6052-334F-4117-A423-71B2E3BC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4BF9-B05D-4CAD-AC52-6226EC4D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B22E-82F3-4893-9846-C714E8BD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4E0-2784-41C3-9475-5B6C1D6C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DA98-2EBA-439C-82F3-627CA21F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E2A4-E4E5-41CF-AFF2-44D609EF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EFC5-FB9D-45B2-A950-DBE6F6FC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2848-79DC-4D90-ACA1-A428A9AE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8C7D-6DFF-402A-815C-57A5B405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C89-92A5-433E-A7F0-5BE36EE9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4F9-3496-46FA-8E21-E191E957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967-F39E-4B4C-8DA8-5135BB40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8114-2243-4DC6-B1CB-56CCA37F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A3C-8A7A-4F29-88A0-9C362140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8EF-167C-40D2-87A2-17660627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F95-9926-40E4-969E-A98CB402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936B-E4E1-4F67-B1BF-55408BBAF3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2518-6BF6-445F-BC3E-60C6205EEA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Архитектура 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чему клиент-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спользование решения клиент/сервер может заинтересовать вас в следующем случае: представьте, что вы ответственны за создание приложения, которое обращается к данным, постоянно находящимся в локальной сети или на файловом сервер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нутри вашего подразделения к этому приложению могут обратиться одновременно несколько пользователей, а со временем появляются и другие приложения для работы с этими данны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редположим, что эти данные представляют интерес и для других подразделений внутри вашей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пример в  некоторых подразделениях нашей компании  должны быть созданы дополнительные приложения. При этом, скорее всего, необходимо переместить данные на сервер для того, чтобы сделать их доступнее для всех пользовател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скольку это происходит на уровне организации, важно, чтобы используемое решение позволяло осуществить доступ к данным не только быстро, но и в необходимом для приложения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ледует отметить, что глобальная доступность данных приводит к появлению некоторых проблем. Самые важные из них  -  чрезмерная сетевая нагрузка и зaщита данны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приведенном примере показано что технологи клиент –сервер  обладает целым рядом преимущест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Допускает ведомственный доступ к данным, что позволяет подразделениям обрабатывать только ту часть данных, за которую они ответственны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доступ к данным способом, предложенным производителем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станавливает правила целостности данных для всей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"разделение труда" между клиентом и сервером (каждый выполняет задачи, для решения которых более приспособлен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ожет использовать улучшенные возможности целостности данных, обеспечиваемые большинством серверов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меньшает сетевую нагрузку, поскольку клиенту возвращаются подмножества данных, а не все таблицы, в случае локальных баз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ледует отметить, что использование технологии клиент-сервер не всегда оправда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азработчик должен провести полный анализ требований к системе для определения того, является ли технология клиент-сервер именно тем средством, которое необходимо для решения поставленных зада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роме того, следует учесть, что системы клиент/сервер весьма дорогостоящие. В эту стоимость входит программное обеспечение, операционная система, сервер базы данных и аппаратные средства, соответствующие программному обеспечению этого уровня. Не стоит забывать и о затратах пользователей работе с операционной системой и программным обеспечением базы данны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иен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ая функция компьютера-клиента ( или программы-клиента) состоит в выполнении приложения (интерфейса с пользователем и логики представления) и осуществлении связи с сервером, когда этого требует прилож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к следует уже из самого термина, главная функция компьютера-сервера заключается в обслуживании потребностей клиента. Термин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"Сервер"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спользуется для обозначения двух различных групп функций: файл-сервер и сервер баз данных (далее эти термины означают в зависимости от контекста либо программное обеспечение, реализующее указанные группы функций, либо компьютеры с этим программным обеспечением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айл-серверы не предназначены для выполнения операций с базами данных, их основная функция -разделение файлов между несколькими пользователями, т.е. обеспечение одновременного доступа многих пользователей к файлам на компьютере - файл-сервер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о чаще компьютер с сервером баз данных выделяется только для выполнения операций с базами данных. Связь с клиентом, анализ и выполнение запроса к базе данных, включая возврат клиенту результата запроса (набора строк из базы данных), управление одновременным доступом к базе данных многих пользователей, перенаправление запросов к другим серверам сети, выполнение реляционных операций, управление словарем-справочником данных и обеспечение защиты - таковы некоторые основные функции сервера баз данных. Одно из важных требований к серверу - это то, что операционная система, в среде которой размещен сервер баз данных, должна быть многозадачной (и, желательно, но не обязательно, многопользовательской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Back Office System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 недавних пор разрабатываемые прикладные системы (или приложения) были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нацелены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 решение основных потребностей бизнес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платежных документов и расчет заработной платы (Payroll)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счетов дебиторов (A/R) и кредиторов.(A/P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учетных документов (Inventory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заказов (Order Processing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ие системы называются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базовыми ("Back Office Systems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Основной функцией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х систем является хранение и ведение соответствующих запис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добные системы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используютс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о всех сферах деятельности, они могут быть приобретены на стороне и адаптированы к специфике конкретной организ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Front Office Applic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настоящее время возникла острая необходимость в прикладных системах, которые непосредственно способствуют успеху организации на рынке, ее доходности, росту продаж, анализу информацию и поддержке принятия решений, усовершенствованию продукции, автоматизации процессов производства и распределения и т.д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 системы можно назвать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системами взаимодействия с внешним миром ("Front Office Application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ни должны быстро разрабатываться, функционировать в разнородных сетевых средах, сочетать использование таких видов информации как аудио, видео, графику и текст, иметь доступ к изолированным источниками информации ("информационным островам"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ые вычисления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"распределенные вычисления"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(Distributing computing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часто используется для обозначения двух различных, хотя и взаимодополняющих концепций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база данных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менение этих концепций дает возможность организовать доступ к информации, хранящейся на нескольких машинах, для конечных пользователей, использующих различные средств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ая баз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Распределенная баз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набор баз данных, связанных между собой логически, но физически расположенных на нескольких машинах, входящих в одну компьютерную с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8000"/>
                </a:solidFill>
                <a:latin typeface="Arial"/>
              </a:rPr>
              <a:t>Важнейшие характеристик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распределенной базы данных таков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зрачность расположения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втономность узлов распределенной базы данных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(Site Autonomy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бработка распределенных запросов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распределенных транзакц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Характеристики распределенной базы данны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Прозрачность расположен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позволяет пользователям работать с базами данных, не зная ничего об их расположен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Автономность узлов распределенной базы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анных означает, что ведение каждой базы может происходить независимо от други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Распределенный запрос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такой запрос (SQL-предложение), в ходе выполнения которого происходит доступ к объектам (таблицам или представлениям) разных баз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полнении распределенных транзакций осуществляется 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согласованное управление (concurrency control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семи вовлеченными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Распределенная обработк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значает разные понятия для разных люд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cc00"/>
                </a:solidFill>
                <a:latin typeface="Arial"/>
              </a:rPr>
              <a:t>Например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Oracle это отделение прикладных программ от выполнения операций с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перации с базами данных носят общий характер и могут соответствовать требованиям различных приложений по обработке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операций с базами данных на одной машине и приложений на другой - это и есть 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вязь между приложением и процессами выполнения операций с базами данных реализуется как аппаратурой, так и путем программного обеспеч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Технология клиент-сервер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является реализацией распределенной обработк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Типичная архитектура клиент/сервер состоит из 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программы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клиента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онечного пользователя, которая имеет доступ  на удаленном компьютере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сервере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Это разделение процессов обработки данных основано на группировании функц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Не существует никакого стандартного определения, что такое клиент и чем занимается сервер. Однако можно полагать, что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обеспечивает сервис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лиент запрашивает сервис у сервер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 одному и тому же серверу может обращаться множество клиентов с требованием предоставить им какой-либо сервис, и именно сервер решает, как обработать такие запрос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среде клиент-сервер последний играет намного большую роль, чем просто распределитель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актически сервер выполняет основную часть работы системы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 в некоторой мере руководит клиентом, каким образом тот должен получать доступ и управлять данны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еально клиентские приложения предназначены только для предоставления данных пользователю или для их доставки от конечного пользовател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7-06T02:26:5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