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1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Контроль за сроками исполнения документ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Проверка хода исполнения  документов осуществляется обычно в следующие сроки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296800"/>
            <a:ext cx="822960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ния последующих лет - не реже одного раза в год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ния последующих месяцев текущего года - не реже одного раза в месяц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ния текущего месяца - каждые 10 дней и за 5 дней до истечения срока исполн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Этапы снятия документов с контроля: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744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ятие руководителем решения о снятии документа с контроля и передача распоряжения об этом службе ДОУ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ановки отметки об исполнении в РКК (регистрационно-контрольную карточку) и на документе информирования контрольной службы организации об исполнении документа, находящегося на централизованном контрол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становка РКК из контрольной картотеки (раздела) в справочную карточку (раздел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шивка документа, имеющего отметку об исполнении, в дел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Причины  неисполнения документов в срок: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34784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ишком высокая степень централизации полномоч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грузка исполнителей и руководителей разного уровн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дисциплинированность сотрудников и подведомственных организац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достаточные сроки для качественного испол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рациональная система документооборо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достаток технических средств оформления и тиражирования документов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2520"/>
            <a:ext cx="82296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числите основные задачи, решаемые в процессе контроля сроков исполнения докумен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то осуществляет контроль сроков исполнения документов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овите уровни, на которых ведется контроль сроков исполнения докумен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числите технологии контрольных операц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ятие документов с контро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общение, анализ и использование данных об исполнении докум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знецов И. Н. Делопроизводство: учебно-справочное пособие / И. Н. Кузнецов. - 3-е изд., перераб. и доп. - М. : Дашков и К*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2007. - 2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работы с документами. Учебник для вузов. Под ред. В.А. Кудряева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8.    Спивак В.А. Делопроизводство. – СПб.: Питер: 2008. – 208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9.    Стенюков М.В. Делопроизводство: Конспект лекций. – М.: ПРИОР: 2008. – 12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0.  Стенюков М.В. Документы. Делопроизводство. Практическое по­собие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1.   Хрестоматия по документоведению. В 3-х частях.  Ч. 3 Сост. Н.А. Царева. Владивосток: изд-во ВГУЭС, 200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2.   ГОСТ Р51141-98 Делопроизводство и архивное дело: Термины и определения.– М.: Издательство стандартов, 199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F968-9A08-445C-92C9-154F510EE20F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72A5-58FE-42DD-AE9B-ADB4B791E8F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924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9824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Arial"/>
              </a:rPr>
              <a:t>Цель контроля</a:t>
            </a: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— содействие своевременному и качественному исполнению решений и заданий руководства предприятия или структурного подразделен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Этапы контроль за исполнением документов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ановку документов на контро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ку своевременности доведения документов до исполнителе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варительную проверку и регулирование хода исполн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т и обобщение результатов контроля исполнения докумен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направления контрольной деятельности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041560"/>
            <a:ext cx="82296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контроль за исполнением документов по существу поставленных в них вопро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контроль за сроками исполнения документов и  за соответствием формы создаваемых документов их содержан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Задачи контроля за исполнением документов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76356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ановка документа на контрол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варительная проверка и регулирование хода исполнения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ятие их с контрол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равление исполненного документа в дел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т, обобщение и анализ хода и результатов исполнения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ирование руководителей о результатах обобщения данных в целях своевременного и качественного исполнения поручений, зафиксированных в документа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ка предложений по ускорению документопотоков и укреплению исполнительской дисципл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Уровни контроля за исполнением документов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932120"/>
            <a:ext cx="82296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своевременности исполнения поручений и докум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соответствия формы создаваемых документов их содержани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соответствия применяемых унифицированных форм и бланков действующим нормативам и образца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соответствия уровня и формы подтверждения каждого документа, соответствия подписей их расшифровка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соответствия всех экземпляров на идентичнос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, включающий анализ существа и полноты исполнения поручений, заданий, ответов на запрос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Сроки исполнения документов: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369880"/>
            <a:ext cx="8229600" cy="37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ипов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ндивидуаль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слов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Задачи текущего контроля: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ановка документов на контро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ние картотеки контролируемых докуме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авление карточки контролируемого документа исполнителю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ормирование исполнителя о сроке исполнения докумен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2:10:35Z</dcterms:modified>
  <cp:revision>138</cp:revision>
  <dc:subject/>
  <dc:title>Lecture Template </dc:title>
</cp:coreProperties>
</file>