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3741"/>
            </a:gs>
            <a:gs pos="100000">
              <a:srgbClr val="230fa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Untitled-1"/>
          <p:cNvPicPr/>
          <p:nvPr/>
        </p:nvPicPr>
        <p:blipFill>
          <a:blip r:embed="rId2"/>
          <a:stretch/>
        </p:blipFill>
        <p:spPr>
          <a:xfrm>
            <a:off x="7940520" y="6381720"/>
            <a:ext cx="879480" cy="41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"/>
          <p:cNvSpPr/>
          <p:nvPr/>
        </p:nvSpPr>
        <p:spPr>
          <a:xfrm>
            <a:off x="324000" y="2333520"/>
            <a:ext cx="8496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Лекция 12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Text Box 8"/>
          <p:cNvSpPr/>
          <p:nvPr/>
        </p:nvSpPr>
        <p:spPr>
          <a:xfrm>
            <a:off x="324000" y="549360"/>
            <a:ext cx="8496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федр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ПД Институт права и управл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ссистент С.С.Никифоро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Прямоугольник 4"/>
          <p:cNvSpPr/>
          <p:nvPr/>
        </p:nvSpPr>
        <p:spPr>
          <a:xfrm>
            <a:off x="592200" y="3105000"/>
            <a:ext cx="7740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000"/>
                </a:solidFill>
                <a:latin typeface="Arial"/>
              </a:rPr>
              <a:t>Организация делопроизводства по обращениям гражда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c000"/>
                </a:solidFill>
                <a:latin typeface="Arial"/>
              </a:rPr>
              <a:t>Подготовка обращений к сдаче в архив включает в себя: </a:t>
            </a: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2406600"/>
            <a:ext cx="8229600" cy="37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оформление дел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роведение экспертизы ценности документов;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составление описей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Вопросы для самопроверки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 Законодательные акты, регламентирующие работу с обращениями граждан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 Характеристика технологии работы с обращениями граждан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. Назовите основные задачи службы ДОУ по организации работы с обращениями гражда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Рекомендуемая литература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164960"/>
            <a:ext cx="8229600" cy="56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.   Делопроизводство (Организация и технологии документационного обеспечения управления): Учебник для студ. вузов / Т.В. Кузнецова, Л.В. Санкина, Т.А. Быкова и др.; Под ред. Т.В. Кузнецовой.—М.: ЮНИТИ-ДАНА: 2007.—359с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2.    Делопроизводство: Учебник для студ. вузов, обуч. по спец. 350800 «Документоведение и докум. обеспечение управления» / Г.Ю. Максимович, Т.А. Быкова, Л.М. Вялова, Л.В. Санкина; Под ред. Т.В. Кузнецовой. – М.: Изд-во МЦФЭР: 2008. – 544с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Белов А.А., Белов А.Н. Делопроизводство и документооборот. – М.: Кн. мир: 2008.– 340 с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ирсанова М.В. Курс делопроизводства : Документационное обеспечение управления / М. В. Кирсанова, Ю. М. Аксенов ; Новосиб. гос. ун-т экономики и управления, Администрация Президента РФ, Сиб. акад. гос. службы. - 6-е изд.,испр. и доп. - М. ; Новосибирск : ИНФРА-М : Сиб. соглашение,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2008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. - 367 с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узнецов И. Н.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елопроизводство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: учебно-справочное пособие / И. Н. Кузнецов. - 3-е изд., перераб. и доп. - М. : Дашков и К*,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2007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. - 520 с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Рогожин М.Ю. Делопроизводство / М. Ю. Рогожин. - М. : ИндексМедиа,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2007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. - 240 с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7.    Организация работы с документами. Учебник для вузов. Под ред. В.А. Кудряева. – М., 2001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8.   Федеральный закон «О порядке рассмотрения обращений граждан РФ» от 02 мая 2006 № 59-ФЗ // Собрание законодательства РФ. – 2006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3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39199-CE8C-4578-8DC3-2BF813FA1300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324000" y="3860640"/>
            <a:ext cx="84960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спользование материалов презента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324000" y="10540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3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Содержан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Text Box 4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6DCCA-60B6-442F-B177-DC982E242531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324000" y="10540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ебный материа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просы для самопровер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комендуемая литерату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000"/>
                </a:solidFill>
                <a:latin typeface="Arial"/>
              </a:rPr>
              <a:t>Обращение гражданина </a:t>
            </a: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2114280"/>
            <a:ext cx="8229600" cy="40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направленные в государственный орган, орган местного самоуправления или должностному лицу письменные предложение, заявление или жалоба, а также устное обращение гражданина в государственный орган, орган местного самоуправле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Стрелка вниз 3"/>
          <p:cNvSpPr/>
          <p:nvPr/>
        </p:nvSpPr>
        <p:spPr>
          <a:xfrm>
            <a:off x="3878280" y="1311120"/>
            <a:ext cx="1606680" cy="5842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5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c000"/>
                </a:solidFill>
                <a:latin typeface="Arial"/>
              </a:rPr>
              <a:t>Виды обращений граждан: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544320"/>
            <a:ext cx="8229600" cy="63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редложение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- рекомендация гражданина по совершенствованию законов и иных нормативных правовых актов, деятельности государственных органов и органов местного самоуправления, развитию общественных отношений, улучшению социально-экономической и иных сфер деятельности государства и обществ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Заявление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- просьба гражданина о содействии в реализации его конституционных прав и свобод или конституционных прав и свобод других лиц, либо сообщение о нарушении законов и иных нормативных правовых актов, недостатках в работе государственных органов, органов местного самоуправления и должностных лиц, либо критика деятельности указанных органов и должностных лиц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Жалоба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- просьба гражданина о восстановлении или защите его нарушенных прав, свобод или законных интересов либо прав, свобод или законных интересов других лиц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Ходатайство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 письменное обращение гражданина с просьбой о признании за ним определенного статуса, прав, гарантий и льгот с предоставлением документов, их подтверждающих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оллективные обращения</a:t>
            </a: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 обращения двух или более граждан в письменном виде, содержащее частный интерес, либо обращение, принятое на митинге, собрании и подписанное организаторами и участниками собрания, имеющего общественный характер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етиции</a:t>
            </a: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— коллективные обращения граждан в органы власти города о необходимости проведения общественных реформ или частичного изменения городского законодательств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Работа с обращениями граждан и ее законодательное регулирование прошли эволюционный путь становления и развития  делопроизводства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96812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IV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V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в.в. – период складывания русского централизованного государства. Вместе с созданием государственных учреждений появились письменные обращения в них частных лиц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V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I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в.в. –  документы этого вида получили название «челобитная». Они поступали в приказы и приказные избы от служилых людей, крестьян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VIII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в. – челобитные не изменили своего названия, но существенно изменилась форма их написани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1802 г. просительские документы составлялись в виде прошений, жалоб, отзыв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законодательное регулирование  после 1917 г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727200"/>
            <a:ext cx="8229600" cy="59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Революция 1917 г. уничтожила такие документы, как прошение, рескрипт, донос. Появляются новые документы, такие, как декрет, заявление. Заявление в корне меняет смысл обращения, оно выражает право «заявлять», а не «покорнейше просить»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остановление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VI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Всероссийского Чрезвычайного съезда Советов «О точном соблюдении законов» от 8 ноября 1918, провозгласившее право каждого гражданина обжаловать действия любого должностного лица, волокиту или иные ущемления их законных требований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 мае 1919 г. Наркоматом государственного контроля было издано два постановления («О центральном Бюро жалоб и заявлений при НК РКИ и «О местных отделениях Центрального Бюро жалоб и заявлений»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Декрет СНК РСФСР «Об устранении волокиты» от 30 декабря 1919 г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остановления ВЦИК СССР и РСФСР «О рассмотрении жалоб трудящихся и принятии по ним необходимых мер» от 13 апреля 1933 г., «Об упорядочении дела рассмотрения и разрешения жалоб» от 1 июля 1934 г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1968 г. Указ высшего законодательного органа Президиума Верховного Совета СССР «О порядке рассмотрения предложений, заявлений и жалоб граждан». ( с изм. 04.03.1980)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13 октября 1981г. Постановление «О порядке ведения делопроизводства по предложениям, заявлениям и жалобам граждан в государственных органах, на предприятиях, в учреждениях и организациях»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Законы «О порядке обжалования в суд не правомерных действий должностных лиц, ущемляющих права граждан» от 30 июня 1987 г., а также «Об обжаловании в суд действий и решений, нарушающие права и свободы граждан» от 24 апреля 1993 г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ФЗ «О порядке рассмотрения обращений граждан Российской Федерации» от 02.05.2006 № 59-ФЗ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Технология работы с обращениями граждан требует организации: </a:t>
            </a:r>
            <a:br>
              <a:rPr sz="2400"/>
            </a:b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238040"/>
            <a:ext cx="82296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ема граждан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ема и первичной обработки письменных обращений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егистрации обращений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правления обращений на рассмотрение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ведомления заявителя о направлении обращения в другие учреждения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ведомления заявителя о длительном расследовании обращения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онтроля сроков исполнения документов и выполнением принятых по ним решений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нформационно-справочной работы по обращениям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звещения заявителя о вынесенных решениях с одновременным, в случае необходимости, направлением решений для исполнения в соответствующие органы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руппировки в дела и текущего хранения обращений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нализа поступивших обращени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Arial"/>
              </a:rPr>
              <a:t>Повторным считается обращение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ступившее от одного и того же лица по одному и тому же вопросу, если со времени подачи первого предложения (заявления, жалобы) истек установленный законодательством срок их рассмотрения или заявитель не был удовлетворен ответом, сделанным по первому обращению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Arial"/>
              </a:rPr>
              <a:t>Сроки исполнения обращений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420560"/>
            <a:ext cx="82296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становлен в качестве максимального </a:t>
            </a:r>
            <a:r>
              <a:rPr b="0" lang="ru-RU" sz="2000" spc="-1" strike="noStrike">
                <a:solidFill>
                  <a:srgbClr val="ffc000"/>
                </a:solidFill>
                <a:latin typeface="Arial"/>
              </a:rPr>
              <a:t>месячный срок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зрешения жалоб, заявлений и предложений во всех органах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аявления и жалобы, не требующие дополнительного изучения и проверки, разрешаются безотлагательно, но не позднее </a:t>
            </a:r>
            <a:r>
              <a:rPr b="0" lang="ru-RU" sz="2000" spc="-1" strike="noStrike">
                <a:solidFill>
                  <a:srgbClr val="ffc000"/>
                </a:solidFill>
                <a:latin typeface="Arial"/>
              </a:rPr>
              <a:t>15 дней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со дня поступлени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тех случаях, когда для принятия решений по жалобе или заявлению необходимо проведение специальной проверки и истребования дополнительных материалов, разрешено в порядке исключения продлить срок подготовки ответа </a:t>
            </a:r>
            <a:r>
              <a:rPr b="0" lang="ru-RU" sz="2000" spc="-1" strike="noStrike">
                <a:solidFill>
                  <a:srgbClr val="ffc000"/>
                </a:solidFill>
                <a:latin typeface="Arial"/>
              </a:rPr>
              <a:t>не более чем на один месяц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сообщив об этом лицу, подавшему заявление или жалоб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ля разрешения заявлений и жалоб военнослужащих и членов их семей были установлены более короткие сроки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в центральных органах власти и управления - до 15 дней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в местных органах власти, на предприятиях и в учреждениях - безотлагательно, но не позднее. 7 дн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/>
  <dc:language>en-US</dc:language>
  <cp:lastModifiedBy>Loner-XP</cp:lastModifiedBy>
  <dcterms:modified xsi:type="dcterms:W3CDTF">2010-05-14T01:36:04Z</dcterms:modified>
  <cp:revision>137</cp:revision>
  <dc:subject/>
  <dc:title>Lecture Template </dc:title>
</cp:coreProperties>
</file>