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Становление и развитие делопроизводства в советских государственных учреждениях (1917-1950-е годы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ационализация делопроизводства основывалась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окращении инстанций прохождения докумен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едрении однократной регистрации докумен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делении нерегистрируемых документо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ке и внедрении трафаретных фор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Бюро стандартизации при ВСНХ СССР занималось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ей документооборот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рабатывала формы документов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чатало бланки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готавливало канцелярскую мебе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1925 г. создание Акционерного общества — Государственного бюро организационного строительства (Оргстрой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 Оргстроя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организации и постановки в учреждениях и на предприятиях делопроизводства и архи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отки проектов организационных структур учреждений и их подразделен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дания бланков и форм доку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дания инструкций и руководст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набжения учреждений и предприятий усовершен­ствованным канцелярским оборудованием, мебелью, пишущими и счетными машина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и курсов по подготовке практических работников— делопроизводителей и др.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формирования широких слоев работников управ­ления и производства о новейших теоретических достижениях, рационализации, о новинках конструк­торских и технических разработок в сфере управле­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926 г. – Создание государственного института техники управления (ИТУ).</a:t>
            </a:r>
            <a:br>
              <a:rPr sz="2800"/>
            </a:b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ая разработка вопросов техники упра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и обобщение работы в советских учреждениях по упрощению и механизации вопросов техники управления и организации работы с документа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уществление консультационной и популяризаторской деятельност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Методы обследования делопроизводства, предложенные ИТУ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посредственное наблюден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ос (интервьюирование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кетир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тограф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фотография рабочего дн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онометраж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880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98520"/>
            <a:ext cx="8229600" cy="61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28 г.- ИТУ совместно с Центрархивом РСФСР подготовил «Правила постановки архивной части дело­производства в государственных, профессиональных и кооперативных учреждениях и предприятиях РСФСР», в которых давались рекомендации по составлению перечней документов и дел, циркулирующих в учреждениях, и правила их уничтожения (для документов с истекшими сроками хран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31 году издан проект «Общих правил документации и документооборота». В Общие правила вошли требования к оформлению документов, правила их обработки от получения до передачи в архив, единые принципы организации делопроизводственных служб, их функции, должностные обязанности канцелярских работ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"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Общие правила …" содержали следующие разделы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рганизация документации и документооборот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секретариат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бязанности конторско-секретарского персонал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приема корреспонденции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Прием, проверка, вскрытие и отметки о получении корреспонденции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Разноска корреспонденции в учреждении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отправки корреспонденц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Конституция 1936 г.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законодательно закреплены виды документов, издаваемые конкретными органами власти и управлени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ший законодательный орган — Верховный Совет СССР — издавал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о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идиум Верховного Совета СССР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казы и постановл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родные комиссары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 и инстру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Местные Советы депутатов трудящихся и их исполкомы принимал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ешения и распоряж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альники управлений и отделов исполкомов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 и инстру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и организаций, учреждений и предприятий, действующих на основе единоначалия,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июнь 1941 г. - 1 Межотраслевое совещании по оргтехнике.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ограмма совещания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3212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организационно-методического центра для руководства постановкой делопроизвод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у положения (статуса) о делопроизводстве для всех в качестве общеобязательных нор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у положения о кадрах канцелярских работ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ханизацию труда канцелярских работ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фикацию и трафаретизацию служебной документ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единого учебного центра для подготовки и переподготовки кадр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в школах правил составления служебных докумен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ку и переподготовку преподавателей кадров по служебной документ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Всесоюзного института по вопросам делопроизв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 1940-е гг. методическое руководство и контроль за организацией делопроизводства в советских учреждениях  осуществляет -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Главное архивное управление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43 г.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ек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лавного архивного управлени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Инструкции по постановке документальной части и охране документальных материалов в текущем делопроизводстве учреждений, организаций и предприятий СССР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Инструкция включала треб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оформлению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х учету (регистраци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ядок исполнения и контроля исполнения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ю (классификацию и систематизацию) документов в делопроизводств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ю архива и правила сдачи документов в архив учреж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первые декреты советской в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а государственных учреждений в России после событий октября 191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ыт рационализации делопроизводства в отдельных ведомствах во второй половин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– начал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новление НОТ и её влияние на делопроизводство 1920-1930-х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органов рабоче-крестьянской инспекции по рационализации делопроизводства. Институт техники управления, его научно-методическая и прак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2198-0387-4BA3-9458-76942D5EF5E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кова А.Н. Пути воздействия государства на работу с документами в негосударственной сфере экономики // Делопроизводство. 2002.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88F5-FA9B-44F7-9651-2C4426DAEF3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Структура государственного аппарата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89540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сшим орган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государственной власти стал Всероссийский съезд Советов, в период между его съездами избирался Всероссийский Центральный Исполнительный комитет (ВЦИК) - орган, выполняющий функции законодательной и исполнительной вла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управления страной было сформировано правительство - Совет Народных Комисса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уководства отраслями государственного управления были созданы 13 Народных комиссариатов (наркоматов), органами государственной власти на местах — губернские и уездные Советы, а органами государственного управления — их исполнительные комитеты (исполком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авовые акты советского периода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СНК «О порядке утверждения и опубликования законов» от 30 октября 1917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ление «О форме бланков государственных учреждений» от 02 марта 191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СНК «О времени вступления в силу Узаконений и распоряжений правительства» от 18 ноября 1918 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ление Совета Рабочей и Крестьянской Обороны «О точном и быстром исполнении распоряжений центральной власти и устранении канцелярской волокиты» от 08 декабря 191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декрета «Об упрощении делопроиз­водства и переписки в советских учреждениях», подготовленный в декабре 191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ВЦИК  «О порядке пользования печатями с государственным гербом» от 06 июля1922 г.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«Об изменении постановления о праве пользования печатями с государственным гербом» от 192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Начало 1920-х гг. - время развития движения за научную организацию труда (НОТ), частью которого стала научная организация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управленческого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труда (НОУТ)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552760"/>
            <a:ext cx="82296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жение предполагало создать условия, при которых организация производства и управления будет построена на рациональных началах и научных рекомендац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1920-1930-е годы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издание многочисленных журналов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управ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ы организации и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стема и орган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тру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1920-1930- е год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издание литературы по вопросам делопроизводст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орзенко Б.К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ое в организации канцелярии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зов Л. А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ти рационализации учреждений: Методологические очерки. М., 192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асильев М.И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следование и реорганизация предприятий и учреждений. М., 192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ерховской П.В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опроизводство госучреждений. М.; Л., 1929;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олубев С.Н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а и документация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резен З.К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ы оперативного делопроизвод­ства. М., 1923;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айзельс Р. С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делопроизводства и канцелярия. М., 1923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ейльман В.И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ство по делопроизводству учреждений и предприятий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ефедов Г.А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нцелярское дело. М.; Л., 192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XII съезда РКП (б) - создание объединенного партийно-советского органа ЦККРКИ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Отдел административной техники ЦККР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ал государственный аппарат с использованием хронометража, анкетир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ультировал по улучшению деятельности органов управления на мест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азывал методическую помощ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Arial"/>
              </a:rPr>
              <a:t>Благодаря деятельности РКИ в стране в 1920 годы сложилась система научно-исследовательских, хозрасчетных, ведомственных и общественных организаций, разрабатывающих вопросы научной организации управления на единой методической основе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667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о создано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Управление по улучшению госаппарата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ое осуществляло руководство движением НОТ в стране. Координация работы по НОТ была возложена на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Совет по научной организации труда (Совнот)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ный при коллегии НК РКИ в 1923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ь методического центра по руководству рационализацией делопроизводства выполнял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Отдел административной техники (АТО при НК РКИ СССР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, в деятельности которого наметились два направл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ка и внедрение в практику после опытных проверок типовых систем делопроизводства, пред­назначенных для определенного типа учреждений. Особое внимание уделялось введению карточной регистрации документов, контролю их исполнения, организации справочной работы, текущего хранения документ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постоянных органов рационализации в различных учреждениях. Они были созданы на многих предприятиях и практически во всех крупных учреждениях в виде бюро (сектора, ячейки и др.) НОТ. Их обобщенное название —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ведомственные органы рационализаци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Такие структуры занимались разработкой и внедрением рациональных систем управления для "своих" наркоматов как в центральных аппаратах, так и в подведомственных учреждения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и созданы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и вневедомственные рационализаторские структуры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занимавшиеся вопросами управления: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Клуб работников административного дела, Объединение работников учета, Ассоциация работников управленческого дела и др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Они создавались как общественные организации, но объединяли профессионалов, которые обладали опытом практической работы и могли предложить достаточно рациональные меры по совершенствованию того или иного участка рабо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тране начинают действовать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научные учреждени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В 1921 г. создается Таганрогский институт научной организации производства, затем Казанский институт научной организации труда (КИНОТ). Научно-практические разработки этих институтов в области управления, производства и делопроизводства способствовали оптимизации работы советских учрежден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07T05:30:36Z</dcterms:modified>
  <cp:revision>145</cp:revision>
  <dc:subject/>
  <dc:title>Lecture Template </dc:title>
</cp:coreProperties>
</file>