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6-7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Документационное обеспечение – основа технологии управления. Организация службы ДО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Задачи службы ДОУ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1286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вершенствование форм и методов работы с документ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еспечение единого порядка документирования, организации работы с документам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роения информационно-поисковых систем, контроля исполнения и подготовки документов к передаче в архив в соответствии с действующими норматив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кращение документооборо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нификацию форм докум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работку и внедрение нормативных и методических документов по совершенствованию документационного обеспечения управления в организации, ее структурных подразделения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недрение новейших информационных технологий в работу с документ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40" y="32508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виды работ выполняемые службой ДОУ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11428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ехнологические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рганизационные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етодические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нтрольны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технологические функции службы ДОУ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уществление первоначальной (экспедиционной) обработки входящих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истрация входящих, исходящих и внутренних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дение информационно-справочной работы по документам организ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шинописное изготовление документов (набор текста на компьютере); копирование, тиражирование и оперативное размножение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ка и проектирование бланков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а документов к отправ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организационные функции службы ДОУ: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готовка к докладу руководству поступающих документ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я своевременного рассмотрения документов руководством организаци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гулирование хода исполнения документов, прохождения и исполнения документов в установленный срок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я хранения документов в структурных подразделениях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я работы архива в соответствии с правилами, инструкциями и методическими рекомендациями Росархив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вышение квалификации работников делопроизводственной службы и архив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я рабочих мест работников делопроизводственной службы, в том числе автоматизированных рабочих мест (АРМ), условий труда сотрудников делопроизводственной служб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я делопроизводства по обращениям граждан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работка (совместно с соответствующими структурными подразделениями организации) мероприятий по совершенствованию форм и методов работы с документ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контрольные функции службы ДОУ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493640"/>
            <a:ext cx="822960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за правильностью оформления документов, представляемых на подпись руководству (т. е. исходящих и внутренних документов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за сроками исполнения докум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уществление контроля за правильностью оформления и формирования в структурных подразделениях организации дел, подлежащих сдаче в архи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я контроля за работой с документами в структурных подразделения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общение сведений о ходе и результатах исполнения документов, систематическое информирование руководства по этим вопроса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еспечение хранения дел и оперативного использования документной информаци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методические функции службы ДОУ: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аботка номенклатуры дел организации, инструкции по делопроизводству, табеля форм документов и других локальных нормативных документов, закрепляющих систему делопроизводства организ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дение экспертизы научной и практической ценности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дение совещаний и консультирование по вопросам, относящимся к компетенции делопроизводственной служб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Должностной состав службы ДОУ включает три категории работников: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3209400"/>
            <a:ext cx="8229600" cy="29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уководители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пециалисты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ехнические исполнител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К категории руководителей, возглавляющих делопроизводственную службу, относятся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равляющий дел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канцеляри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общим отдел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протокольным отдел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чальник секретариа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экспедици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центром подготовки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копировально-множительным бюр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машинописным бюр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категория специалистов: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091880"/>
            <a:ext cx="822960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кументове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мощник руководител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пектор по контролю за исполнением поруч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дакто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хеограф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пекто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кретарь коллег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рект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категория технических исполнителей: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спедито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лопроизводител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енографист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ический секретар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рье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ератор оргтехни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хивариус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кретарь-машинист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кретарь-стенографист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кретарь руководи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EBC1-9807-4191-AE21-E7BFFF1677F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Регламентация деятельности службы ДОУ осуществляется: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11428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ложением о службе ДО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олжностными инструкциями работников службы ДОУ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нструкцией по делопроизводств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абеле форм документ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факторы, влияющие на численность работников службы делопроизводства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щая численность работников организаци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ем документооборота организации (количество входящей, исходящей и внутренней документации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траты труда на выполнение делопроизводственных работ (рассчитываются по существующим нормативам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744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Перечислите действующие нормативные документы, регламентирующие задачи и функции делопроизвод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еречислите задачи службы ДО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Назовите функции службы ДО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Перечислите состав категорий руководителей, возглавляющих службу ДОУ, специалистов, технических исполн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Какие локальные нормативные документы регламентируют деятельность службы ДО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Перечислите основные факторы, влияющие на численность работников службы ДО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   Белов А.А., Белов А.Н. Делопроизводство и документооборот. – М.: Кн. мир: 2008.– 340 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ирсанова М.В., Аксенов Ю.М. Курс делопроизводства: Документационное обеспечение управления. – М.-Новосибирс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200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9704-62D4-48C2-B0F6-FDF9129A871F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При создании службы делопроизводства должны быть решены следующие вопросы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уктура, функции и задачи делопроизводственной служб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онная форма делопроизвод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лжностной и численный соста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валификационные требования, предъявляемые к работникам делопроизводственной сфер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служба ДОУ руководствуется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конодательными актам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рмативно-методическими документами по вопросам делопроизводства и архивного де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казами и распоряжениями руковод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струкцией по делопроизводству организ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ожением о служб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лжностными инструкциями ее работ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цель службы ДОУ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существить в полной мере все действия по документационному обеспечению деятельности организации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уководств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оординацию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еализац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формы организации делопроизводства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ентрализованн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ецентрализованная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мешанн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Arial"/>
              </a:rPr>
              <a:t>централизация, </a:t>
            </a: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позволяет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286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низить стоимость делопроизводственных операц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лучшить организацию труда делопроизводственного персонала и, в частности, внедрить его нормирова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ить специализацию и взаимозаменяемость работник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овать прогрессивные и производительные технические сред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ить единство организационного и методического руковод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в Основных положениях ГСДОУ рекомендуется создавать следующие делопроизводственные службы (структуры организаций)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федеральных органах исполнительной власти 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управление делам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различных предприятиях: государственных, не государственных, научно-исследовательских, проектных, конструкторских, высших учебных заведениях — 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отдел документационного обеспечения или канцелярия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рганах местного самоуправления — 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общий отде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Управление делами имеет следующий типовой состав структурных подразделений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055160"/>
            <a:ext cx="8229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ретариа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спекция при минист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ретариат коллег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кспеди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юро правительственной перепис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юро учета и регистрац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уппа контроля (бюро, отдел, инспекция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шинописное бюро (компьютерный центр обработки текстов документо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пировально-множительное бюр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дел писем (отдел по работе с обращениями граждан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нтральный архи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дел рационализации делопроизводства (центр совершенствования документации (ДОУ), бюро НОТ или НОУТ, методический сектор и д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3T00:05:28Z</dcterms:modified>
  <cp:revision>133</cp:revision>
  <dc:subject/>
  <dc:title>Lecture Template </dc:title>
</cp:coreProperties>
</file>