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определении сроков хранения документов могут использоваться несколько видов типовых перечней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типовых управленческих документов, образующихся в деятельности организаций, с указанием сроков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кументов, подлежащих приему в государственные арх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научно-технической документации, подлежащей приему в государственные арх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Что такое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я чего предназначена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включается в номенклатуру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ем составляется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Что в делопроизводстве подразумевается под термином "дело"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з каких элементов должен состоять заголовок дел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ялова Л.М. Номенклатура дел. Порядок составления // Справочник секретаря и офис-менеджера. 2002. №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3F88-F311-41D4-B9AD-1CDCE118B2F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3F91-06AA-4E01-91A2-95E63A409DF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Номенклатура дел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утвержденный систематизированный перечень заголовков дел, заводимых в организации, с указанием сроков их хранения в установленном поряд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147840" y="1201680"/>
            <a:ext cx="2738520" cy="1460520"/>
          </a:xfrm>
          <a:prstGeom prst="downArrow">
            <a:avLst>
              <a:gd name="adj1" fmla="val 50000"/>
              <a:gd name="adj2" fmla="val 570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оменклатура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классификацию, группировку исполненных документов в д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систематизацию и индексацию дел, сроки их хра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т основным учетным документом в текущей работе с докумен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единственным средством учета переходящих дел, т. е. дел, наполнение документами которых продолжается несколько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овится учетно-справочной системой для последующего поиска дел со сроками хранения до 10 лет включи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ункции номенклатуры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132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как схема классификации при распределении и группировке исполненных документов в дела. Заголовки дел из номенклатуры переносятся на обложк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предварительно определяет сроки хранения документов, что является первым этапом экспертизы ценности доку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при построении информационно-поисковой системы по документам предприятия. Классификационная схема номенклатуры может быть использована для формирования справочной картотеки на исполненные документы. При регистрации документов в регистрационный индекс часто включают индекс дела по номенк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служит учетным документом при сдаче в архив дел со сроками хранения до 10 лет включительно. Она также является основой для составления описей на дела со сроками хранения свыше 10 лет и постоя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имеет справочное значение при изучении структуры учреждения, организации, предпри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Виды номенклатуры дел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13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ов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ажает документы определенной категории учреждений с однотипным характером деятельности и составом документ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мерн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рекомендательной и создается в тех управленческих структурах, где состав документов подразделений (филиалов, цехов, кафедр) сильно различаетс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дивидуальная 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систематизированный перечень конкретных заголовков дел, намеченных к заведению в делопроизводстве одной организации или ее структурного подразделения в определенном календарном год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новой</a:t>
            </a: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ля составления номенклатуры являютс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в (положение) организ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я о структурных подразделени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фикаторы участков деятельности и кодификаторы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татные распис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ы и отчеты о работе организации и ее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ы организации за прошлые го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си дел постоянного хранения, временного хранения и по личному составу, акты о выделении документов и дел к уничтожению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овые и примерные номенклатуры дел данной системы (при их наличии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я Государственной архивной службы России и территориальных архивных органов об изменении сроков хранения тех или иных категорий доку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Разделы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824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честв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рвой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номенклатуры указывают наименования структурных подразделений (отделов), их индексы (номера) включаются в номенклатуру и, дополненные порядковым номером дела в пределах подразделения, составляют индекс дел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тор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указываются полные заголовки де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реть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заполняется в конце года. Каждое дело не должно превышать 250 листов, поэтому при большом объеме документов, относящихся к одному делу, допускается формирование томов, ч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тверт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проставляются сроки хранения дел, определенные экспертной комисс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ят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дел «Примечание» заполняется в течение срока действия номенклатуры службой ДОУ, в ней проставля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метки о заведении дел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веде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ходящих делах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ходяще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2001 г.» или «переходящее на 2003 г.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другую организацию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т выдачи во временное пользова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_№_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местонахождении подлинников документо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линник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еле 01-02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ведомственный архи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даны в архив по опис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07.03.2002»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рок действия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92240"/>
            <a:ext cx="82296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вержденная номенклатура дел организации вводится в действие с начала следующего делопроизводственного года и действует в течени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. Она подлежит внеплановому пересоставлению и переутверждению лишь в случаях коренного изменения функций и структуры организации (или ее структурного подразделения). При отсутствии таких изменений номенклатуру дел в конце каждого года уточняют, при необходимости корректируют и автоматически вводят в действие автоматиче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06:18Z</dcterms:modified>
  <cp:revision>137</cp:revision>
  <dc:subject/>
  <dc:title>Lecture Template </dc:title>
</cp:coreProperties>
</file>