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ьютерное видео на примере работы с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A8E3-0472-4521-9BB1-B575859B08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58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заготовок в проект и размещение его на монтажно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560" y="187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1. Импорт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7C8B-491C-45D5-9D06-166D399CC0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щение конца первого слоя (клипа) и начала вто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0" descr=""/>
          <p:cNvPicPr/>
          <p:nvPr/>
        </p:nvPicPr>
        <p:blipFill>
          <a:blip r:embed="rId1"/>
          <a:stretch/>
        </p:blipFill>
        <p:spPr>
          <a:xfrm>
            <a:off x="1079640" y="144936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58920" y="1879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2. Работа  со сло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38CF-ABEA-412D-8177-1C3EF1A294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216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3" descr=""/>
          <p:cNvPicPr/>
          <p:nvPr/>
        </p:nvPicPr>
        <p:blipFill>
          <a:blip r:embed="rId1"/>
          <a:stretch/>
        </p:blipFill>
        <p:spPr>
          <a:xfrm>
            <a:off x="7542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57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5" descr=""/>
          <p:cNvPicPr/>
          <p:nvPr/>
        </p:nvPicPr>
        <p:blipFill>
          <a:blip r:embed="rId2"/>
          <a:stretch/>
        </p:blipFill>
        <p:spPr>
          <a:xfrm>
            <a:off x="754200" y="3500280"/>
            <a:ext cx="2305080" cy="22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51280" y="944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90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начнём добавление перехода. Перейдите на закла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йдите пап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её. появятся названия переходов, их то мы и будем добав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453480"/>
            <a:ext cx="47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 линию продолжительности клипа, а затем 2 раза левой кнопкой клацни по названию перех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Wi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335772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1879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3. Работа с пере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2A3E-42D1-418A-BBFA-F69C9929F1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гол с которого будет начинаться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глаживание границ перехода, установите его в значение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75040" y="43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7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653080" cy="44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78160" y="18792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4. Настройки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283-B793-4A3A-A821-724AA2B11E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40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3348000" cy="250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41" descr=""/>
          <p:cNvPicPr/>
          <p:nvPr/>
        </p:nvPicPr>
        <p:blipFill>
          <a:blip r:embed="rId2"/>
          <a:stretch/>
        </p:blipFill>
        <p:spPr>
          <a:xfrm>
            <a:off x="324000" y="3546360"/>
            <a:ext cx="3348000" cy="251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4000" y="87156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виден клип 2 но его размеры не соответствуют, их можно поправить, для этого, клацните левой кнопкой мыши по линии продолжительности клипа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357192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появятся маркеры, ухватившись за них левой кнопкой мыши растяните границы видео клипа 2 на весь экран предварительного просмо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2360" y="187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5. Подгонка размеров к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BF64-18BA-4F0A-8A54-857C958C36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7080" y="1879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6. Экспорт и сохранение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4000" y="101484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спорт фай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64000" y="368028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ки выходного ви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04920" y="20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6" descr=""/>
          <p:cNvPicPr/>
          <p:nvPr/>
        </p:nvPicPr>
        <p:blipFill>
          <a:blip r:embed="rId1"/>
          <a:stretch/>
        </p:blipFill>
        <p:spPr>
          <a:xfrm>
            <a:off x="539640" y="873000"/>
            <a:ext cx="3492720" cy="24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87560" y="47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596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49" descr=""/>
          <p:cNvPicPr/>
          <p:nvPr/>
        </p:nvPicPr>
        <p:blipFill>
          <a:blip r:embed="rId2"/>
          <a:stretch/>
        </p:blipFill>
        <p:spPr>
          <a:xfrm>
            <a:off x="755640" y="3608280"/>
            <a:ext cx="29876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BD4A-C382-42F3-A346-3E7BD7BE6E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66536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зультат монтажа учебного фильма из двух клипов «Алиса в стране чудес» и «Машина времени» в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000" y="22392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езультат работы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E02-F68F-4B4C-A431-881DF708061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21:30Z</dcterms:modified>
  <cp:revision>107</cp:revision>
  <dc:subject/>
  <dc:title>Lecture Template </dc:title>
</cp:coreProperties>
</file>