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Авторские системы мультимеди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00536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CC08-EE35-4704-8B3F-D86358255D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гласно классификации можно выделить восемь типов авторских систем, использующих следующие метаф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зы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ценарие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Scripting Langu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зительное управление потоком данных (Icon/Flow Contro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др (Fr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очку с языком сценариев (Card/Script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енную шкалу (Time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ерархические объекты (Hierarchical Objec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ермедиа-ссылки (Hypermedia Link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ры (Tagg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246D-03A5-48EA-A623-869C0AA0B3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которые из наиболее распространенных авторских сист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ormula Graphic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formulagraphics.com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GLpr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gmedia.com/glpro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yperMetho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hypermethod.com/rus/index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uthorwar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macromedia.com/software/authorware/productinfo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Boo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asymetrix.com/products/instructor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nAuth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asymetrix.com/pr/new_iconauthor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media Buil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(www.mediachance.com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Compil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rey.ee/webcompiler/rus/index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 Maker HTM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 (http://bersoft.com/hmhtml/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8056-BCCD-4F8E-88F9-6993BDDA434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1:32:24Z</dcterms:modified>
  <cp:revision>100</cp:revision>
  <dc:subject/>
  <dc:title>Lecture Template </dc:title>
</cp:coreProperties>
</file>