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47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089160"/>
            <a:ext cx="849600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Аппаратно-программное обеспечение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П.Василь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 «МУЛЬТИМЕДИА ТЕХН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393372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пециаль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1900 "Информационные системы и техноло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1413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нятие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Аппаратная часть мультимедиа. МРС-стандар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CA58-3D9B-47A5-AF06-1F058A26E6B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8608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5.1" descr=""/>
          <p:cNvPicPr/>
          <p:nvPr/>
        </p:nvPicPr>
        <p:blipFill>
          <a:blip r:embed="rId1"/>
          <a:stretch/>
        </p:blipFill>
        <p:spPr>
          <a:xfrm>
            <a:off x="431640" y="1700280"/>
            <a:ext cx="4321440" cy="4321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08360" y="162864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88000" y="1665360"/>
            <a:ext cx="40320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та для нелинейного видеомонтаж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roVIDEO D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9629-B4A4-4442-BE17-D707BC50F06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03280" y="1125360"/>
          <a:ext cx="8136000" cy="5087880"/>
        </p:xfrm>
        <a:graphic>
          <a:graphicData uri="http://schemas.openxmlformats.org/drawingml/2006/table">
            <a:tbl>
              <a:tblPr/>
              <a:tblGrid>
                <a:gridCol w="4248000"/>
                <a:gridCol w="38880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тод компресс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-JP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решение видео (для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L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CAM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6 24 би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ифровой пот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кадр/с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AM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кадр/с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жатие для кад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В- системы на "ввод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 SECAM NT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деовх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комп., 1 S-Vide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"Живое" окно на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, только для предва-рительного просмот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ифровка зву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хват ТВ -кадра без компресс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В-выв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/NT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полнительные возмож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ифровка звука и воспроиз-вед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комендации по использова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линейный монтаж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HS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кач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1406520" y="512640"/>
            <a:ext cx="66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сновные возможности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iroVIDEO DC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30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lus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4000" y="1413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Занятие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Периферия для мультимеди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3EC4-5B78-4C7F-96DE-16D3E4717EA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08360" y="162864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14680" y="348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SR4_2" descr=""/>
          <p:cNvPicPr/>
          <p:nvPr/>
        </p:nvPicPr>
        <p:blipFill>
          <a:blip r:embed="rId1"/>
          <a:stretch/>
        </p:blipFill>
        <p:spPr>
          <a:xfrm>
            <a:off x="358920" y="2398680"/>
            <a:ext cx="3960720" cy="29019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788000" y="1665360"/>
            <a:ext cx="40320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УЛЬТИМЕДИЙНЫЕ ПРОЕ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о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VC DL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0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2361-8959-43E4-B966-F768D42015C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35640" y="69228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3213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ub_02-02" descr=""/>
          <p:cNvPicPr/>
          <p:nvPr/>
        </p:nvPicPr>
        <p:blipFill>
          <a:blip r:embed="rId1"/>
          <a:stretch/>
        </p:blipFill>
        <p:spPr>
          <a:xfrm>
            <a:off x="826920" y="498600"/>
            <a:ext cx="3060720" cy="26780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26920" y="3357720"/>
            <a:ext cx="2989440" cy="30765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753080" y="585720"/>
            <a:ext cx="40320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24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оявлением телевизоров на жидких кристаллах (ЖК) у разработчиков возникла остроумная мысль использовать ЖК-матрицу как основной элемент в прямом проектор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0000" y="3284640"/>
            <a:ext cx="403236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24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996 г.появился аппарат, разработанный американской фирмой Texas Instruments и основанный на совершенно новом принципе DLP (Digital Light Processing - цифровая обработка светового поток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6620-2B56-4B94-8A8B-B1FF0E29C61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35640" y="69228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0000" y="585720"/>
            <a:ext cx="4211640" cy="57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24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стройство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MD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кристал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DMD-матрица представляет собой кремниевую пластину с прямоугольным массивом размещенных на ее поверхности отражающих элементов. Каждый такой элемент содержит микрозерка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ST1_1" descr=""/>
          <p:cNvPicPr/>
          <p:nvPr/>
        </p:nvPicPr>
        <p:blipFill>
          <a:blip r:embed="rId1"/>
          <a:stretch/>
        </p:blipFill>
        <p:spPr>
          <a:xfrm>
            <a:off x="216000" y="1739880"/>
            <a:ext cx="417672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B043-FB21-42BC-A2AF-33B361C8A5B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User</cp:lastModifiedBy>
  <dcterms:modified xsi:type="dcterms:W3CDTF">2009-01-16T07:33:17Z</dcterms:modified>
  <cp:revision>94</cp:revision>
  <dc:subject/>
  <dc:title>Lecture Template </dc:title>
</cp:coreProperties>
</file>