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The%20KMPLayer!/KMPlayer.exe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уководство по плэй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7F61-E0C1-46D2-A241-B77502138D3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роигрывания видеоклипов, анимаций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айлов на которые делаются ссылки в презент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еется прилагаемый плэйе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he KMP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Просто перетаскивайте файл на значок плэй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KMPlay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В папке имеется так же автоинсталяционн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этого плэйер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mp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Которая устанавливается при за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F737-42D2-42A3-BB18-DE6266D1A15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18:33Z</dcterms:modified>
  <cp:revision>98</cp:revision>
  <dc:subject/>
  <dc:title>Lecture Template </dc:title>
</cp:coreProperties>
</file>