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9EA-A7C6-4FE4-AD5E-545AA56D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9F5-4436-4243-A8B7-7D7A6B8C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DC87-485C-4DC3-AEDF-8EAD55EE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F986-1B44-43B0-B990-2D60B0FC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3BF4-36B4-43DC-8C18-623674CB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BD7-54D6-4303-8EE9-335B06F8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B5E-C739-4657-A8E8-8E9EAED8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D323-B472-40E4-B637-B30D984C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30E-5A60-41C2-8A2B-E53C3B45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8CAD-449E-46FF-BAA0-F75BF59F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A477-4613-44CC-8ACD-A179A59E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6FDC-4693-4555-ABFE-700DA32A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9027-DE10-442C-B372-B30BC46C0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62E1-9608-4CD1-A8C4-C1B28C4718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и досутпа позволяют фильтровать входящий и исходящий трафик в сети в зависимости от адресов источника и приемника, номеров портов, протоколов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писки доступа на маршрутиза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E704-F919-4F5B-99E3-C68F7016B1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Для защиты целой сети от несанкционированных соединений можно подключить списки доступа на входном маршрутизаторе (шлюзе). Параметры любой входящей или исходящей дейтаграммы (адрес источника, места назначения, номера портов и т.п.) проверяется по списку и в зависимости от результата дейтаграмма либо пропускается маршрутизатором, либо уничтож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0E50-6B11-4C71-B5A5-B8D76A5B75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и доступа строятся командой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access-li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режиме глобальной конфигурации (режим доступен через команды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nabl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затем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configure termina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, каждый список определяется номером - числом в диапазоне 0-99. Синтаксис команды для ввода строки в список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номер_списка {deny | permit} адрес_источника  [маска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писков доступа маршрутизаторов C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11AA-0DDF-46E3-AACA-81A4AB970D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аннулирования списка доступа следует ввести коман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no access-list номер_с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применения списка доступа к дейтаграммам, проходящим через определенный интерфейс, нужно в режиме конфигурации этого интерфейса ввести коман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access_group номер_списка {in | ou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E192-03A9-4B96-9F4D-80E0DC72DA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ширенны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extended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писки доступа, имеющие большее количество параметров и предлагающие более богатые возможности для контроля траф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ширенные списки доступа создаются также с помощью команды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access-li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режиме глобальной конфигурации, но номера этих списков лежат в диапазоне 100-1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Расширенные списки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ACE7-02CC-4A9E-A20E-A8DD8CA9C0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ширенный спискок для контроля TCP-соединен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номер_списка {deny | permit} tcp адрес_источника маска [оператор порт [порт]] адрес_назначения маска [оператор порт [порт]] [established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Маски для адреса источника и хоста назначения определяются так же, как и в стандартных списках. Оператор должен иметь одно из следующих знач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lt (строго меньше), gt (строго больше), eq (равно), neq (не равно), range (диапазон включительно).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D173-2D0B-481B-B830-9046E4DF2B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Запретить установление соединений с помощью протокола telnet со всеми хостами сети 172.16.252.0 netmask 255.255.252.0 со стороны всех хостов Интернет, причем в обратном направлении все соединения должны устанавли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100 permit tcp any 172.16.252.0  0.0.3.255 eq 23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100 deny tcp any 172.16.252.0  0.0.3.255 eq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100 permit tcp any 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8BA3-B5D0-4FCF-9CC0-907745B0DE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номер_списк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{deny | permit} icmp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дрес_источник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аск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дрес_назначен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маск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[icmp-тип [icmp-код]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гд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cmp-тип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, если требуется уточнение,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cmp-код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пределяют ICMP-сообщение. Обычно в целях безопасности не пропускаются ICMP-сообщения типа Redirect (Изменить маршрут), т.е. сообщения типа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Контроль за ICMP сообщени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0A9F-BD39-47BE-A3EC-40BB6BF147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source-routing - использование опции протокола IP, позволяющей фиксировать маршрут дейтаграммы (опасность подстановки ложных адресов отправител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здать окна для пропуска необходимого TCP-трафика, например, разрешить доступ из Интернет к WWW, email, FTP серверам предприятия, разрешить любой доступ в Интернет из сети предприя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оступ извне по порту 53/TCP (передача зоны вторичному серверу DNS) разрешить только вторичным серверам D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Правила составления списков доступа на маршрутиза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9523-5193-4D40-82B0-5C8DAC8085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есь остальной TCP-трафик запрет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пропуск любых пакетов, приходящих извне с адресом отправителя, принадлежащим внутренней сети (такие пакеты либо ошибочны, либо отправлены злоумышленнико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все соединения по UDP кроме порта 53 (DNS) (UDP - протокол без установления соединения, поэтому его сложнее контролировать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передачу ICMP-сообщений типа Redir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Правила составления списков доступа на маршрутиза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8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Обеспечение безопасности в корпоратив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Опишите, что происходит при подключении клиента к серверу удаленного доступа на базе Unix (протокол PPP). Какие программы запускаются, в какой последовательности, что они дел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Опишите принцип работы демона оболочек сервисов TCP wrapp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формулируйте основные угрозы безопасности корпоративной IP-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Дайте сравнительные характеристики различных типов брандмауэ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ем отличаются стандартные и расширенные списки доступа на маршрутизаторах 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CIC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Chapman and Zwicky. Building Internet Firewalls. – O’Reily and Associates, Inc.Huitema C. Routing in the Internet. – Prentice-Hall PTR, 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Задача обеспечения безопасности в корпоративной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Демон оболочек сервисов (TCP wrapp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Списки доступа на маршрутиза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Расширенные списки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5) Общие правила составления списков доступа на маршрутиза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95AE-0C1D-4AEB-B43A-401A551812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щита сети и данных - важная часть работы системного и сетевого администра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стые методы защиты строятся на создании фильтров, анализирующих поступающие или исходящие данные с целью принятия решения о пропуске или блокировании трафика. Фильтры могут защищать целую сеть или отдельные сетевые сервисы какого-либо уз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Задачи обеспечения безопас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D887-C5EF-4E4B-92E7-DE4FE9DB18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стым средством защиты Unix-хоста от несанкционированного доступа является установка оболочек сервисов (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CP wrapper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. Принцип действия оболочек следующий: при поступлении запроса на соединение с каким-либо сетевым сервисом на хосте запускается не демон, обслуживающий этот сервис, а программа-оболочка, которая проверяет, разрешен ли сеанс с удаленным хостом, запросившим соединение, и в случае положительного результата запускает собственно требуемый дем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Демон оболочек сервисов (TCP wrapp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066E-FB98-4B59-9358-AD971509EB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запуска оболочек для тех или иных сервисов следует модифицировать файл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inetd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так, чтобы при обращении на порты указанных сервисов вместо стандартного демона запускался демон оболочки, а в качестве параметра ему передавался путь к стандартному демо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finger stream tcp nowait  nobody  /usr/sbin/tcpd  in.fing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/usr/sbin/tcpd контролирует доступ к сервису f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2923-1712-455F-A014-1F194F41EB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и доступа, которыми пользуется демон оболочки, содержатся в файлах /etc/hosts.allow, /etc/hosts.deny. При возникновении попытки соединения адрес хоста ищется сначала в файле hosts.allow, если он найден, то соединение разрешается, иначе производится поиск в hosts.deny. В случае успешного поиска соединение запрещается, иначе разреш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Списки доступа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в TCP wrapp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26F2-3F89-4AC2-8F97-E87ED4EDF5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Формат файлов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hosts.allow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hosts.den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динаков, строка в файле имеет ви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сервисы:хосты[:действие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действи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действие, выполняемое, в случае совпадения адреса хоста и требуемого сервиса с данной строкой (например, послать сообщение администратору); поле действие может отсутствов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поле хосты допускаются регулярное выражение *, операторы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L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XCEP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A9E7-88F6-473F-8E32-3114A64456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Tahoma"/>
              </a:rPr>
              <a:t>hosts.al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elnetd:194.84.124.0/255.255.255.0, 193.124.169.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ftpd:ALL EXCEPT 1.0.0.0/255.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Tahoma"/>
              </a:rPr>
              <a:t>hosts.deny: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ALL: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37:22Z</dcterms:modified>
  <cp:revision>174</cp:revision>
  <dc:subject/>
  <dc:title>Lecture Template </dc:title>
</cp:coreProperties>
</file>