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0F9-D00E-4574-95BA-10F566E9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6778-923F-4390-A91D-8A996CE1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7419-3517-4C89-946D-99FB663A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09CA-6D5F-4746-A903-09878883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9D1-3DDC-42D9-8BDE-32A82651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55EB-BC92-4ECD-BA2A-D836E047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5A57-E600-453F-AB3D-1684A269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BF0-79B1-4130-8E59-184BAEA6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A58-BDB7-4496-8344-CA1FC9A9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45B-0563-4F64-8795-0A189C4C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9C6-9743-461D-9E75-DA6C4483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5FC-8FE0-48F5-AA04-4EB78A09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988C-F8D9-4EFC-B330-46F75317E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0D30-411A-411C-9880-166E8BA7EA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ары имя-значение разделяются амперсандом. Алфавитно-цифровые символы и некоторые знаки препинания, не имеющие специального значения (тире, подчеркивание) передаются как есть. Остальные символы кодируются в виде "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%N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", где NM - двузначный шестнадцатеричный код симв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500" spc="-1" strike="noStrike">
                <a:solidFill>
                  <a:srgbClr val="3333ff"/>
                </a:solidFill>
                <a:latin typeface="Tahoma"/>
              </a:rPr>
              <a:t>.../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prog?birthday=11%2F05%2F73&amp;name=John+Sm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birthda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"11/05/73 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"John Smith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8839-C6A0-4E35-847E-95B176E480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AUTH_TYPE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-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етод аутентифицирования, использованный для опознания пользователя. См. также REMOTE_USER и REMOTE_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CONTENT_LENGTH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ина данных запроса в байтах, переданных CGI-скрипту через стандартный в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CONTENT_TYPE MIME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Тип данных за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OCUMENT_ROO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Корневой каталог дерева документов веб-серв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GATEWAY_INTERFAC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Используемая версия CG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BC37-10C2-4458-8BB7-D4D8A8028F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ACCEPT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Список MIME-типов данных, которые клиент может приня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FROM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Адрес электронной почты пользователя, сделавшего запрос (многие броузеры не передают такие данные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REFERER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URL документа, в котором находилась ссылка, вызвавшая настоящий запро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USER_AGENT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Броузер клиент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PATH_TRANSLATED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PATH_INFO, преобразованное в полный путь в файловой системе сервер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BEC8-68D5-448A-8E53-068849E331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QUERY_STRING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Данные запроса, переданные в составе URL вслед за вопросительным зна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MOTE_ADDR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IP-адрес кли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MOTE_HO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Имя DNS клиен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MOTE_USER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Аутентифицированное имя пользова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QUEST_METHOD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Метод запроса (GET, POST, HEAD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CRIPT_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Виртуальный путь (например, /cgi-bin/program.pl) к исполняемому CGI-скрип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6A9E-B3C4-43D4-A409-2AEECE366C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DNS-имя сервера или, при невозможности определить имя, его IP-адре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POR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Номер порта серв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PROTOCO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Имя и версия протокола, через который был сделан запрос (например, HTTP/1.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SOFTWAR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Тип и номер версии ПО веб-серв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4B25-AFBB-4D48-AC81-158CBCF068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скольку все HTTP-запросы независимы друг от друга и на уровне протокола HTTP отсутствует понятие сеанса связи, CGI-программа запускается заново для каждого вновь поступившего запроса, неважно имеет ли он связь с предыдущими или нет. Таким образом, существует проблема сохранения состояния логического сеанса работы пользователя между его последовательными запросами к CGI-программе. Для этого используются: cookies, сохранение состояния в базу данных, сохранение в файл, скрытые поля.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Cook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2CEB-CAAF-49F9-9370-F529B82D70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cookies - сохранение на компьютере клиен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крытые поля - сохранение внутри формы, посылаемой клиент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хранение в файле какого-либо формата на серве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хранение в параллельно работающей базе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Методы сохранения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52EE-C6A9-441F-AE0E-BFB64E1EA7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и программировании CGI-скриптов всегда следует помнить, что при каждом очередном запросе скрипт начинает свою работу сначала, не имея никакой предыстории взаимодействия пользователя с этим или другими скрипт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ограммирование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6A19-DDED-41E6-A9EE-6E964DFFFF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my $x;         # $x создается, равно un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;              # л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fined($x); # л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=0;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;              # л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fined($x); # ист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=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;              # ист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fined($x); # ист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=undef;    # опять unde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89E5-C0E7-48BA-BA8B-0BA7CD657D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ом (list) называется упорядоченная последовательность скалярных значений; порядковые номера (индексы) начинаются с нуля. Отдельно стоящие списки заключаются в скобк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($x, "abc", 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бращение к элементу списка осуществляется путем указания индекса этого элемента в квадратных скобка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$y=($x, "abc", 15)[1];      # $y="abc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писки и масс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6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50920" y="2421000"/>
            <a:ext cx="6913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C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веб-программ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0C95-1435-449D-8ECF-77F9BB20B2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f (...) {...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условие ? выражение_да : выражение_нет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while(...) {...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o {...} while (..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for (...;...;...;) {...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if ($a&lt;$b) { $a=$b;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while ($a&lt;$b) { some_function($a);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$a=$b if ($a&lt;$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перат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F80D-A7DB-4945-AF14-54FB904B7D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$x="abc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@array=('c','d','e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%hash=( a =&gt; "A", b=&gt; "B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print "this is \$x: \"$x\"; \nthis is element 2 of \@array: \"$array[2]\";\n"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"and \$hash{a} is \"$hash{a}\"\n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his is $x: "abc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his is element 2 of @array: "e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and $hash{a} is "A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ие действия предпринимает сервер, если для обработки поступившего запроса требуется запуск CGI-програм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Почему CGI-программа должна выдавать заголовок “Content-Type: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позволяет делать модуль mod_per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заключается основная особенность CGI-программи­ро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состоит проблема сохранения состояния в CGI-программировании и какие существуют способы ее решения? Укажите их достоинства и недоста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Почему язык Perl считается наиболее удобным для написания CGI-прило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Д.Р.Левин, К.Бароди. Секреты Интернет. – К.: Диалектика, ICE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S.Spainbour, V.Quercia. Webmaster in a Nutshell. – O’Reily &amp; Associates, Inc.,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Интерфейс CGI, его задачи и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Исполнения CGI-скрип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Структура URL и кодирование данных 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Переменные окружения CG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5) Программирование CGI-скрип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6) Введение в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6722-E64A-4EC6-9FEB-94466832C5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нтерфейс CGI представляет собой спецификацию взаимодействия веб-сервера и внешней программы, которую веб-сервер запускает для обработки запроса. CGI определяет каким образом данные, предоставленные клиентом в запросе, передаются программе, как программа возвращает сгенерированный HTML-контент серверу, и какие переменные окружения устанавливаются сервером при запуск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сновная концеп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4AFA-494C-44C6-88A5-DBA959D47D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Клиент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ожет запросить у веб-сервера как документ-файл с диска, так и документ, динамически формируемый некоторой внешней программой (как правило - в зависимости от данных, предоставленных пользователем при заполнении форм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Интерфейс CGI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редставляет собой спецификацию взаимодействия веб-сервера и внешней программы, которую веб-сервер запускает для обработки запроса. (Внешняя программа, вне зависимости от своей природы, часто называется CGI-скриптом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E926-852E-461B-A4D5-B1BE1E5D08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анные из заполненной клиентом HTML-формы могут передаваться на сервер двумя методами: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GE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O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это определяется параметром method соответствующего тэг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&lt;form method=... action=...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первом случа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GET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анные присоединяются после вопросительного знака в конец URL, указанной в параметр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c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во втором случае - передаются в теле запроса - в секции, предназначенной для данных (следует после всех заголовков и пустой строки).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305E-7B2D-4389-922F-C194A284B9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Content-Type: text/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HTM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BOD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H1&gt;Hello, world&lt;/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/BODY&gt;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HTML&gt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Например, вывод CGI-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1631-6FA9-43AF-9E92-5A883DD7CC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criptAlias /виртуальный/путь/ /путь/к/каталогу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criptAlias /cgi-bin/ /usr/local/www/cgi-bi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Это означает, что для обработки запроса URL вида http://your.server.com/cgi-bin/dir/script будет взят не файл script из каталога DocumentRoot/cgi-bin/dir/, а запущена программа /usr/local/www/cgi-bin/dir/scri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Конфигурирование сервера Ap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315A-3FA3-49CF-9DB3-CA309EB831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работы CGI-программ важное значение имеют част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UR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называемые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ATH_INFO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QUERY_STRING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смотрим запрос с URL вид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http://my.server.com/cgi-bin/dir/prog/a/b?A=1&amp;B=qwer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PATH_INFO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/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/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QUERY_STRING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=1&amp;B=qw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труктура UR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31:57Z</dcterms:modified>
  <cp:revision>192</cp:revision>
  <dc:subject/>
  <dc:title>Lecture Template </dc:title>
</cp:coreProperties>
</file>