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C5A-CC9E-4CB6-B15A-007664AD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CFF-8B4A-47F0-8AEF-77024DA8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C69-9E6C-4E7D-86C9-3F2D0427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040-CE40-4683-AD05-CB95CA80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B43-6C36-494D-ACEF-D560FD80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89D-6E94-47AA-8565-B3A2907E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3E0-88C9-4AB4-8327-A82321F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5F3-A33B-4CB9-A314-90DE9D54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0F2-9752-4009-8278-AD97E92A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C51-7C46-4C6D-B484-B1FC471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1E0-5605-4D52-9FC2-3D616501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F1B-EC52-4877-894D-389E26EB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A5D1-CDA2-43E5-9347-B570472A4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4E5-698A-4BE3-9D05-87E3160337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сновную роль в системе электронной почты играют программы трех ти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ранспортные агенты (MTA - Mail Transport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генты доставки (MDA - Mail Delivery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ьзовательские агенты (MUA - Mail User Ag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35A-CD4F-439B-A3B9-7C2C9946EB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и заголовков почтовых сообщ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ос DNS на предмет имени и адреса почтового сервера адресата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еделение агента доставки для каждого сообщения и передача сообщения выбранному агенту достав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управление очередью сообщений, отложенный и повторный вызов агентов доставки в случае невозможности немедленной доставки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возврат сообщений, которые по каким-либо причинам невозможно доставить по назнач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транспортн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CD7C-5FFD-4457-973F-642F86DCFA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збор списков рассылки, пседонимов, переадресации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орвардинг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адресов в формат другой почтовой системы, если MTA функционирует как шлюз между двумя почтовыми системами (например, между Internet Mail и Sprint Mail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имени почтового домена отправителя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маскара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тановка служебных заголовков в сообщении, отражающих его маршрут и процесс обраб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7ED4-4667-46A0-9829-BBCAE18FCF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local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, находящийся на этом же компьютере; доставка производится, например, добавлением содержимого сообщения в определенный файл (</a:t>
            </a:r>
            <a:r>
              <a:rPr b="0" i="1" lang="ru-RU" sz="2500" spc="-1" strike="noStrike">
                <a:solidFill>
                  <a:srgbClr val="3333ff"/>
                </a:solidFill>
                <a:latin typeface="Tahoma"/>
              </a:rPr>
              <a:t>в Unix это файл /var/mail/почтовый_ящик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 в другом почтовом домене; доставка производится путем соединения с транспортным агентом на удаленном сервере с помощью протокола SMT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og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должно быть обработано какой-либо программой; доставка производится вызовом этой программы, на вход которой подается содержимое пись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A951-5AE9-4AE5-B86B-3BBDE2F51A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учение сообщений с почтового серве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зентация, хранение, удаление и каталогизирование почтовых сообщ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ние нового сообщения и передача его транспортному агенту для дальнейшей обработки и дост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пользовательск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90AE-9D0E-4F53-88C7-3E7FE01952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ОС Unix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транспортным аген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является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endmail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тавшая де-факто стандартом MTA. Кроме того, в программу sendmail входи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гент доставки SM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Локальный агент доставк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 ключом "-d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U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гут использовать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, pine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различ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Tool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од X-Windows и друг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POP-сервер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быть использована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qpo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2.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CB45-B199-451F-8498-54F95B265B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Почтовое сообщение состоит из заголовков и тела. В заголовках указываются адреса отправителя и получателя (получателей) и другая служебная информ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Тело представляет собой 7-битный текст. Спецификация MIME позволяет пересылать в теле сообщения двоичные данные и создавать сложные сообщения, состоящие из нескольких частей с данными различных типов. При пересылке сообщения через SMTP создается конверт, состоящий из адресов отправителя и получателя, передаваемых в SMTP-сеан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1DE5-4852-4DA7-BDF2-1FFC6DC2EA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rom: 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ply-To: real_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: sidorov@vvsu.ru, "Petr Petrov" &lt;petrov@vvsu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с: "Jonh Smith" &lt;john@smith.a.com&gt;, &lt;sidorenko@c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Bcc: "Fox Mulder" &lt;mulder@fbi.go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ubject: Happy New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ate: Sat, 15 Jan 2000 17:25:32 +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essage-ID: &lt;3.0.6.32.200623.007badf0@mail.a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ceived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Заголовки почтового 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4ACB-9292-465C-90EF-CAF8D725DB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purpose Internet Mail Extensions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фикации, определяющие дополнения в формате почтовых сообщений д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ересылки восьмибитных текстов и полностью двоичных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ддержки сложных сообщений, состоящих из нескольких разделов (возможно, содержащих данные разных тип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ирование и разбор сообщений в соответствии со спецификациями MIME производится пользовательскими почтовыми аг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636F-9894-48FA-A3C4-66F58296F6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HELO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AIL FROM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от_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CPT TO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VRFY</a:t>
            </a:r>
            <a:r>
              <a:rPr b="0" i="1" lang="ru-RU" sz="1800" spc="-1" strike="noStrike" baseline="-257000">
                <a:solidFill>
                  <a:srgbClr val="fafbfc"/>
                </a:solidFill>
                <a:latin typeface="Arial"/>
              </a:rPr>
              <a:t> email_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EXPN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S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230-6462-4F88-B7A1-B5484755E6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SE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имя_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SS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T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LE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POP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BC82-DB9A-4B1A-9EFD-E0B76F003D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это транспортный почтовый агент (MTA) плюс агент доставки SMTP. Sendmail фактически является стандартным MTA для Unix и поставляется вместе с операционной сис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04C5-A3AD-427E-A1E8-790DA19808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endmail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usr/lib/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sendmail.c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файла псевдоним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ali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других вспомогательных файлов, а также документов справочника man. Программа использует каталог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хранения конфигурационного и вспомогательных файлов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var/spool/mqueu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очереди сообщений. Путь к каталогу очереди сообщений может варьироваться от системы к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7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отличаются почтовые агенты: транспортный, доставки, пользователь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разница между протоколами POP и SM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состоят функции почтового серв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Назовите составные части сложного почтового сообщения (текст с двумя файлами-приложениями)? Укажите ключевые для понимания формата сообщения заголовки 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M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 функции программы sendmail. Обоснуйте необходимость наличия сложного конфигурационного файла у эт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Сравните sendmail с другими транспортными аг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, какие возможности имеет sendmail для ограничения (фильтрации) входящих и исходящих сообщений; какие критерии при этом исполь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маскарадинг? Приведите ситуации, в которых он может понадо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.Costales, E.Alman. Sendmail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рганизация службы электронной почты в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Основные команды протокола SMTP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а sendmail: ее функции и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2B73-C7AF-45C7-BCC3-3F9A3F8BE2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лужба электронной почты состоит из сети почтовых серверов, обслуживающих определенные доменные имена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 серверах сортируются, обрабатываются и хранятся в ожидании получателя почтовые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еры пересылают сообщения между собой через Интернет по протоколу SM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онечные пользователи работают либо непосредственно на серверах, либо чаще всего - за отдельными 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AFDC-D928-47AE-BFB4-C2E6BE9BBE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Работа электронной почты организуется путем взаимодействия агентов трех типов: транспортных, пользовательских и агентов до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Транспортны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ыполняют роль центров по обработке и маршрутизации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работают в связке с траспортными агентами и осуществляют доставку и пересылку сообщений тем или иным специфически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Пользовательски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заимодействуют непосредственно с челове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. Организация службы электронной почты в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A781-A059-4EFF-9B9C-DE18629A07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Транспортны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T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маршрутизацию почтовых сообщений, то есть анализ и преобразование заголовков письма и выбор и вызов нужного агента достав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Агент доставки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D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доставку или пересылку почтового сообщения тем или иным специфическим способ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ользовательски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U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предоставляющая конечному пользователю интерфейс для работы с почтовыми сообщен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A7A9-AB8F-41B3-806E-1EAFC4AF52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доменное имя, находящееся в правой части адреса электронной поч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ящи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левая часть адреса электронной почты, а также совокупность методов доставки и хранения почтовых сообщений внутри данного почтового до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Локальный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адрес электронной почты, находящийся в одном из почтовых доменов, обслуживаемых данным транспортным 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CD4C-5541-4C1F-94D5-CCA0FEC440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пересылки почтового сообщения транспортному аг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P-3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MA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; по сравнению с POP-3 предлагает расширенный набор услуг для конечного польз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т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5009-9F10-4D46-B22D-93BBD5683B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94464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рганизация и функционирование службы электронной поч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374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7:56Z</dcterms:modified>
  <cp:revision>238</cp:revision>
  <dc:subject/>
  <dc:title>Lecture Template </dc:title>
</cp:coreProperties>
</file>