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690D-D9A9-4BD1-B0CE-4DB96787D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FEE2-4CB7-46D3-83B7-BB2E2D6A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8048-1890-4E87-ABC6-22BF52481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4566-3F9C-4EBA-A40B-9AD1E4CFB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95C4-6FFE-4BD4-8734-162AABF8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B04A-C206-4126-90EC-06E597EE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BA57-798C-474F-82E2-F532B62E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1B71-F62F-478F-8040-10B7CE8B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C7CE-4398-4811-968C-5B9D0713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38C3-6573-400F-9EB7-4864D033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B54A-F896-4B43-ADA9-F487A861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91C2-7C02-41F8-88D9-18AC4A52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EFFA-00B4-4BE1-A497-86AB23EDA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000"/>
            <a:ext cx="8229600" cy="55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AE33-5FC6-42AF-9C41-0068A85593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9280" y="6915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  <a:ea typeface="宋体"/>
              </a:rPr>
              <a:t>Установка TCP-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3211560" y="475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0920" y="1305000"/>
            <a:ext cx="85341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B979-D6FD-4659-ACA0-19877D1EE9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180828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55440"/>
            <a:ext cx="73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542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Управление пото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542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542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етод скользящего ок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63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47640" y="1773360"/>
            <a:ext cx="8101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7280" y="6058080"/>
            <a:ext cx="8496360" cy="363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-36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2. Заголовок TCP-сегм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TCP-сегмент состоит из заголовка и да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TCP Header"/>
          <p:cNvPicPr/>
          <p:nvPr/>
        </p:nvPicPr>
        <p:blipFill>
          <a:blip r:embed="rId1"/>
          <a:stretch/>
        </p:blipFill>
        <p:spPr>
          <a:xfrm>
            <a:off x="358920" y="1628640"/>
            <a:ext cx="85341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577C-BCA0-4415-BF1A-62A8C00CE1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7280" y="123336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237320"/>
            <a:ext cx="799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ромежуточные состояния 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TCP-соединение во время функционирования проходит через ряд промежуточных состояний. Это состояния LISTEN, SYN-SENT, SYN-RECEIVED, ESTABLISHED, FIN-WAIT-1, FIN-WAIT-2, CLOSE-WAIT, CLOSING, LAST-ACK, TIME-WAIT, а также фиктивное состояние CLOSED. (Состояние CLOSED является фиктивным, поскольку оно представляет отсутствие соединения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EF3A-32EC-497D-B2BF-A3E0CED5A1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620640"/>
            <a:ext cx="849600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3280" y="-720"/>
            <a:ext cx="82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Фаза установления соед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03280" y="800280"/>
            <a:ext cx="82612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1A0A-05B4-4DA7-91E1-58AE12BE70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2000" y="-720"/>
            <a:ext cx="80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Фаза закрытия 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56908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196E-1DD4-494E-BF45-3E1B203FFE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657360"/>
            <a:ext cx="849636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954360"/>
            <a:ext cx="8101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пределены следующие запросы процесса-клиента модулю TCP (с каждым запросом, кроме OPEN, передается имя соединения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ACTIVE-OPEN - активное открытие соедин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PASSIVE-OPEN - пассивное открытие соеди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3DDF-32FD-480B-B4E1-EF183069D1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362880"/>
            <a:ext cx="8101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SEND - отправка данных (передается указатель на буфер данных, размер буфера, значения флагов URG и PSH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RECEIVE - получение данных (передается указатель на буфер данных, размер буфера; возвращается счетчик полученных октетов, значения флагов URG и PSH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STATUS - запрос состояния соедин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CB65-49B1-4B86-B5C6-79526DD164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9280" y="1125360"/>
            <a:ext cx="774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CLOSE - закрытие соединения (производится досылка всех неотправленных данных и обмен сегментами с битом FIN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ABORT - ликвидация соединения (уничтожаются блок TCB и все неотправленные данные, посылается сегмент с битом RST).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3B35-19B0-4258-8C83-A93D2ACFF4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7640" y="806040"/>
            <a:ext cx="792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остояния соеди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LISTEN - процесс пассивно ждет запроса со стороны чужих соке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SYN-SENT - процесс отправил свой SYN и ждет чужого SY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SYN-RECEIVED - процесс получил чужой SYN, отправил (раньше или только что) свой SYN и ждет ACK на свой SY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3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Протокол TC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4F5D-6EE3-4098-80A5-8250C5EC93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1188720"/>
            <a:ext cx="759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ESTABLISHED - процесс отправил ACK на чужой SYN, получил ACK на свой SYN; соединение установле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FIN-WAIT-1 - процесс первый отправил свой FIN и ждет реакцию той стороны; при этом он, возможно, продолжает получать дан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2ECC-A38F-4BEA-A1B2-BECB7A1D73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1429200"/>
            <a:ext cx="8136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"/>
              </a:rPr>
              <a:t>ESTABLISHED - процесс отправил ACK на чужой SYN, получил ACK на свой SYN; соединение установле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"/>
              </a:rPr>
              <a:t>FIN-WAIT-1 - процесс первый отправил свой FIN и ждет реакцию той стороны; при этом он, возможно, продолжает получать дан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DBD8-E646-4D67-BE22-3A1DF594A4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7640" y="1296360"/>
            <a:ext cx="8028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FIN-WAIT-2 - процесс получил ACK на свой ранее отправленный FIN, но не получил чужой FIN; ждет чужой FIN; при этом, возможно, продолжает получать данн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CLOSE-WAIT - процесс, не отправив свой FIN (возможно, не собираясь прекращать соединение), получает чужой FIN; он отправляет ACK на чужой FIN, но при этом, возможно, продолжает отправлять данн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95280" y="281880"/>
            <a:ext cx="8461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LAST-ACK - процесс отправил свой FIN, но ранее он уже получил FIN с той стороны и отправил на него ACK; поэтому процесс ожидает чужой ACK на свой FIN для окончательного закрытия соедин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CLOSING - процесс ранее отправил свой FIN и еще не получил не него подтверждение, но получил чужой FIN (и отправил на него ACK); ждет ACK на свой F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456480"/>
            <a:ext cx="8280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TIME-WAIT - процесс ранее отправил свой FIN и получил на него подтверждение, получил чужой FIN и только что отправил на него ACK; теперь процесс ждет некоторое время (два времени жизни сегмента, обычно 4 минуты) для гарантии того, что та сторона получит его ACK на свой FIN, после чего соединение будет окончательно закрыт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CLOSED - соединение отсутству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ff"/>
                </a:solidFill>
                <a:latin typeface="Tahoma"/>
              </a:rPr>
              <a:t>Вопросы для самопроверки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овы недостатки протокола TCP? Подходы к их реш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 приложение взаимодействует со стеком TCP/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На каком уровне стека TCP/IP находится протокол TC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В чем состоит принцип асинхронной и синхронной передачи дан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Чем идентифицируется прикладной процесс в протоколе TC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Что такое метод скользящего ок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oyle J. "Routing TCP/IP. Volume I" – Cisco Press,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007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645560"/>
            <a:ext cx="795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Содерж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宋体"/>
              </a:rPr>
              <a:t>1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Функции протокола TC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. Заголовок TCP-сегм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3. Промежуточные состояния соеди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D385-2859-450F-98D5-D09E07E7D6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1679400"/>
            <a:ext cx="784872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宋体"/>
              </a:rPr>
              <a:t>1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. Функции протокола TC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Базовая передача да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Обеспечение достовер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Разделение кана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правление соединени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правление поток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9834-8B57-415F-9248-FFF0937D48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1413360"/>
            <a:ext cx="8137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ротокол TCP (Transmission Control Protocol, Протокол контроля передачи) обеспечивает сквозную доставку данных между прикладными процессами, запущенными на узлах, взаимодействующих по сети. Стандартное описание TCP содержится в RFC-79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B81A-0307-4107-B5F4-B1A148D257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698040"/>
            <a:ext cx="7956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Базовая передача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Модуль TCP выполняет передачу непрерывных потоков данных между своими клиентами в обоих направлениях. Клиентами TCP являются прикладные процессы, вызывающие модуль TCP при необходимости получить или отправить данные процессу-клиенту на другом узл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D785-5532-493D-A42F-BE341C61BE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9280" y="2133720"/>
            <a:ext cx="774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Обеспечение достовер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Модуль TCP обеспечивает защиту от повреждения, потери, дублирования и нарушения очередности получения данны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A54C-83FC-40F1-A453-41E39E8139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6360" y="1178640"/>
            <a:ext cx="79200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Разделение кана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ротокол TCP обеспечивает работу одновременно нескольких соединений. Заголовок TCP-сегмента содержит номера портов процесса-отправителя и процесса-получателя. При получении сегмента модуль TCP анализирует номер порта получателя и отправляет данные соответствующему прикладному процес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B9BE-613B-4407-A866-0636750A19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800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727200"/>
            <a:ext cx="7164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Управление соедине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Соединение - это совокупность информации о состоянии потока данных, включающая сокеты, номера посланных, принятых и подтвержденных октетов, размеры око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Каждое соединение уникально идентифицируется в Интернет парой соке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23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53:39Z</dcterms:modified>
  <cp:revision>149</cp:revision>
  <dc:subject/>
  <dc:title>Lecture Template </dc:title>
</cp:coreProperties>
</file>