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86E-4709-4E44-B3AE-0085BB73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307-8196-456C-89C9-D824B46C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F45-D569-4D79-9704-3230F83C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FDA-8557-4424-BEC0-F584C482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723-4D32-497F-9DD7-BBB345B7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445-0009-43BD-9A6E-F58BC90F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E88-4D0C-4E8F-A006-2A2D88CB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569-B5C4-491C-8280-6AC8A712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007-37C7-436F-8127-E304171F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75E-18CC-49BF-8AD4-3F66630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88D-2A72-4078-8705-3758952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8D9-C2BF-4713-9CD1-4E88C6BD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30DE-B84E-47B8-9210-A563E7251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6233-46B5-4FF8-B83A-25065DF167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6852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начальный момент времени (например, после подачи питания на маршрутизаторы) таблица маршрутов в узле  выглядит следующим образом (т.к. узел  знает только о тех сетях, к которым подключен непосредственно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ледовательно, узел  рассылает в сети А и В вектор расстояний (А=1,В=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7999-A6DE-4588-BA17-DBB4DB8EAD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750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скольку сети C и D вовсе не фигурируют в его таблице маршрутов, они туда вносятся. В узле  име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D=2à 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093320"/>
            <a:ext cx="79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еть Е в таблице узла  отсутству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3à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E0EB-36CE-47F6-B2FD-A95896C466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74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Итоговая таблица маршрутов маршрутизатора 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9FF4-5130-42F3-B4E9-4ECAA71F62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88560"/>
            <a:ext cx="78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ыясним, что происходит в случае, когда состояние системы неожиданно изменяется, например, маршрутизатор  отключается от сети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1280" y="3033720"/>
            <a:ext cx="64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D59E-2AF7-4E6D-B419-EFA5D8FBEB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69480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6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построенный на основании этой таблицы, рассылается в сеть В, чтобы маршрутизаторы, направлявшие свои данные через  в ставшие недоступными сети, если таковые маршрутизаторы существуют, соответственно изменили свои маршрутные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0BA-3BFC-4F71-B65C-00DCE3031D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87300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узле ƒ имелась следующая таблица маршру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3789-6007-4DF4-84AB-01238B06A4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6360" y="88596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Таким образом, узел  построил маршруты в обход поврежденного участка и восстановил достижимость всех се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76B-5A41-4D43-9F4F-BD4130F002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68012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2. Особые случа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цик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. Счет до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5D0E-5059-42D7-BB64-8F22EBFBCC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00" y="403920"/>
            <a:ext cx="78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7166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Протокол R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D1C-A973-4C6D-BA3E-0601126BF1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327600"/>
            <a:ext cx="8712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ƒ отправлял дейтаграммы в сеть А через  , то есть таблица в узле ƒ имела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2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осле отсоединения  от сети А узел ƒ получает от  вектор (A=16,B=1,C=16,D=16,E=2). Проанализировав этот вектор, ƒ делает вывод, что все указанные в нем расстояния больше значений, содержащихся в его маршрутной таблице, на основании чего этот вектор узлом ƒ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3DE-D679-4253-99CB-B2B244FB39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92000"/>
            <a:ext cx="7921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Очевидно, после этого содержимое таблиц узлов  и ƒ стабилизируется.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87F-4EDE-48CE-9C45-B505BB351A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-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чет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449360"/>
            <a:ext cx="69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C62C-3464-48B2-8F56-21FD0A734E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40680"/>
            <a:ext cx="774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ервоначально сеть А была подсоединена к узлу‚ но в какой-то момент времени произошла авария и сеть А оказалась изолирова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о момента аварии маршрутизаторы имели следующие записи относительно сети 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‚ А=1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„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медленно после аварии запись в таблице маршрутов узла А изменяется на А=16à ‚ , это говорит о том, что сеть А недостижима, а точнее, что сеть А через узел ‚ недостижи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D598-4301-4662-A47B-F84AC395A1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1736640"/>
            <a:ext cx="80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рассылаемый из ‚ , с элементом A=16 достигает узла ƒ , но по какой-то причине задерживается на пути в „ . Согласно дополнениям к алгоритму рассылки векторов расстояний, приведенным в предыдущем пункте, узел ƒ вносит в свою таблицу запись А=16à ‚ и рассылает вектор с элементом А=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D33B-4978-43AB-A9E2-21FE38B144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546280"/>
            <a:ext cx="78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этот момент узел „ , до которого сообщение от узла ‚ о недостижимости сети А еще не дошло, рассылает в сети Е свой вектор с элементом А=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74A7-7E50-4E34-A44D-77A39B964C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74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зел ‚ , руководствуясь теми же соображениями, что и узел ƒ ранее, модифицирует свою таблицу: А=4à ƒ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177372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получает этот вектор, прибавляет к расстоянию 1 и замечает, что оно меньше записанного в таблице (бесконечность), следовательно, в таблице маршрутов узла ƒ появляется запись А=3à „ . Вектор расстояний с элементом А=3 рассылается узлом ƒ в сети С и достигает узла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1480680"/>
            <a:ext cx="79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мерно в это время узел „ получает наконец-то вектор А=16, отправленный после аварии узлом ‚ , но вслед за этим из узла ‚ приходит вектор А=4, который узел ‚ рассылает в сети D. Поскольку „ отправляет дейтаграммы в сеть А через ‚ , он обязан реагировать на любые объявления узлом ‚ расстояния до сети А. Поэтому в таблице узла „ появляется А=5à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7640" y="74016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3. 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уществуют две версии протокола RIP: RIP-1 и RIP-2. Версия 2 имеет некоторые усовершенствования, как то: возможность маршрутизации сетей по модели CIDR (кроме адреса сети передается и маска), поддержка мультикастинга, возможность использования аутентификации RIP-сообщений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640" y="1770840"/>
            <a:ext cx="8137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лгоритм построения таблицы маршру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обые случа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5920"/>
            <a:ext cx="79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Типы и формат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протоколе RIP имеются два типа сообщений, которыми обмениваются маршрутиз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твет (response) - рассылка вектора расстоя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прос (request) - маршрутизатор (например, после своей загрузки) запрашивает у соседей их маршрутные таблицы или данные об определенном маршру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мен сообщениями происходит по порту 520 UD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8920" y="1587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сообщений обоих типов одинак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030680" y="2239200"/>
            <a:ext cx="1108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RIP packet format"/>
          <p:cNvPicPr/>
          <p:nvPr/>
        </p:nvPicPr>
        <p:blipFill>
          <a:blip r:embed="rId1"/>
          <a:stretch/>
        </p:blipFill>
        <p:spPr>
          <a:xfrm>
            <a:off x="503280" y="1449360"/>
            <a:ext cx="83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6360" y="72576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Command" определяет тип сообщения: 1 - request, 2 - response; поле "Version" - версию протокола (1 или 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Address Family Identifier" содержит значение 2, которое обозначает семейство адресов IP; другие значения не определены. Поля "IP address" и "Metric" содержат адрес сети и расстояние до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108900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 получении сообщения типа "ответ" для каждого содержащегося в нем элемента вектора расстояний модуль RIP выполняет следующие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 корректность адреса сети и маски, указанных в сообщ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, не превышает ли метрика (расстояние до сети) бес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корректный элемент игнориру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0174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если метрика меньше бесконечности, она увеличивается на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изводится поиск сети, указанной в рассматриваемом элементе вектора расстояний, в таблице маршру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9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запись о такой сети в таблице маршрутов отсутствует и метрика в полученном элементе вектора меньше бесконечности, сеть вносится в таблицу маршрутов с указанной метрикой; в поле "Следующий маршрутизатор" заносится адрес маршрутизатора, приславшего сообщение; запускается таймер для этой записи в табли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9280" y="1917720"/>
            <a:ext cx="79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искомая запись присутствует в таблице с метрикой больше, чем объявленная в полученном векторе, в таблицу вносятся новые метрика и, соответственно, адрес следующего маршрутизатора; таймер для этой записи переза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1197000"/>
            <a:ext cx="7920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сли искомая запись присутствует в таблице и отправителем полученного вектора был маршрутизатор, указанный в поле "Следующий маршрутизатор" этой записи, то таймер для этой записи перезапускается; более того, если при этом метрика в таблице отличается от метрики в полученном векторе расстояний, в таблицу вносится значение метрики из полученного ве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 во всех прочих случаях рассматриваемый элемент вектора расстояний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7280" y="29844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щий порядок действий при конфигурировании модуля RIP следующ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, какие сети, подключенные к маршрутизатору, будут включены в RIP-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nonbroadcast networks", т.е. сети со статической маршрутизацией (например, тупиковые сети, подсоединенные к внешнему миру через единственный шлюз), куда не нужно рассылать векторы расстоя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permanent routes" - статические маршруты, например, маршрут по умолчанию за пределы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34136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айте сравнительную характеристику протоколов RIP и OSPF. Определите область применения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 какому типу протокола маршрутизации относиться 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часто распространяется вектор расстояний в RIP системе по умолч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Исключительные ситуации в RIP системе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отличие версии протокола RIP-1 от RIP-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A85A-6FDB-42AD-BB90-EB8B078DE5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83360"/>
            <a:ext cx="81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токол RIP является дистанционно-векторным протоколом внутренней маршрутизации. Процесс работы протокола состоит в рассылке, получении и обработке векторов расстояний до IP-сетей, находящихся в области действия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25AA-98C3-432E-A8A2-6D7614BA8C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933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зультатом работы протокола на конкретном маршрутизаторе является таблица, где для каждой сети данной RIP-системы указано расстояние до этой сети (в хопах) и адрес следующего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AE6C-2562-4C5B-A1C7-DCC46F8DE7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43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Алгоритм построения таблицы маршр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=2à 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означает, что расстояние от данного маршрутизатора до сети А равно 2, а дейтаграммы, следующие в сеть А, надо пересылать маршрутизатору ƒ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C890-546A-44DB-B2A7-3052AAD8C4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193320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ектором расстояний называется набор пар ("Сеть", "Расстояние до этой сети"), извлеченный из таблицы маршру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о элементом вектора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8CB-244F-4E07-A740-42B1A09D63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170028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, на котором запущен модуль RIP, периодически широковещательно распространяет свой вектор расстояний. Вектор распространяется через все интерфейсы маршрутизатора, подключенные к сетям, входящим в RIP-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 также периодически получает векторы расстояний от других маршрутизаторов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5E3F-585E-4993-8D4F-366222A170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028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Пример построения таблицы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десь  , ‚ , ƒ , „  - маршрутизаторы, A, B, C, D, E - сети. Хосты в сетях не показаны за ненадобностью. Мы будем следить за формированием таблицы маршрутов в узле 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709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48Z</dcterms:modified>
  <cp:revision>148</cp:revision>
  <dc:subject/>
  <dc:title>Lecture Template </dc:title>
</cp:coreProperties>
</file>