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9352-9A30-42A7-983E-2B4A6E19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79F1-8CA4-452B-A04F-8FF4646E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8355-DA3D-4A34-8009-184D70F7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5DE6-5BEC-4F63-AD56-214A807C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4662-71B7-4131-AF60-C1B0697D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D732-0CA4-4FE6-ABAB-ACC2F283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E1A7-ABAA-4094-B539-3029D20F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8AFC-DA3E-42E9-A4EC-9369AA34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F22C-44AC-4A51-A9DC-FBF207D2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9B84-0D25-4357-B48A-576813EA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AEA7-EAB9-440D-8CB6-87F90DF3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D70C-06F4-41C2-8E36-6A9F71D9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EC1A-012B-4BEB-9983-B3B25A22D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C190-BEFC-4803-B095-D5B5C45485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052640"/>
            <a:ext cx="8101080" cy="4895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Эти процессы, с другой стороны, могут находиться не на самом верхнем уровне мод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и этом сущность этих данных и их интерпретация для рассматриваемых процессов совершенно не важ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8FC8-726D-4F5B-A6B0-9D976F3E25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828000"/>
            <a:ext cx="8426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Уровень приложения (Application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 интерфейс с прикладными процесс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Уровень представления (Presentation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 согласование представления (форматов, кодировок) данных прикладных процесс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Сеансовый уровень (Session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 установление, поддержка и закрытие логического сеанса связи между удаленными процесс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1247400"/>
            <a:ext cx="788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Транспортный уровень (Transport) -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 обеспечение безошибочного сквозного обмена потоками данных между процессами во время сеан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Сетевой уровень (Network) -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 фрагментация и сборка передаваемых транспортным уровнем данных, маршрутизация и продвижение их по сети от компьютера-отправителя к компьютеру-получате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0F77-0CEB-4D66-9A85-E59F08E297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1341360"/>
            <a:ext cx="7813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Канальный уровень (Data Link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 управление каналом передачи данных, управление доступом к среде передачи, передача данных по каналу, обнаружение ошибок в канале и их коррекц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Физический уровень (Physical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 физический интерфейс с каналом передачи данных, представление данных в виде физических сигналов и их кодирование (модуляция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9F74-663B-40F6-8402-65C3A38CD4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09680"/>
            <a:ext cx="8172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. Инкапсуляция и обработка пак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При продвижении пакета данных по уровням сверху вниз каждый новый уровень добавляет к пакету свою служебную информацию в виде заголовка и, возможно, трейлера. Эта операция называется инкапсуляцией данных верхнего уровня в пакете нижнего уровня. Служебная информация предназначается для объекта того же уровня на удаленном компьютере, ее формат и интерпретация определяются протоколом данного уров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B739-FC69-46A1-A3F7-F773253843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1828080"/>
            <a:ext cx="820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Модель OSI предложена достаточно давно, однако протоколы, на ней основанные, используются редко, во-первых, в силу своей не всегда оправданной сложности, во-вторых , из-за существования хотя и не соответствующих строго модели OSI, но уже хорошо зарекомендовавших себя стеков протоколов (например, TCP/I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8F71-F366-4870-99C1-0A3AB2B0C5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2000" y="2100600"/>
            <a:ext cx="78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3. Стек протоколов TCP/IP 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это собирательное название для набора (стека) сетевых протоколов разных уровней, используемых в Интерн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9294-057F-4079-91E8-7A79314D62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640" y="873000"/>
            <a:ext cx="7885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Особенности TCP/IP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- открытые стандарты протоколов, разрабатываемые независимо от программного и аппаратного обеспеч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независимость от физической среды передач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- система уникальной адреса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стандартизованные протоколы высокого уровня для распространенных пользовательских серви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7EFE-4880-484F-9B3C-4678E0A6D9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1268280"/>
            <a:ext cx="8243640" cy="439272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Стек протоколов TCP/IP делится на 4 уров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прикладной (applicatio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транспортный (transpor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межсетевой (interne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уровень доступа к среде передачи (network acces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05C8-B156-4D41-A1E1-DA90578EAC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1640" y="657360"/>
            <a:ext cx="8317080" cy="5435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Уровень при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Приложения, работающие со стеком TCP/IP, могут также выполнять функции уровней представления и частично сеансового модели OSI; например, преобразование данных к внешнему представлению, группировка данных для передачи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Распространенными примерами приложений являются программы telnet, ftp, HTTP-серверы и клиенты (WWW-броузеры), программы работы с электронной почт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920" y="123336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 1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Стеки сетевых протоколов</a:t>
            </a: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90A9-77B5-4A03-B645-7BC87FB2DF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3280" y="1916280"/>
            <a:ext cx="8209080" cy="3563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Транспортный урове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Протоколы транспортного уровня обеспечивают прозрачную (сквозную) доставку данных (end-to-end delivery service) между двумя прикладными процесс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17B7-603B-46D3-9F72-7E799B3275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640" y="1881360"/>
            <a:ext cx="7993080" cy="42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530280" indent="-254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Процесс, получающий или отправляющий данные с помощью транспортного уровня, идентифицируется на этом уровне номером, который называется номером пор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3A4A-C6BD-4AF4-9E40-A1985CCAF8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6360" y="1160640"/>
            <a:ext cx="8064360" cy="47894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На транспортном уровне работают два основных протоко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UDP и TC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TCP (Transmission Control Protocol - протокол контроля передачи) -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 надежный протокол с установлением соедин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A28C-CEFB-4ED0-9EA9-46DF7F6990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1015920"/>
            <a:ext cx="7777080" cy="486108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4. Протокол UD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UDP (User Datagram Protocol, протокол пользовательских дейтаграмм) фактически не выполняет каких-либо особых функций дополнительно к функциям межсетевого уров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214F-C2A7-4C9F-9812-48EC842FEF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1640" y="1015920"/>
            <a:ext cx="8317080" cy="48974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токол UDP использу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либо при пересылке коротких сообщений, когда накладные расходы на установление сеанса и проверку успешной доставки данных оказываются выше расходов на повторную (в случае неудачи) пересылку сообщ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либо в том случае, когда сама организация процесса-приложения обеспечивает установление соединения и проверку доставки пакетов (например, NFS).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9C96-9D2C-48DD-9326-5FA8C8DBD1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744840"/>
            <a:ext cx="817272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ahoma"/>
              </a:rPr>
              <a:t>Значения поле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Source Port - номер порта процесса-отправи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Destination Port - номер порта процесса-получа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Length - длина UDP-пакета вместе с заголовком в октет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Checksum - контрольная сумма. Контрольная сумма вычисляется таким же образом, как и в TCP-заголовке (см. п. 3.2); если UDP-пакет имеет нечетную длину, то при вычислении контрольной суммы к нему добавляется нулевой окт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2937-B2D4-4499-BB98-90780E0339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8920" y="1703160"/>
            <a:ext cx="853272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токол UDP не имеет никаких средств подтверждения безошибочного приема данных или сообщения об ошибке, не обеспечивает приход сообщений в порядке отправки, не производит предварительного установления сеанса связи между прикладными процессами, поэтому он является ненадежным протоколом без установления со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1640" y="40428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Межсетевой уровень и протокол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7040" y="2060280"/>
            <a:ext cx="793116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bbe0e3"/>
                </a:solidFill>
                <a:latin typeface="Tahoma"/>
              </a:rPr>
              <a:t>-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отокол IP доставляет блоки данных, называемых дейтаграммами, от одного IP-адреса к другому. IP-адрес является уикальным 32-битным идентификатором компьютера (точнее, его сетевого интерфейс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55280" y="1233000"/>
            <a:ext cx="77770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Данные для дейтаграммы передаются IP-модулю транспортным уровнем. IP-модуль предваряет эти данные заголовком, содержащим IP-адреса отправителя и получателя и другую служебную информацию, и сформированная таким образом дейтаграмма передается на уровень доступа к среде передачи (например, одному из физических интерфейсов) для отправки по каналу передачи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000" y="1628640"/>
            <a:ext cx="79563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Модуль IP может отправить компьютеру-источнику этой дейтаграммы уведомление об ошибке; такие уведомления отправляются с помощью протокола ICMP, являющегося неотъемлемой частью модуля.</a:t>
            </a: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1280" y="1520640"/>
            <a:ext cx="8121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1) Уровни модели 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2) Инкапсуляция и обработка пак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3) Стек протоколов TCP/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4) Протокол IP и функции этого протоко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5) Протокол UD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6) Вопросы для самопрове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7) Рекомендуемая литература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1.    Опишите функции слоев стека TCP/IP и их взаимосв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2.    Что такое маска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3.    В чем состоит сущность процесса IP-маршрут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4.    Каковы задачи протокола IP? TCP? В чем их отличие друг от дру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5.    Каковы недостатки протокола IP? Подходы к их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6.    Каковы недостатки протокола TCP? Подходы к их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7.    Как приложение взаимодействует со стеком TCP/IP?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oyle J. "Routing TCP/IP. Volume I" – Cisco Press,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005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8CA4-C5E7-4EAD-AB99-E1F4EAE3E1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6360" y="1125360"/>
            <a:ext cx="7993080" cy="5004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1.1  Семиуровневая модель 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Модель OSI (Open System Interconnect Reference Model, Эталонная модель взаимодействия открытых систем) представляет собой универсальный стандарт на взаимодействие двух систем (компьютеров) через вычислительную се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7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 Уровни модели 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F64C-035F-41D2-AAB8-296847E391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413000"/>
            <a:ext cx="8064360" cy="4572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Каждый уровень определяется сервисом, который он предоставляет вышестоящему уровню, и протоколом - набором правил и форматов данных для взаимодействия между собой объектов одного уровня, работающих на разных компьютерах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BF58-C682-4290-8A04-19819BB0FD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484280"/>
            <a:ext cx="7921440" cy="39974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Модель построена так, что объекты одного уровня двух взаимодействующих компьютеров сообщаются непосредственно друг с другом с помощью соответствующих протоколов, не зная, какие уровни лежат под ними и какие функции они выполняю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9C12-4233-4AA3-946E-1A369CE60A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9280" y="1628640"/>
            <a:ext cx="784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Задача объектов - предоставить через стандартизованный интерфейс определенный сервис вышестоящему уровню, воспользовавшись, если нужно, сервисом, который предоставляет данному объекту нижележащий уровень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24CB-7040-4F18-BBC8-58B8C72BC1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413000"/>
            <a:ext cx="820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640" y="1448280"/>
            <a:ext cx="788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Через стандартизованный интерфейс процесс-отправитель передает данные нижнему уровню, который предоставляет процессу сервис по пересылке данных, а процесс-получатель через такой же стандартизованный интерфейс получает эти данные от нижнего уров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BBBD-E635-404C-B02C-80C3204BC1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1736640"/>
            <a:ext cx="792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При этом ни один из процессов не знает и не имеет необходимости знать, как именно осуществляет передачу данных протокол нижнего уровня, сколько еще уровней находится под ним, какова физическая среда передачи данных и каким путем они движут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Maxim</cp:lastModifiedBy>
  <dcterms:modified xsi:type="dcterms:W3CDTF">2009-01-12T10:26:52Z</dcterms:modified>
  <cp:revision>135</cp:revision>
  <dc:subject/>
  <dc:title>Lecture Template </dc:title>
</cp:coreProperties>
</file>