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2DEE3-C723-42E1-9C08-C4586A311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CB3B5-CAAF-4FAF-B8F3-26E631918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0E734-2DEB-43A7-9B9B-9D6EE0815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A6066-673E-4EDB-98A4-42840B003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BF178-88D8-409B-B93F-3D43DB554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16DCC-7AE5-47E8-AB89-73BF96466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91B3A-9551-463E-9B1B-F4CB15370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640BA-CD70-4A68-A281-2EA4E6859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8DDCC-129A-4727-9988-3A9F8AF0B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D8050-29FE-478E-9DCA-0CF08EB9A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B7EA4-FD9F-4C60-84EA-4C6F7F58B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04131-1282-459F-8456-18CBFAA9E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9EDA-F9CD-4DE7-85D4-FF9CAF6157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000"/>
            <a:ext cx="8229600" cy="550836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8ADC-3B15-4AB4-B00B-409EEDD88DF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канирование сети имеет своей целью выявление подключенных к сети компьютеров и определение работающих на них сетевых сервисов (открытых портов TCP или UDP). Первая задача выполняется посылкой ICMP-сообщений Echo с помощью программы ping с последовательным перебором адресов узлов в сети. Стоит попробовать отправить Echo-сообщение по широковещательному адресу — на него ответят все компьютеры, поддерживающие обработку таких сообщений.</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каниро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58D8-4332-49D4-A746-EA0AF12EFFA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Генерация датаграмм или кадров произвольного формата и содержания производится не менее просто, чем прослушивание сети Ethernet. Библиотека </a:t>
            </a:r>
            <a:r>
              <a:rPr b="1" lang="ru-RU" sz="2800" spc="-1" strike="noStrike">
                <a:solidFill>
                  <a:srgbClr val="3333ff"/>
                </a:solidFill>
                <a:latin typeface="Tahoma"/>
              </a:rPr>
              <a:t>libnet</a:t>
            </a:r>
            <a:r>
              <a:rPr b="0" lang="ru-RU" sz="2800" spc="-1" strike="noStrike">
                <a:solidFill>
                  <a:srgbClr val="3333ff"/>
                </a:solidFill>
                <a:latin typeface="Tahoma"/>
              </a:rPr>
              <a:t> обеспечит программиста всем необходимым для решения этой задачи. Библиотека </a:t>
            </a:r>
            <a:r>
              <a:rPr b="1" lang="ru-RU" sz="2800" spc="-1" strike="noStrike">
                <a:solidFill>
                  <a:srgbClr val="3333ff"/>
                </a:solidFill>
                <a:latin typeface="Tahoma"/>
              </a:rPr>
              <a:t>libpcap</a:t>
            </a:r>
            <a:r>
              <a:rPr b="0" lang="ru-RU" sz="2800" spc="-1" strike="noStrike">
                <a:solidFill>
                  <a:srgbClr val="3333ff"/>
                </a:solidFill>
                <a:latin typeface="Tahoma"/>
              </a:rPr>
              <a:t> предоставляет инструментарий для обратного действия - извлечения пакетов из сети и их анализа.</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Генерация пакет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AF8D-6260-434D-AC1E-6067AD9C6B1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Простейшей формой перехвата данных является прослушивание сети. В этом случае злоумышленник может получить массу полезной информации: имена пользователей и пароли (многие приложения передают их в открытом виде), адреса компьютеров в сети, в том числе адреса серверов и запущенные на них приложения, адрес маршрутизатора, собственно передаваемые данные, которые могут быть конфиденциальными (например, тексты электронных писем) и т. п.</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2. Перехват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97FD-EDD0-429C-87DA-5EEFD663CE8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хема ARP-атаки </a:t>
            </a:r>
            <a:endParaRPr b="0" lang="en-US" sz="3200" spc="-1" strike="noStrike">
              <a:solidFill>
                <a:srgbClr val="000000"/>
              </a:solidFill>
              <a:latin typeface="Arial"/>
            </a:endParaRPr>
          </a:p>
        </p:txBody>
      </p:sp>
      <p:pic>
        <p:nvPicPr>
          <p:cNvPr id="84" name="" descr=""/>
          <p:cNvPicPr/>
          <p:nvPr/>
        </p:nvPicPr>
        <p:blipFill>
          <a:blip r:embed="rId1"/>
          <a:stretch/>
        </p:blipFill>
        <p:spPr>
          <a:xfrm>
            <a:off x="1081080" y="907920"/>
            <a:ext cx="6804000" cy="541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8F47-66C1-46CA-B070-E2D673A26AD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авязывание ложного маршрутизатора</a:t>
            </a:r>
            <a:endParaRPr b="0" lang="en-US" sz="3200" spc="-1" strike="noStrike">
              <a:solidFill>
                <a:srgbClr val="000000"/>
              </a:solidFill>
              <a:latin typeface="Arial"/>
            </a:endParaRPr>
          </a:p>
        </p:txBody>
      </p:sp>
      <p:pic>
        <p:nvPicPr>
          <p:cNvPr id="88" name="" descr=""/>
          <p:cNvPicPr/>
          <p:nvPr/>
        </p:nvPicPr>
        <p:blipFill>
          <a:blip r:embed="rId1"/>
          <a:stretch/>
        </p:blipFill>
        <p:spPr>
          <a:xfrm>
            <a:off x="358920" y="1263600"/>
            <a:ext cx="8426160" cy="454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CB94-3BEA-4951-9780-1FB0C03FBFF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Имперсонация</a:t>
            </a:r>
            <a:endParaRPr b="0" lang="en-US" sz="3200" spc="-1" strike="noStrike">
              <a:solidFill>
                <a:srgbClr val="000000"/>
              </a:solidFill>
              <a:latin typeface="Arial"/>
            </a:endParaRPr>
          </a:p>
        </p:txBody>
      </p:sp>
      <p:pic>
        <p:nvPicPr>
          <p:cNvPr id="92" name="" descr=""/>
          <p:cNvPicPr/>
          <p:nvPr/>
        </p:nvPicPr>
        <p:blipFill>
          <a:blip r:embed="rId1"/>
          <a:stretch/>
        </p:blipFill>
        <p:spPr>
          <a:xfrm>
            <a:off x="826920" y="873000"/>
            <a:ext cx="7597800" cy="531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3CD0-E040-4FC9-9C6C-60289BFB6C7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Для незаконного подключения к сети злоумышленник, разумеется, должен иметь физическую возможность такого подключения. В крупных корпоративных и особенно университетских сетях такая возможность часто имеется. Следующим шагом для злоумышленника является конфигурирование параметров стека TCP/IP его компьютера.</a:t>
            </a:r>
            <a:endParaRPr b="0" lang="en-US" sz="2800" spc="-1" strike="noStrike">
              <a:solidFill>
                <a:srgbClr val="000000"/>
              </a:solidFill>
              <a:latin typeface="Arial"/>
            </a:endParaRPr>
          </a:p>
        </p:txBody>
      </p:sp>
      <p:sp>
        <p:nvSpPr>
          <p:cNvPr id="9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ое подключение к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B0B3-3397-45E8-8FF6-40C69FA7E43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 целью обеспечения безопасности внутренней (корпоративной) сети на шлюзе могут использоваться фильтры, препятствующие прохождению определенных типов датаграмм. Датаграммы могут фильтроваться по IP-адресам отправителя или получателя, по протоколу (поле Protocol IP-датаграммы), по номеру порта TCP или UDP, по другим параметрам, а также по комбинации этих параметров. </a:t>
            </a:r>
            <a:endParaRPr b="0" lang="en-US" sz="2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ый обмен данны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658B-17CD-4E6D-99B8-4C87DDB1F44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Туннелирование сквозь маршрутизатор</a:t>
            </a:r>
            <a:endParaRPr b="0" lang="en-US" sz="3200" spc="-1" strike="noStrike">
              <a:solidFill>
                <a:srgbClr val="000000"/>
              </a:solidFill>
              <a:latin typeface="Arial"/>
            </a:endParaRPr>
          </a:p>
        </p:txBody>
      </p:sp>
      <p:pic>
        <p:nvPicPr>
          <p:cNvPr id="104" name="" descr=""/>
          <p:cNvPicPr/>
          <p:nvPr/>
        </p:nvPicPr>
        <p:blipFill>
          <a:blip r:embed="rId1"/>
          <a:stretch/>
        </p:blipFill>
        <p:spPr>
          <a:xfrm>
            <a:off x="358920" y="1125360"/>
            <a:ext cx="8497800" cy="475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1A78-CABD-4C2F-9088-0D88B4BF09E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Атаки выполняются путем специально организованной посылки злоумышленником подтверждений приема данных (ACK-сегментов). Эти атаки эксплуатируют следующее неявное допущение, заложенное в протокол TCP: один участник TCP-соединения полностью доверяет другому участнику в том, что тот действует в строгом соответствии с теми же спецификациями протокола, что и первый</a:t>
            </a:r>
            <a:endParaRPr b="0" lang="en-US" sz="2800" spc="-1" strike="noStrike">
              <a:solidFill>
                <a:srgbClr val="000000"/>
              </a:solidFill>
              <a:latin typeface="Arial"/>
            </a:endParaRPr>
          </a:p>
        </p:txBody>
      </p:sp>
      <p:sp>
        <p:nvSpPr>
          <p:cNvPr id="10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8"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инуждение к ускоренной передаче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9</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828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Проблемы безопасности протоколов TCP/IP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B25B-6845-4CED-A3C9-6AD0339344D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Расщепление подтверждений</a:t>
            </a:r>
            <a:endParaRPr b="0" lang="en-US" sz="3200" spc="-1" strike="noStrike">
              <a:solidFill>
                <a:srgbClr val="000000"/>
              </a:solidFill>
              <a:latin typeface="Arial"/>
            </a:endParaRPr>
          </a:p>
        </p:txBody>
      </p:sp>
      <p:pic>
        <p:nvPicPr>
          <p:cNvPr id="112" name="" descr=""/>
          <p:cNvPicPr/>
          <p:nvPr/>
        </p:nvPicPr>
        <p:blipFill>
          <a:blip r:embed="rId1"/>
          <a:stretch/>
        </p:blipFill>
        <p:spPr>
          <a:xfrm>
            <a:off x="1584360" y="873000"/>
            <a:ext cx="5754600" cy="561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125F-8418-4D31-88FB-F1A961DAD1C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4"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5"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Ложные дубликаты подтверждений</a:t>
            </a:r>
            <a:endParaRPr b="0" lang="en-US" sz="3200" spc="-1" strike="noStrike">
              <a:solidFill>
                <a:srgbClr val="000000"/>
              </a:solidFill>
              <a:latin typeface="Arial"/>
            </a:endParaRPr>
          </a:p>
        </p:txBody>
      </p:sp>
      <p:pic>
        <p:nvPicPr>
          <p:cNvPr id="116" name="" descr=""/>
          <p:cNvPicPr/>
          <p:nvPr/>
        </p:nvPicPr>
        <p:blipFill>
          <a:blip r:embed="rId1"/>
          <a:stretch/>
        </p:blipFill>
        <p:spPr>
          <a:xfrm>
            <a:off x="1990800" y="833400"/>
            <a:ext cx="5029200" cy="590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F3D7-F771-48C8-ADEC-022A19638DE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таки типа «отказ в обслуживании» (</a:t>
            </a:r>
            <a:r>
              <a:rPr b="1" lang="ru-RU" sz="2800" spc="-1" strike="noStrike">
                <a:solidFill>
                  <a:srgbClr val="3333ff"/>
                </a:solidFill>
                <a:latin typeface="Tahoma"/>
              </a:rPr>
              <a:t>DoS</a:t>
            </a:r>
            <a:r>
              <a:rPr b="0" lang="ru-RU" sz="2800" spc="-1" strike="noStrike">
                <a:solidFill>
                  <a:srgbClr val="3333ff"/>
                </a:solidFill>
                <a:latin typeface="Tahoma"/>
              </a:rPr>
              <a:t>, denial of service), по-видимому, являются наиболее распространенными и простыми в исполнении. Целью атаки является приведение атакуемого узла или сети в такое состояние, когда передача данных другому узлу (или передача данных вообще) становится невозможна или крайне затруднена. Вследствие этого пользователи сетевых приложений, работающих на атакуемом узле, не могут быть обслужены</a:t>
            </a:r>
            <a:endParaRPr b="0" lang="en-US" sz="2800" spc="-1" strike="noStrike">
              <a:solidFill>
                <a:srgbClr val="000000"/>
              </a:solidFill>
              <a:latin typeface="Arial"/>
            </a:endParaRPr>
          </a:p>
        </p:txBody>
      </p:sp>
      <p:sp>
        <p:nvSpPr>
          <p:cNvPr id="11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Отказ в обслужива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2AC0-8C46-46E2-8330-CD3AC865CA7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murf</a:t>
            </a:r>
            <a:r>
              <a:rPr b="0" lang="ru-RU" sz="2700" spc="-1" strike="noStrike">
                <a:solidFill>
                  <a:srgbClr val="3333ff"/>
                </a:solidFill>
                <a:latin typeface="Tahoma"/>
              </a:rPr>
              <a:t> состоит в генерации шквала ICMP Echo-ответов, направленных на атакуемый узел.</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YN flood</a:t>
            </a:r>
            <a:r>
              <a:rPr b="0" lang="ru-RU" sz="2700" spc="-1" strike="noStrike">
                <a:solidFill>
                  <a:srgbClr val="3333ff"/>
                </a:solidFill>
                <a:latin typeface="Tahoma"/>
              </a:rPr>
              <a:t> состоит в посылке злоумышленником SYN-сегментов TCP на атакуемый узел в количестве большем, чем тот может обработать одновременно. </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UDP flood</a:t>
            </a:r>
            <a:r>
              <a:rPr b="0" lang="ru-RU" sz="2700" spc="-1" strike="noStrike">
                <a:solidFill>
                  <a:srgbClr val="3333ff"/>
                </a:solidFill>
                <a:latin typeface="Tahoma"/>
              </a:rPr>
              <a:t> состоит в затоплении атакуемой сети шквалом UDP-сообщений.</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ff"/>
                </a:solidFill>
                <a:latin typeface="Tahoma"/>
              </a:rPr>
              <a:t>Ложные DHCP-клиенты</a:t>
            </a:r>
            <a:r>
              <a:rPr b="0" lang="ru-RU" sz="2700" spc="-1" strike="noStrike">
                <a:solidFill>
                  <a:srgbClr val="000000"/>
                </a:solidFill>
                <a:latin typeface="Tahoma"/>
              </a:rPr>
              <a:t> </a:t>
            </a:r>
            <a:r>
              <a:rPr b="0" lang="ru-RU" sz="2700" spc="-1" strike="noStrike">
                <a:solidFill>
                  <a:srgbClr val="3333ff"/>
                </a:solidFill>
                <a:latin typeface="Tahoma"/>
              </a:rPr>
              <a:t>- создании злоумышленником большого числа сфальсифицированных запросов от различных несуществующих DHCP-клиентов.</a:t>
            </a:r>
            <a:endParaRPr b="0" lang="en-US" sz="2700" spc="-1" strike="noStrike">
              <a:solidFill>
                <a:srgbClr val="000000"/>
              </a:solidFill>
              <a:latin typeface="Arial"/>
            </a:endParaRPr>
          </a:p>
        </p:txBody>
      </p:sp>
      <p:sp>
        <p:nvSpPr>
          <p:cNvPr id="12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Истощение ресур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7BB4-B221-4B1F-908F-F2338AA9868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широковещательным адресом.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направленных из внутренней сети в Интернет, но имеющих внеш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прибывающих из Интернета, но имеющих внутрен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опцией «Source Route» и, если они не используются для групповой рассылки, инкапсулированных датаграмм. </a:t>
            </a:r>
            <a:endParaRPr b="0" lang="en-US" sz="2800" spc="-1" strike="noStrike">
              <a:solidFill>
                <a:srgbClr val="000000"/>
              </a:solidFill>
              <a:latin typeface="Arial"/>
            </a:endParaRPr>
          </a:p>
        </p:txBody>
      </p:sp>
      <p:sp>
        <p:nvSpPr>
          <p:cNvPr id="12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1F20-F554-411F-B326-8F14EFB3655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ICMP-сообщениями между сетью организации и Интернетом, кроме необходимых.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На сервере доступа клиентов по коммутируемой линии — разрешить пропуск датаграмм, направленных только с или на IP-адрес, назначенный клиенту.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UDP-сообщениями, направленными с или на порты echo и chargen, либо на все порты, кроме используемых. </a:t>
            </a:r>
            <a:endParaRPr b="0" lang="en-US" sz="2800" spc="-1" strike="noStrike">
              <a:solidFill>
                <a:srgbClr val="000000"/>
              </a:solidFill>
              <a:latin typeface="Arial"/>
            </a:endParaRPr>
          </a:p>
        </p:txBody>
      </p:sp>
      <p:sp>
        <p:nvSpPr>
          <p:cNvPr id="13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77A4-C060-4194-ACFD-C56A5A240F7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ние TCP Intercept для защиты от атак SYN flood.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Фильтрация TCP-сегментов выполняется в соответствии с политикой безопасности: разрешаются все сервисы, кроме запрещенных, или запрещаются все сервисы, кроме разрешенных (описывая каждый прикладной сервис в главе 3, мы будем обсуждать вопросы фильтрации сегментов применительно к сервису).</a:t>
            </a:r>
            <a:endParaRPr b="0" lang="en-US" sz="2800" spc="-1" strike="noStrike">
              <a:solidFill>
                <a:srgbClr val="000000"/>
              </a:solidFill>
              <a:latin typeface="Arial"/>
            </a:endParaRPr>
          </a:p>
        </p:txBody>
      </p:sp>
      <p:sp>
        <p:nvSpPr>
          <p:cNvPr id="13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841B-FEE3-4BC6-8E98-A58B0FBD26A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8"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аутентификацию сообщений протоколов маршрутизации с помощью алгоритма MD5.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Осуществлять фильтрацию маршрутов, объявляемых сетями-клиентами, провайдером или другими автономными системами. Фильтрация выполняется в соответствии с маршрутной политикой организации; маршруты, не соответствующие политике, игнорируютс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на маршрутизаторе, а также на коммутаторах статическую ARP-таблицу узлов сети организации. </a:t>
            </a:r>
            <a:endParaRPr b="0" lang="en-US" sz="2800" spc="-1" strike="noStrike">
              <a:solidFill>
                <a:srgbClr val="000000"/>
              </a:solidFill>
              <a:latin typeface="Arial"/>
            </a:endParaRPr>
          </a:p>
        </p:txBody>
      </p:sp>
      <p:sp>
        <p:nvSpPr>
          <p:cNvPr id="13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2193-AA6F-4DC2-85C8-20788D07C70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2"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на маршрутизаторе все ненужные сервисы.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граничить доступ к маршрутизатору консолью или выделенной рабочей станцией администратора, использовать парольную защиту; не использовать telnet для доступа к маршрутизатору в сети, которая может быть прослушана.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4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FD74-DA46-4434-9784-EA83490FE91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 Echo-запросов, направленных на широковещательный адрес.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сообщений Redirect, Address Mask Reply, Router Advertisement, Source Quench.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хосты локальной сети конфигурируются динамически сервером DHCP, использовать на DHCP-сервере таблицу соответствия MAC- и IP-адресов и выдавать хостам заранее определенные IP-адре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Методы и инструменты</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Перехват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Имперсонация</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Несанкционированное подключение к сети</a:t>
            </a:r>
            <a:r>
              <a:rPr b="0" lang="en-US" sz="3200" spc="-1" strike="noStrike">
                <a:solidFill>
                  <a:srgbClr val="0066ff"/>
                </a:solidFill>
                <a:latin typeface="Tahoma"/>
              </a:rPr>
              <a:t> </a:t>
            </a:r>
            <a:r>
              <a:rPr b="0" lang="ru-RU" sz="3200" spc="-1" strike="noStrike">
                <a:solidFill>
                  <a:srgbClr val="0066ff"/>
                </a:solidFill>
                <a:latin typeface="Tahoma"/>
              </a:rPr>
              <a:t>и обмен данным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Принуждение к ускоренной передаче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6) Отказ в обслуживани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7) Обсужд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A1EA-AC8B-4E78-822F-B7F549DC489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все ненужные сервисы TCP и UDP.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входящие соединения обслуживаются супердемоном inetd, то использовать оболочки TCP wrappers или заменить inetd на супердемон типа xinetd или tcpserver, позволяющий устанавливать максимальное число одновременных соединений, список разрешенных адресов клиентов, выполнять проверку легальности адреса через DNS и регистрировать соединения в лог-файле.</a:t>
            </a:r>
            <a:endParaRPr b="0" lang="en-US" sz="2800" spc="-1" strike="noStrike">
              <a:solidFill>
                <a:srgbClr val="000000"/>
              </a:solidFill>
              <a:latin typeface="Arial"/>
            </a:endParaRPr>
          </a:p>
        </p:txBody>
      </p:sp>
      <p:sp>
        <p:nvSpPr>
          <p:cNvPr id="15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4159-8D44-41BD-969F-1DFB70FABF7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рограмму типа tcplogd, позволяющую отследить попытки скрытного сканировани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статическую ARP-таблицу узлов локальной сети.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Применять средства безопасности используемых на хосте прикладных сервисов.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ff"/>
                </a:solidFill>
                <a:latin typeface="Tahoma"/>
              </a:rPr>
              <a:t>Вопросы для самопроверки:</a:t>
            </a:r>
            <a:endParaRPr b="0" lang="en-US" sz="4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Определите проблему качества обслуживания в сетях IP.</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коммутации от маршрутизации? Какова выгода от использования технологий коммутации при передаче трафика в IP-сетях?</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преимущества имеет IP версии 6 над версией 4?</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ры защиты от атак необходимы маршрутизатору и хосту?</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стандартный и расширенных листов доступа?</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тоды перехвата данных вы знаете?</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6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егешна Ш. Качество обслуживания в сетях IP - М.: "Вильямс",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3D91-F9BF-47BD-B9F5-F5CB7E91480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ерехват данных, передаваемых через сеть от одного узла другому;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имперсонация (spoofing) (узел злоумышленника выдает себя за другой узел);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ое подключение к се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ая передача данных (обход правил фильтрации IP-трафика в сетях, защищенных брандмауэрам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нуждение узла к передаче данных на завышенной скорос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ведение узла в состояние, когда он не может нормально функционировать, передавать и принимать данные (DoS — denial of service, отказ в обслуживании).</a:t>
            </a:r>
            <a:endParaRPr b="0" lang="en-US" sz="24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1</a:t>
            </a:r>
            <a:r>
              <a:rPr b="0" lang="ru-RU" sz="3200" spc="-1" strike="noStrike">
                <a:solidFill>
                  <a:srgbClr val="0000cc"/>
                </a:solidFill>
                <a:latin typeface="Tahoma"/>
              </a:rPr>
              <a:t>. Проблемы безопасности протоколов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0A24-BD10-4FF5-94CE-987E26F92D7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Для достижения своих целей злоумышленник использует прослушивание </a:t>
            </a:r>
            <a:r>
              <a:rPr b="0" i="1" lang="ru-RU" sz="2800" spc="-1" strike="noStrike">
                <a:solidFill>
                  <a:srgbClr val="3333ff"/>
                </a:solidFill>
                <a:latin typeface="Tahoma"/>
              </a:rPr>
              <a:t>(sniffing),</a:t>
            </a:r>
            <a:r>
              <a:rPr b="0" lang="ru-RU" sz="2800" spc="-1" strike="noStrike">
                <a:solidFill>
                  <a:srgbClr val="3333ff"/>
                </a:solidFill>
                <a:latin typeface="Tahoma"/>
              </a:rPr>
              <a:t> сканирование сети и генерацию пакетов. Под генерацией пакетов понимается создание и отправка специально сконструированных датаграмм или кадров, позволяющих злоумышленнику выполнить ту или иную атаку. Особо выделим здесь фальсификацию пакетов, то есть создание IP-датаграмм или кадров уровня доступа к сети, направленных якобы от другого узла </a:t>
            </a:r>
            <a:r>
              <a:rPr b="0" i="1" lang="ru-RU" sz="2800" spc="-1" strike="noStrike">
                <a:solidFill>
                  <a:srgbClr val="3333ff"/>
                </a:solidFill>
                <a:latin typeface="Tahoma"/>
              </a:rPr>
              <a:t>(spoofing).</a:t>
            </a:r>
            <a:endParaRPr b="0" lang="en-US" sz="2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Методы и инструмен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66C9-8A90-49EE-BC5E-A9F87E6FF01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ослушивание сети Ethernet (а подавляющее большинство локальных сетей используют именно эту технологию) является тривиальной задачей: для этого нужно просто перевести интерфейс в режим прослушивания </a:t>
            </a:r>
            <a:r>
              <a:rPr b="0" i="1" lang="ru-RU" sz="2800" spc="-1" strike="noStrike">
                <a:solidFill>
                  <a:srgbClr val="3333ff"/>
                </a:solidFill>
                <a:latin typeface="Tahoma"/>
              </a:rPr>
              <a:t>(promiscuous mode)</a:t>
            </a:r>
            <a:r>
              <a:rPr b="0" lang="ru-RU" sz="2800" spc="-1" strike="noStrike">
                <a:solidFill>
                  <a:srgbClr val="3333ff"/>
                </a:solidFill>
                <a:latin typeface="Tahoma"/>
              </a:rPr>
              <a:t>. Легко доступны программы, не только записывающие весь трафик в сегменте Ethernet, но и выполняющие его отбор по установленным критериям</a:t>
            </a:r>
            <a:endParaRPr b="0" lang="en-US" sz="2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ослуши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6715-8909-43C6-B607-EB11E8F0F2F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Злоумышленник, прослушивающий сеть, может быть обнаружен с помощью утилиты </a:t>
            </a:r>
            <a:r>
              <a:rPr b="1" lang="ru-RU" sz="2800" spc="-1" strike="noStrike">
                <a:solidFill>
                  <a:srgbClr val="3333ff"/>
                </a:solidFill>
                <a:latin typeface="Tahoma"/>
              </a:rPr>
              <a:t>AntiSniff</a:t>
            </a:r>
            <a:r>
              <a:rPr b="0" lang="ru-RU" sz="2800" spc="-1" strike="noStrike">
                <a:solidFill>
                  <a:srgbClr val="3333ff"/>
                </a:solidFill>
                <a:latin typeface="Tahoma"/>
              </a:rPr>
              <a:t>, которая выявляет в сети узлы, чьи интерфейсы переведены в режим прослушивания.</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ервый тест</a:t>
            </a:r>
            <a:r>
              <a:rPr b="0" lang="ru-RU" sz="2800" spc="-1" strike="noStrike">
                <a:solidFill>
                  <a:srgbClr val="3333ff"/>
                </a:solidFill>
                <a:latin typeface="Tahoma"/>
              </a:rPr>
              <a:t> основан на особенностях обработки разными операционными системами кадров Ethernet, содержащих IP-датаграммы, направленные в адрес тестируемого узла. </a:t>
            </a:r>
            <a:endParaRPr b="0" lang="en-US" sz="2800" spc="-1" strike="noStrike">
              <a:solidFill>
                <a:srgbClr val="000000"/>
              </a:solidFill>
              <a:latin typeface="Arial"/>
            </a:endParaRPr>
          </a:p>
        </p:txBody>
      </p:sp>
      <p:sp>
        <p:nvSpPr>
          <p:cNvPr id="6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AntiSnif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404E-4B36-45C0-8D80-9DE064271A9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Второй тест</a:t>
            </a:r>
            <a:r>
              <a:rPr b="0" lang="ru-RU" sz="2800" spc="-1" strike="noStrike">
                <a:solidFill>
                  <a:srgbClr val="3333ff"/>
                </a:solidFill>
                <a:latin typeface="Tahoma"/>
              </a:rPr>
              <a:t> основан на предположении, что программа прослушивания на хосте злоумышленника выполняет обратные DNS-преобразования для IP-адресов подслушанных датаграмм. AntiSniff фабрикует датаграммы с фиктивными IP-адресами, после чего прослушивает сеть на предмет DNS-запросов о доменных именах для этих фиктивных адресов. Узлы, отправившие такие запросы, находятся в режиме прослушивания.</a:t>
            </a:r>
            <a:endParaRPr b="0" lang="en-US" sz="2800" spc="-1" strike="noStrike">
              <a:solidFill>
                <a:srgbClr val="000000"/>
              </a:solidFill>
              <a:latin typeface="Arial"/>
            </a:endParaRPr>
          </a:p>
        </p:txBody>
      </p:sp>
      <p:sp>
        <p:nvSpPr>
          <p:cNvPr id="6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5EF4-A349-4216-9671-BD031A5A687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7"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Тесты третьей</a:t>
            </a:r>
            <a:r>
              <a:rPr b="0" lang="ru-RU" sz="2800" spc="-1" strike="noStrike">
                <a:solidFill>
                  <a:srgbClr val="3333ff"/>
                </a:solidFill>
                <a:latin typeface="Tahoma"/>
              </a:rPr>
              <a:t> группы, наиболее универсальные. Тесты основаны на том, что в режиме прослушивания обработка всех кадров ложится на программное обеспечение злоумышленника, то есть, в конечном счете, на операционную систему. AntiSniff производит пробное тестирование узлов сети на предмет времени отклика на сообщения ICMP Echo, после чего порождает в сегменте шквал кадров, направленных на несуществующие MAC-адреса, при этом продолжая измерение времени отклика.</a:t>
            </a:r>
            <a:endParaRPr b="0" lang="en-US" sz="2800" spc="-1" strike="noStrike">
              <a:solidFill>
                <a:srgbClr val="000000"/>
              </a:solidFill>
              <a:latin typeface="Arial"/>
            </a:endParaRPr>
          </a:p>
        </p:txBody>
      </p:sp>
      <p:sp>
        <p:nvSpPr>
          <p:cNvPr id="6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37Z</dcterms:modified>
  <cp:revision>182</cp:revision>
  <dc:subject/>
  <dc:title>Lecture Template </dc:title>
</cp:coreProperties>
</file>