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A6173-9FD9-449D-A9E4-12E422987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B7D71-ACCE-47FB-B047-A27AC499F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E5131-F580-415E-84C4-1B0E57DDA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8EC50-0C9D-4D7A-8CF5-9129626D9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445DA-1F82-4D4E-AE34-028E153DA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D9C0C-975F-495F-AFB1-23CD4C6BE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60B54-72C3-4AD2-84FE-245AB3083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3E1D5-F459-40B5-B3F5-A9222FDE5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873F0-B373-4129-9995-2D40F0C80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70F9F-8BDA-4B4E-8686-79C0395E1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64BB4-D58C-4D38-9EAA-3446E70CA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BBD4D-37A6-4BB0-AFDB-089FE7999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6FCE4-8087-482D-BFE3-045C42F71B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940520" y="6381720"/>
            <a:ext cx="879480" cy="414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57200" y="657360"/>
            <a:ext cx="8229600" cy="55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Владивостокский государственный университет экономики и сервиса</a:t>
            </a:r>
            <a:br>
              <a:rPr sz="2400"/>
            </a:b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Институт информатики, инноваций и бизнес систем</a:t>
            </a:r>
            <a:br>
              <a:rPr sz="2400"/>
            </a:b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Кафедра информационных систем и компьютерных технолог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66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3366ff"/>
                </a:solidFill>
                <a:latin typeface="Tahoma"/>
              </a:rPr>
              <a:t>Предмет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ff"/>
                </a:solidFill>
                <a:latin typeface="Tahoma"/>
              </a:rPr>
              <a:t>«Телекоммуникационные технологии»</a:t>
            </a:r>
            <a:r>
              <a:rPr b="1" lang="ru-RU" sz="2400" spc="-1" strike="noStrike">
                <a:solidFill>
                  <a:srgbClr val="3366ff"/>
                </a:solidFill>
                <a:latin typeface="Tahoma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Руководитель: Сачко Максим Анатольевич, ст. преподавате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44865-6F3C-4F9C-AF9B-2A0CC19A98F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Membership Query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(Type=17) – запрос о наличии в сети членов групп. Запросы обо всех имеющихся группах – общие запросы – отправляются по адресу 224.0.0.1 ("всем узлам"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Membership Report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(Type=22) – уведомление о наличии в сети члена группы (отправляется хостом – членом группы по адресу группы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Leave Group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(Type=23) – уведомление об отсоединении хоста от группы (отправляется отсоединившимся хостом по адресу 224.0.0.2 – "всем маршрутизаторам"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Типы IGM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сообще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40EAB-8AC9-4BDC-9CFD-D3C33F633D0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1" lang="en-US" sz="2800" spc="-1" strike="noStrike">
                <a:solidFill>
                  <a:srgbClr val="3333ff"/>
                </a:solidFill>
                <a:latin typeface="Tahoma"/>
              </a:rPr>
              <a:t>Веерная рассылка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– наиболее простой метод маршрутизации групповых дейтаграмм, при котором дейтаграмма рассылается во все сети системы независимо от наличия в той или иной сети членов группы. При поступлении групповой дейтаграммы маршрутизатор проверяет, впервые ли он получает эту дейтаграмму. Если да, то маршрутизатор рассылает дейтаграмму через все свои интерфейсы, кроме того, с которого она была получена. Иначе дейтаграмма игнорирует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Tahoma"/>
              </a:rPr>
              <a:t>Веерная рассылка (Floodin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48333-0252-4C5C-833A-FF320E4A873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Tahoma"/>
              </a:rPr>
              <a:t>Остовые деревья (Spanning Tre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1063800"/>
            <a:ext cx="8785080" cy="52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D18EB-C737-4B05-93D1-E310DEF2919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RPF (Reverse Path Forwardin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1798560" y="728640"/>
            <a:ext cx="5402520" cy="57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C3430-DAEC-4A3E-89A9-EED41488ABD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Tahoma"/>
              </a:rPr>
              <a:t>CBT (Core Based Tre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1763640" y="765000"/>
            <a:ext cx="5302440" cy="568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F272D-2D89-4CE9-871A-76D49327F71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Протокол DVMRP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(Distance Vector Multicast Routing Protocol) – самый старый протокол групповой маршрутизации, он используется в ядре экспериментальной сети MBONE. Протокол работает по технологии RPF с усечением, но для построения деревьев используется собственный дистанционно-векторный протокол, аналогичный протоколу RI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Tahoma"/>
              </a:rPr>
              <a:t>4. Протоколы маршрутизации групповых дейтаграм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91CEE-F412-4188-BAA6-4ADFEF5764A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Протокол MOSPF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(Multicast OSPF) является расширением протокола OSPF. Маршрутизатор, поддерживающий это расширение, устанавливает бит "М" в поле "Options" сообщения "Hello". В базе данных состояния связей вводится дополнительный тип записи: для указанной сети перечисляются все группы, члены которых есть в этой сети. Эти записи, как и все прочие записи базы данных состояния связей, распространяются по системе сетей с помощью протокола веерной рассыл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Tahoma"/>
              </a:rPr>
              <a:t>Протоколы маршрутизации групповых дейтаграм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C4B85-E37F-477B-80E5-266552A2CAF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PIM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(Protocol Independent Multicast) – два протокола групповой маршрутизации (для плотного и разреженного расположения членов групп, соответственно dense mode и sparse mode), не зависящие от используемого протокола "обычной" маршрутизаци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PIM DM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(PIM Dense Mode) используется в системах сетей с большой плотностью получател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Tahoma"/>
              </a:rPr>
              <a:t>Протоколы маршрутизации групповых дейтаграм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6C4C6-A4AC-4E4D-A18D-A017EAE254D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PIM SM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(Protocol Independent Multicast, Sparse mode, RFC-2362) применяется для маршрутизации дейтаграмм для малочисленных групп, члены которых находятся далеко друг от друга (в этом случае недостатки метода RPF с усечением становятся существенными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Функционирование протокола можно кратко описать как метод CBT, переходящий в RPF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Tahoma"/>
              </a:rPr>
              <a:t>Протоколы маршрутизации групповых дейтаграм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A7ADE-9C84-4B98-A321-4D2C19AAAE7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Применение того или иного протокола групповой маршрутизации существенно зависит от того, плотно или разреженно расположены получатели группового трафика. Для плотного расположения годятся протоколы DVMRP, MOSPF и PIM DM; для разреженного подходят PIM SM и CB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Обсужд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68360" y="1160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ff"/>
                </a:solidFill>
                <a:latin typeface="Tahoma"/>
              </a:rPr>
              <a:t>Тема</a:t>
            </a:r>
            <a:r>
              <a:rPr b="1" lang="ru-RU" sz="4100" spc="-1" strike="noStrike">
                <a:solidFill>
                  <a:srgbClr val="3333ff"/>
                </a:solidFill>
                <a:latin typeface="Tahoma"/>
              </a:rPr>
              <a:t> </a:t>
            </a:r>
            <a:r>
              <a:rPr b="1" lang="en-US" sz="4100" spc="-1" strike="noStrike">
                <a:solidFill>
                  <a:srgbClr val="3333ff"/>
                </a:solidFill>
                <a:latin typeface="Tahoma"/>
              </a:rPr>
              <a:t>8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763640" y="2421000"/>
            <a:ext cx="58690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ff"/>
                </a:solidFill>
                <a:latin typeface="Tahoma"/>
              </a:rPr>
              <a:t>Мультикастин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66ff"/>
                </a:solidFill>
                <a:latin typeface="Tahoma"/>
              </a:rPr>
              <a:t>Вопросы для самопроверки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-59112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Укажите основную проблему в задаче передачи мульти­кастингового трафи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В чем состоит отличие случаев редкого и плотного расположения получателей мультикастинговых дейтаграмм с точки зрения методов их маршрутизаци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Какой протокол используется для отправки IP-дейтаграмм множеству хостов в сет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Какие адреса, назначены для использования мультикастингом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Какой основной недостаток использования групповой рассылки на транспортном уровн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Что такое веерная рассылк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Что такое PIM S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ff"/>
                </a:solidFill>
                <a:latin typeface="Tahoma"/>
              </a:rPr>
              <a:t>Рекомендуемая литература: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-59724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Мамаев М.А. Телекоммуникационные технологии (Сети TCP/IP). – Владивосток: Изд-во ВГУЭС, 2004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Леинванд А., Пински Б. Конфигурирование маршрутизаторов Cisco. 3-е издание. – М.: "Вильямс", 2007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Мамаев М., Петренко С. Технологии защиты информации в Интернете. Специальный справочник. – СПб: "Питер", 2005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Williamson B. "Developing IP Multicast Networks, Volume I". – Cisco Press, </a:t>
            </a: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2003</a:t>
            </a: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57200" y="3173400"/>
            <a:ext cx="822960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349"/>
              </a:spcBef>
              <a:buClr>
                <a:srgbClr val="00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ff"/>
                </a:solidFill>
                <a:latin typeface="Tahoma"/>
              </a:rPr>
              <a:t>Использование материалов презентац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349"/>
              </a:spcBef>
              <a:buClr>
                <a:srgbClr val="00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ff"/>
                </a:solidFill>
                <a:latin typeface="Tahoma"/>
              </a:rPr>
              <a:t>Использование данной презентации, может осуществляться только при условии соблюдения требований законов  РФ об авторском праве и интеллектуальной собственности, а также с учетом требований настоящего Заявле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349"/>
              </a:spcBef>
              <a:buClr>
                <a:srgbClr val="00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ff"/>
                </a:solidFill>
                <a:latin typeface="Tahoma"/>
              </a:rPr>
              <a:t>Презентация является собственностью авторов. Разрешается распечатывать копию любой части презентации для личного некоммерческого использования, однако не допускается распечатывать какую-либо часть презентации с любой иной целью или по каким-либо причинам вносить изменения в любую часть презентации. Использование любой части презентации в другом произведении, как в печатной, электронной, так и иной форме, а также использование любой части презентации в другой презентации посредством ссылки или иным образом допускается только после получения письменного согласия авторо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03280" y="512280"/>
            <a:ext cx="822960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ff"/>
                </a:solidFill>
                <a:latin typeface="Tahoma"/>
              </a:rPr>
              <a:t>Содержание:</a:t>
            </a: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24000" y="206028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ff"/>
                </a:solidFill>
                <a:latin typeface="Tahoma"/>
              </a:rPr>
              <a:t>1) Основные сведения о мультикастинг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ff"/>
                </a:solidFill>
                <a:latin typeface="Tahoma"/>
              </a:rPr>
              <a:t>2) Протокол IGMP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ff"/>
                </a:solidFill>
                <a:latin typeface="Tahoma"/>
              </a:rPr>
              <a:t>3) Маршрутизация групповых дейтаграмм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ff"/>
                </a:solidFill>
                <a:latin typeface="Tahoma"/>
              </a:rPr>
              <a:t>4) Протоколы маршрутизации групповых дейтаграм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0FBE9-B4E1-4846-B451-9A0C8A98B43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i="1" lang="ru-RU" sz="2800" spc="-1" strike="noStrike">
                <a:solidFill>
                  <a:srgbClr val="3333ff"/>
                </a:solidFill>
                <a:latin typeface="Tahoma"/>
              </a:rPr>
              <a:t>Мультикастингом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</a:t>
            </a:r>
            <a:r>
              <a:rPr b="0" i="1" lang="ru-RU" sz="2800" spc="-1" strike="noStrike">
                <a:solidFill>
                  <a:srgbClr val="3333ff"/>
                </a:solidFill>
                <a:latin typeface="Tahoma"/>
              </a:rPr>
              <a:t>(multicasting)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называется рассылка дейтаграмм группе получателей. Для идентификации групп используются специальные адреса получателя; эти адреса назначаются из класса D в диапазоне 224.0.0.0 – 239.255.255.255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Дейтаграмма, направленная на групповой адрес, должна быть доставлена всем участникам группы. В дальнейшем в этой главе такие дейтаграммы мы будем называть </a:t>
            </a:r>
            <a:r>
              <a:rPr b="0" i="1" lang="ru-RU" sz="2800" spc="-1" strike="noStrike">
                <a:solidFill>
                  <a:srgbClr val="3333ff"/>
                </a:solidFill>
                <a:latin typeface="Tahoma"/>
              </a:rPr>
              <a:t>групповыми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1</a:t>
            </a:r>
            <a:r>
              <a:rPr b="0" lang="ru-RU" sz="3200" spc="-1" strike="noStrike">
                <a:solidFill>
                  <a:srgbClr val="0000cc"/>
                </a:solidFill>
                <a:latin typeface="Tahoma"/>
              </a:rPr>
              <a:t>. Основные свед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225F2-BC37-4F02-9E2F-584A47E3A9E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224.0.0.1 – все узлы в данной сети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224.0.0.2 – все маршрутизаторы в данной сети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224.0.0.5 – все OSPF-маршрутизаторы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224.0.0.6 – выделенные OSPF-маршрутизаторы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224.0.0.9 – маршрутизаторы RIP-2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224.0.0.10 – IGRP-маршрутизаторы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224.0.1.1 – получатели информации по протоколу точного времени NTP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Зарезервированные групповые адрес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7F2B9-83EC-42B7-A592-F9FA82582D7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Для организации IP-сети с поддержкой мультикастинга необходимо следующее (RFC-1112)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buClr>
                <a:srgbClr val="333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поддержка мультикастинга в стеке TCP/IP расположенных в сети хостов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buClr>
                <a:srgbClr val="333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buClr>
                <a:srgbClr val="333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поддержка групповой или широковещательной рассылки на уровне доступа к се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EE7C6-AAF3-4592-89A0-421584AC7C9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Протокол IGMP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</a:t>
            </a:r>
            <a:r>
              <a:rPr b="0" i="1" lang="ru-RU" sz="2800" spc="-1" strike="noStrike">
                <a:solidFill>
                  <a:srgbClr val="3333ff"/>
                </a:solidFill>
                <a:latin typeface="Tahoma"/>
              </a:rPr>
              <a:t>(Internet Group Memebership Protocol)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предназначен для регистрации на маршрутизаторе членов групп, находящихся в непосредственно присоединенных к нему сетях. Имея эту информацию, маршрутизатор может сообщать другим маршрутизаторам (с помощью протоколов групповой маршрутизации) о необходимости пересылки ему дейтаграмм для тех или иных групп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2. Протокол IGM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0D297-9553-42AB-9489-E3B4795C32E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IGMP работает непосредственно поверх протокола IP, и идентифицируется значением 2 в поле "Protocol" заголовка IP-дейтаграмм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4A03B-445B-4EEE-BFA4-9911DD0AE5A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95280" y="2133720"/>
            <a:ext cx="8424720" cy="406692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Type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(8 бит) – тип сообщени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Max Response Time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(8 бит) – максимальное время отклика, задествовано только в сообщениях типа Membership Quer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Checksum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(16 бит) – контрольная сумм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Group Address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(32 бита) – групповой IP-адрес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Сообщение IGM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58920" y="907920"/>
            <a:ext cx="8461080" cy="112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2T06:20:01Z</dcterms:created>
  <dc:creator>S.V.Ryzhkov</dc:creator>
  <dc:description/>
  <dc:language>en-US</dc:language>
  <cp:lastModifiedBy>1519-sachko</cp:lastModifiedBy>
  <dcterms:modified xsi:type="dcterms:W3CDTF">2009-01-13T03:54:27Z</dcterms:modified>
  <cp:revision>167</cp:revision>
  <dc:subject/>
  <dc:title>Lecture Template </dc:title>
</cp:coreProperties>
</file>