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FB997-8755-4E67-8E93-64673D2B3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FB935-F2EC-4D25-88E0-EEE1171E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E2130-E9D8-4417-A2B4-F964BEF89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09466-0136-4783-BCAF-DE4DAF708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5CED2-4564-4928-A23A-9EA35103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2736-995B-4B31-AE05-69BBC00DD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D3577-5E7F-4B3A-960F-D2C6E6821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7A674-EA35-4FC9-8040-3D8BCBC63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7BBC-7252-4E42-BFA3-55E5276E7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1F618-7EF7-49E5-BB44-668B8A27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CD96-B1EE-45AD-B2C4-FF263D33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A3F64-BB0B-4DC8-8A00-64054739F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F247-5131-42B7-ABE9-4DCB798C0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580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FAD5-0395-4D48-9596-C1D52417CE5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539640" y="320040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6360" y="453600"/>
            <a:ext cx="8028000" cy="57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Описание алгоритма</a:t>
            </a:r>
            <a:r>
              <a:rPr b="0" lang="ru-RU" sz="3200" spc="-1" strike="noStrike">
                <a:solidFill>
                  <a:srgbClr val="3366ff"/>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 Инициализировать E={S}, R={все вершины графа, кроме S}. Поместить в О все односегментные (длиной в одно ребро) пути, начинающиеся из S, отсортировав их в порядке возрастания метри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2. Если О пуст или первый путь в О имеет бесконечную метрику, то отметить все вершины в R как недостижимые и закончить работу алгорит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Рассмотрим P - кратчайший путь в списке О. Удалить P из О. Пусть V - последний узел в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8846-9CE4-4AFE-BCBB-51F46FEABBF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0"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5" name=""/>
          <p:cNvSpPr/>
          <p:nvPr/>
        </p:nvSpPr>
        <p:spPr>
          <a:xfrm>
            <a:off x="539640" y="3114720"/>
            <a:ext cx="799308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7640" y="1150560"/>
            <a:ext cx="8064720" cy="484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Построить набор новых путей, подлежащих рассмотрению, путем добавления к пути P всех односегментных путей, начинающихся из V. Метрика каждого нового пути равна сумме метрики P и метрики соответствующего односегментного отрезка, начинающегося из V. Добавить новые пути в упорядоченный список О, поместив их на места в соответствии со значениями метрик. Перейти на шаг 2.</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83"/>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80"/>
                                        </p:tgtEl>
                                        <p:attrNameLst>
                                          <p:attrName>style.visibility</p:attrName>
                                        </p:attrNameLst>
                                      </p:cBhvr>
                                      <p:to>
                                        <p:strVal val="visible"/>
                                      </p:to>
                                    </p:set>
                                    <p:animEffect filter="fade" transition="in">
                                      <p:cBhvr additive="repl">
                                        <p:cTn id="10" dur="2000"/>
                                        <p:tgtEl>
                                          <p:spTgt spid="80"/>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81"/>
                                        </p:tgtEl>
                                        <p:attrNameLst>
                                          <p:attrName>style.visibility</p:attrName>
                                        </p:attrNameLst>
                                      </p:cBhvr>
                                      <p:to>
                                        <p:strVal val="visible"/>
                                      </p:to>
                                    </p:set>
                                    <p:animEffect filter="wipe(down)" transition="in">
                                      <p:cBhvr additive="repl">
                                        <p:cTn id="14" dur="1000"/>
                                        <p:tgtEl>
                                          <p:spTgt spid="81"/>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82"/>
                                        </p:tgtEl>
                                        <p:attrNameLst>
                                          <p:attrName>style.visibility</p:attrName>
                                        </p:attrNameLst>
                                      </p:cBhvr>
                                      <p:to>
                                        <p:strVal val="visible"/>
                                      </p:to>
                                    </p:set>
                                    <p:anim calcmode="lin" valueType="num">
                                      <p:cBhvr additive="repl">
                                        <p:cTn id="18" dur="1000" fill="hold"/>
                                        <p:tgtEl>
                                          <p:spTgt spid="82"/>
                                        </p:tgtEl>
                                        <p:attrNameLst>
                                          <p:attrName>ppt_w</p:attrName>
                                        </p:attrNameLst>
                                      </p:cBhvr>
                                      <p:tavLst>
                                        <p:tav tm="0">
                                          <p:val>
                                            <p:fltVal val="0"/>
                                          </p:val>
                                        </p:tav>
                                        <p:tav tm="100000">
                                          <p:val>
                                            <p:strVal val="#ppt_w"/>
                                          </p:val>
                                        </p:tav>
                                      </p:tavLst>
                                    </p:anim>
                                    <p:anim calcmode="lin" valueType="num">
                                      <p:cBhvr additive="repl">
                                        <p:cTn id="19" dur="1000" fill="hold"/>
                                        <p:tgtEl>
                                          <p:spTgt spid="82"/>
                                        </p:tgtEl>
                                        <p:attrNameLst>
                                          <p:attrName>ppt_h</p:attrName>
                                        </p:attrNameLst>
                                      </p:cBhvr>
                                      <p:tavLst>
                                        <p:tav tm="0">
                                          <p:val>
                                            <p:fltVal val="0"/>
                                          </p:val>
                                        </p:tav>
                                        <p:tav tm="100000">
                                          <p:val>
                                            <p:strVal val="#ppt_h"/>
                                          </p:val>
                                        </p:tav>
                                      </p:tavLst>
                                    </p:anim>
                                    <p:animEffect filter="fade" transition="in">
                                      <p:cBhvr additive="repl">
                                        <p:cTn id="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8"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 name=""/>
          <p:cNvSpPr/>
          <p:nvPr/>
        </p:nvSpPr>
        <p:spPr>
          <a:xfrm>
            <a:off x="719280" y="322884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26920" y="-720"/>
            <a:ext cx="759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имер работы алгоритма SPF</a:t>
            </a:r>
            <a:endParaRPr b="0" lang="en-US" sz="3200" spc="-1" strike="noStrike">
              <a:solidFill>
                <a:srgbClr val="000000"/>
              </a:solidFill>
              <a:latin typeface="Arial"/>
            </a:endParaRPr>
          </a:p>
        </p:txBody>
      </p:sp>
      <p:pic>
        <p:nvPicPr>
          <p:cNvPr id="91" name="" descr=""/>
          <p:cNvPicPr/>
          <p:nvPr/>
        </p:nvPicPr>
        <p:blipFill>
          <a:blip r:embed="rId1"/>
          <a:stretch/>
        </p:blipFill>
        <p:spPr>
          <a:xfrm>
            <a:off x="1008000" y="1376280"/>
            <a:ext cx="759636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2"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D781-BC58-403A-9858-CD9BAAA75A5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
          <p:cNvSpPr/>
          <p:nvPr/>
        </p:nvSpPr>
        <p:spPr>
          <a:xfrm>
            <a:off x="287280" y="126828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4" name=""/>
          <p:cNvSpPr/>
          <p:nvPr/>
        </p:nvSpPr>
        <p:spPr>
          <a:xfrm>
            <a:off x="647640" y="221040"/>
            <a:ext cx="8496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и ее база данных состояния связей </a:t>
            </a:r>
            <a:endParaRPr b="0" lang="en-US" sz="2800" spc="-1" strike="noStrike">
              <a:solidFill>
                <a:srgbClr val="000000"/>
              </a:solidFill>
              <a:latin typeface="Arial"/>
            </a:endParaRPr>
          </a:p>
        </p:txBody>
      </p:sp>
      <p:pic>
        <p:nvPicPr>
          <p:cNvPr id="95" name="" descr="Link State Data Base table"/>
          <p:cNvPicPr/>
          <p:nvPr/>
        </p:nvPicPr>
        <p:blipFill>
          <a:blip r:embed="rId1"/>
          <a:stretch/>
        </p:blipFill>
        <p:spPr>
          <a:xfrm>
            <a:off x="64764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18F3-46C7-4FFF-B06F-A1AAFF2B829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7"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 name=""/>
          <p:cNvSpPr/>
          <p:nvPr/>
        </p:nvSpPr>
        <p:spPr>
          <a:xfrm>
            <a:off x="755640" y="2852640"/>
            <a:ext cx="8028000" cy="579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9280" y="193680"/>
            <a:ext cx="78832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5. Разграничение хостов и маршрутизатор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хостами </a:t>
            </a:r>
            <a:endParaRPr b="0" lang="en-US" sz="2800" spc="-1" strike="noStrike">
              <a:solidFill>
                <a:srgbClr val="000000"/>
              </a:solidFill>
              <a:latin typeface="Arial"/>
            </a:endParaRPr>
          </a:p>
        </p:txBody>
      </p:sp>
      <p:pic>
        <p:nvPicPr>
          <p:cNvPr id="100" name="" descr=""/>
          <p:cNvPicPr/>
          <p:nvPr/>
        </p:nvPicPr>
        <p:blipFill>
          <a:blip r:embed="rId1"/>
          <a:stretch/>
        </p:blipFill>
        <p:spPr>
          <a:xfrm>
            <a:off x="1187280" y="1916280"/>
            <a:ext cx="7237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002A-2725-4541-9DA9-F501F1DE286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65700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тупиковой сетью  </a:t>
            </a:r>
            <a:endParaRPr b="0" lang="en-US" sz="2800" spc="-1" strike="noStrike">
              <a:solidFill>
                <a:srgbClr val="000000"/>
              </a:solidFill>
              <a:latin typeface="Arial"/>
            </a:endParaRPr>
          </a:p>
        </p:txBody>
      </p:sp>
      <p:pic>
        <p:nvPicPr>
          <p:cNvPr id="104" name="" descr=""/>
          <p:cNvPicPr/>
          <p:nvPr/>
        </p:nvPicPr>
        <p:blipFill>
          <a:blip r:embed="rId1"/>
          <a:stretch/>
        </p:blipFill>
        <p:spPr>
          <a:xfrm>
            <a:off x="900000" y="1844640"/>
            <a:ext cx="7777440" cy="42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27E1-210C-43D9-A008-AFB85996EDB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7" name=""/>
          <p:cNvSpPr/>
          <p:nvPr/>
        </p:nvSpPr>
        <p:spPr>
          <a:xfrm>
            <a:off x="539640" y="583560"/>
            <a:ext cx="8245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6. Поддержка множественных маршрутов.</a:t>
            </a:r>
            <a:endParaRPr b="0" lang="en-US" sz="2800" spc="-1" strike="noStrike">
              <a:solidFill>
                <a:srgbClr val="000000"/>
              </a:solidFill>
              <a:latin typeface="Arial"/>
            </a:endParaRPr>
          </a:p>
        </p:txBody>
      </p:sp>
      <p:pic>
        <p:nvPicPr>
          <p:cNvPr id="108" name="" descr=""/>
          <p:cNvPicPr/>
          <p:nvPr/>
        </p:nvPicPr>
        <p:blipFill>
          <a:blip r:embed="rId1"/>
          <a:stretch/>
        </p:blipFill>
        <p:spPr>
          <a:xfrm>
            <a:off x="1079640" y="1628640"/>
            <a:ext cx="7272360" cy="3384720"/>
          </a:xfrm>
          <a:prstGeom prst="rect">
            <a:avLst/>
          </a:prstGeom>
          <a:ln w="0">
            <a:noFill/>
          </a:ln>
        </p:spPr>
      </p:pic>
      <p:sp>
        <p:nvSpPr>
          <p:cNvPr id="109" name=""/>
          <p:cNvSpPr/>
          <p:nvPr/>
        </p:nvSpPr>
        <p:spPr>
          <a:xfrm>
            <a:off x="826920" y="48816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особой ситуации при поддержке множественных маршруто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5FAB-96E2-480D-9255-DE72DEAAF38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611280" y="3141720"/>
            <a:ext cx="7956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55640" y="500832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корректной ситуации при поддержке множественных маршрутов </a:t>
            </a:r>
            <a:endParaRPr b="0" lang="en-US" sz="2800" spc="-1" strike="noStrike">
              <a:solidFill>
                <a:srgbClr val="000000"/>
              </a:solidFill>
              <a:latin typeface="Arial"/>
            </a:endParaRPr>
          </a:p>
        </p:txBody>
      </p:sp>
      <p:pic>
        <p:nvPicPr>
          <p:cNvPr id="115" name="" descr=""/>
          <p:cNvPicPr/>
          <p:nvPr/>
        </p:nvPicPr>
        <p:blipFill>
          <a:blip r:embed="rId1"/>
          <a:stretch/>
        </p:blipFill>
        <p:spPr>
          <a:xfrm>
            <a:off x="971640" y="944640"/>
            <a:ext cx="774072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7964-E3FC-4332-A400-8B7B07B8479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8" name=""/>
          <p:cNvSpPr/>
          <p:nvPr/>
        </p:nvSpPr>
        <p:spPr>
          <a:xfrm>
            <a:off x="647640" y="3259080"/>
            <a:ext cx="78850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76360" y="790920"/>
            <a:ext cx="8099280" cy="539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2. Построение базы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1. Протокол Hel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сле инициализации модуля OSPF (например, после подачи питания на маршрутизатор) через все интерфейсы, включенные в OSPF-систему, начинают рассылаться Hello-сообщения. Задача Hello-протокола - обнаружение соседей и установление с ними отношений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A07F-B297-4609-953E-3F10AE25BFB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31640" y="3170160"/>
            <a:ext cx="8172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11280" y="2454840"/>
            <a:ext cx="802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оседями</a:t>
            </a:r>
            <a:r>
              <a:rPr b="0" lang="ru-RU" sz="3200" spc="-1" strike="noStrike">
                <a:solidFill>
                  <a:srgbClr val="3366ff"/>
                </a:solidFill>
                <a:latin typeface="Tahoma"/>
              </a:rPr>
              <a:t> называются OSPF-маршрутизаторы, подключенные к одной сети (к одной линии связи) и обменивающиеся Hello-сообщ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31640" y="1915920"/>
            <a:ext cx="8229600" cy="28810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4000" spc="-1" strike="noStrike">
                <a:solidFill>
                  <a:srgbClr val="3366ff"/>
                </a:solidFill>
                <a:latin typeface="Tahoma"/>
              </a:rPr>
              <a:t>Тема 5. </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宋体"/>
              </a:rPr>
              <a:t>Протокол OSP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B843-8C21-4C10-89BC-EFA5720A17B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7" name=""/>
          <p:cNvSpPr/>
          <p:nvPr/>
        </p:nvSpPr>
        <p:spPr>
          <a:xfrm>
            <a:off x="611280" y="3139920"/>
            <a:ext cx="7921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39640" y="184464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межными </a:t>
            </a:r>
            <a:r>
              <a:rPr b="0" lang="ru-RU" sz="3200" spc="-1" strike="noStrike">
                <a:solidFill>
                  <a:srgbClr val="3366ff"/>
                </a:solidFill>
                <a:latin typeface="Tahoma"/>
              </a:rPr>
              <a:t>называются соседние OSPF маршрутизаторы, которые приняли решение обмениваться друг с другом информацией, необходимой для синхронизации базы данных состояния связей и построения маршру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13E6-6BEA-4DF3-B5AF-B1D6BD8B65A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1" name=""/>
          <p:cNvSpPr/>
          <p:nvPr/>
        </p:nvSpPr>
        <p:spPr>
          <a:xfrm>
            <a:off x="468360" y="3121200"/>
            <a:ext cx="806436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514080"/>
            <a:ext cx="7993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2. Протокол обме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a:t>
            </a:r>
            <a:r>
              <a:rPr b="0" lang="ru-RU" sz="2800" spc="-1" strike="noStrike">
                <a:solidFill>
                  <a:srgbClr val="3366ff"/>
                </a:solidFill>
                <a:latin typeface="Tahoma"/>
              </a:rPr>
              <a:t>После установления отношений смежности для каждой пары смежных маршрутизаторов происходит синхронизация их баз данных. Эта же операция происходит при восстановлении ранее разорванного соединения, поскольку в образовавшихся после аварии двух изолированных подсистемах базы данных развивались независимо друг от друга. Синхронизация баз данных происходит с помощью протокола обмена (Exchange protoc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87BE-B8CD-436A-ABED-0AB225B3EF3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719280" y="3002040"/>
            <a:ext cx="774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47640" y="1268280"/>
            <a:ext cx="8099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3. Протокол затопления (flooding).</a:t>
            </a:r>
            <a:r>
              <a:rPr b="0" lang="ru-RU"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дпротокол OSPF, выполняющий эту задачу, называется протоколом затопления (Flooding protocol). При работе этого протокола пересылаются сообщения типа "Обновление состояния связей (Link State Update)", получение которых подтверждается сообщениями типа "Link State Acknowledg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71DB-FFD3-49FF-9651-108A3E933D8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576360" y="765000"/>
            <a:ext cx="802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871200"/>
            <a:ext cx="8136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Для обеспечения надежности передачи данных реализован механизм подтверждения приема сообщений, также для всех сообщений вычисляется контрольная сумм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В протоколе OSPF может быть применена аутентификация сообщений, например, защита их с помощью парол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7852-DD22-4B1C-98C2-3DC4F825A13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4"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5" name=""/>
          <p:cNvSpPr/>
          <p:nvPr/>
        </p:nvSpPr>
        <p:spPr>
          <a:xfrm>
            <a:off x="719280" y="3160800"/>
            <a:ext cx="7885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640" y="879120"/>
            <a:ext cx="795672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Сети множественного доступ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особым образом выделяет сети множественного доступа, то есть сети, где каждый узел может непосредственно связаться с каждым. Такие сети могут также поддерживать широковещательную передачу и мультикастинг (broadcast networks, например, Ethernet, FDDI) или не поддерживать таковой (non-broadcast multi-access networks, NBMA, например, Х.25, Frame Relay, AT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47B7-003E-47EB-BEC5-63CE7711A0D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684360" y="963000"/>
            <a:ext cx="799128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1. Уменьшение числа отношений смеж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чевидно, такое буквальное следование идеологии не является рациональным. Протокол OSPF сводит ситуацию только к N отношениям смежности, выбирая среди всех маршрутизаторов данной широковещательной сети один выделенный маршрутизатор (designated router, DR), с которым все остальные маршрутизаторы устанавливают отношения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647640" y="-213480"/>
            <a:ext cx="7956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2. Уменьшение размера базы данны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позволяет также редуцировать размер базы данных состояния связей. </a:t>
            </a:r>
            <a:endParaRPr b="0" lang="en-US" sz="2800" spc="-1" strike="noStrike">
              <a:solidFill>
                <a:srgbClr val="000000"/>
              </a:solidFill>
              <a:latin typeface="Arial"/>
            </a:endParaRPr>
          </a:p>
        </p:txBody>
      </p:sp>
      <p:pic>
        <p:nvPicPr>
          <p:cNvPr id="151" name="" descr=""/>
          <p:cNvPicPr/>
          <p:nvPr/>
        </p:nvPicPr>
        <p:blipFill>
          <a:blip r:embed="rId1"/>
          <a:stretch/>
        </p:blipFill>
        <p:spPr>
          <a:xfrm>
            <a:off x="503280" y="1449360"/>
            <a:ext cx="8389800" cy="4248000"/>
          </a:xfrm>
          <a:prstGeom prst="rect">
            <a:avLst/>
          </a:prstGeom>
          <a:ln w="0">
            <a:noFill/>
          </a:ln>
        </p:spPr>
      </p:pic>
      <p:sp>
        <p:nvSpPr>
          <p:cNvPr id="152" name=""/>
          <p:cNvSpPr/>
          <p:nvPr/>
        </p:nvSpPr>
        <p:spPr>
          <a:xfrm>
            <a:off x="1294560" y="5805360"/>
            <a:ext cx="71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3366ff"/>
                </a:solidFill>
                <a:latin typeface="Tahoma"/>
              </a:rPr>
              <a:t>Пример физической структуры OSPF-системы</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684360" y="295920"/>
            <a:ext cx="795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Граф системы</a:t>
            </a:r>
            <a:endParaRPr b="0" lang="en-US" sz="3200" spc="-1" strike="noStrike">
              <a:solidFill>
                <a:srgbClr val="000000"/>
              </a:solidFill>
              <a:latin typeface="Arial"/>
            </a:endParaRPr>
          </a:p>
        </p:txBody>
      </p:sp>
      <p:pic>
        <p:nvPicPr>
          <p:cNvPr id="154" name="" descr=""/>
          <p:cNvPicPr/>
          <p:nvPr/>
        </p:nvPicPr>
        <p:blipFill>
          <a:blip r:embed="rId1"/>
          <a:stretch/>
        </p:blipFill>
        <p:spPr>
          <a:xfrm>
            <a:off x="539640" y="1160640"/>
            <a:ext cx="8353440" cy="48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
          <p:cNvSpPr/>
          <p:nvPr/>
        </p:nvSpPr>
        <p:spPr>
          <a:xfrm>
            <a:off x="647640" y="3178080"/>
            <a:ext cx="7956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900000" y="260280"/>
            <a:ext cx="770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p:txBody>
      </p:sp>
      <p:pic>
        <p:nvPicPr>
          <p:cNvPr id="157" name="" descr=""/>
          <p:cNvPicPr/>
          <p:nvPr/>
        </p:nvPicPr>
        <p:blipFill>
          <a:blip r:embed="rId1"/>
          <a:stretch/>
        </p:blipFill>
        <p:spPr>
          <a:xfrm>
            <a:off x="576360" y="1268280"/>
            <a:ext cx="8064360" cy="4213440"/>
          </a:xfrm>
          <a:prstGeom prst="rect">
            <a:avLst/>
          </a:prstGeom>
          <a:ln w="0">
            <a:noFill/>
          </a:ln>
        </p:spPr>
      </p:pic>
      <p:sp>
        <p:nvSpPr>
          <p:cNvPr id="158" name=""/>
          <p:cNvSpPr/>
          <p:nvPr/>
        </p:nvSpPr>
        <p:spPr>
          <a:xfrm>
            <a:off x="1152000" y="5734080"/>
            <a:ext cx="70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ример разбиения OSPF-системы на обла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
          <p:cNvSpPr/>
          <p:nvPr/>
        </p:nvSpPr>
        <p:spPr>
          <a:xfrm>
            <a:off x="719280" y="3017880"/>
            <a:ext cx="77770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2000" y="259560"/>
            <a:ext cx="7991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4.2. Разрыв магистрали </a:t>
            </a:r>
            <a:endParaRPr b="0" lang="en-US" sz="3200" spc="-1" strike="noStrike">
              <a:solidFill>
                <a:srgbClr val="000000"/>
              </a:solidFill>
              <a:latin typeface="Arial"/>
            </a:endParaRPr>
          </a:p>
        </p:txBody>
      </p:sp>
      <p:pic>
        <p:nvPicPr>
          <p:cNvPr id="161" name="" descr=""/>
          <p:cNvPicPr/>
          <p:nvPr/>
        </p:nvPicPr>
        <p:blipFill>
          <a:blip r:embed="rId1"/>
          <a:stretch/>
        </p:blipFill>
        <p:spPr>
          <a:xfrm>
            <a:off x="431640" y="1160640"/>
            <a:ext cx="8388360" cy="46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647640" y="3263760"/>
            <a:ext cx="8137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55640" y="1061640"/>
            <a:ext cx="7848720" cy="45424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Содержание:</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800" spc="-1" strike="noStrike">
                <a:solidFill>
                  <a:srgbClr val="3366ff"/>
                </a:solidFill>
                <a:latin typeface="Tahoma"/>
              </a:rPr>
              <a:t>Построение маршрутов.</a:t>
            </a:r>
            <a:endParaRPr b="0" lang="en-US" sz="28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Построение базы данных состояния связе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Сети множественного доступа.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5. Типы и форматы сообщени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6. Обсу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4" name=""/>
          <p:cNvSpPr/>
          <p:nvPr/>
        </p:nvSpPr>
        <p:spPr>
          <a:xfrm>
            <a:off x="576360" y="1557360"/>
            <a:ext cx="7812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669040" y="296280"/>
            <a:ext cx="395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2. Сообщение Hello.</a:t>
            </a:r>
            <a:endParaRPr b="0" lang="en-US" sz="2800" spc="-1" strike="noStrike">
              <a:solidFill>
                <a:srgbClr val="000000"/>
              </a:solidFill>
              <a:latin typeface="Arial"/>
            </a:endParaRPr>
          </a:p>
        </p:txBody>
      </p:sp>
      <p:pic>
        <p:nvPicPr>
          <p:cNvPr id="166" name="" descr="Hello message"/>
          <p:cNvPicPr/>
          <p:nvPr/>
        </p:nvPicPr>
        <p:blipFill>
          <a:blip r:embed="rId1"/>
          <a:stretch/>
        </p:blipFill>
        <p:spPr>
          <a:xfrm>
            <a:off x="395280" y="1376280"/>
            <a:ext cx="8461440" cy="464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611280" y="3222720"/>
            <a:ext cx="795636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19280" y="147960"/>
            <a:ext cx="7883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400" spc="-1" strike="noStrike">
                <a:solidFill>
                  <a:srgbClr val="3366ff"/>
                </a:solidFill>
                <a:latin typeface="Tahoma"/>
              </a:rPr>
              <a:t>5.3. Сообщение "Описание базы данных (Database Description)"</a:t>
            </a:r>
            <a:endParaRPr b="0" lang="en-US" sz="2400" spc="-1" strike="noStrike">
              <a:solidFill>
                <a:srgbClr val="000000"/>
              </a:solidFill>
              <a:latin typeface="Arial"/>
            </a:endParaRPr>
          </a:p>
        </p:txBody>
      </p:sp>
      <p:pic>
        <p:nvPicPr>
          <p:cNvPr id="169" name="" descr="Database Descritpion Message"/>
          <p:cNvPicPr/>
          <p:nvPr/>
        </p:nvPicPr>
        <p:blipFill>
          <a:blip r:embed="rId1"/>
          <a:stretch/>
        </p:blipFill>
        <p:spPr>
          <a:xfrm>
            <a:off x="324000" y="1413000"/>
            <a:ext cx="8569080" cy="46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611280" y="368280"/>
            <a:ext cx="80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1" name="" descr="Link State Request message"/>
          <p:cNvPicPr/>
          <p:nvPr/>
        </p:nvPicPr>
        <p:blipFill>
          <a:blip r:embed="rId1"/>
          <a:stretch/>
        </p:blipFill>
        <p:spPr>
          <a:xfrm>
            <a:off x="468360" y="1557360"/>
            <a:ext cx="8170920" cy="442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576360" y="3165480"/>
            <a:ext cx="7920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84360" y="368280"/>
            <a:ext cx="774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4" name="" descr="Link State Request message"/>
          <p:cNvPicPr/>
          <p:nvPr/>
        </p:nvPicPr>
        <p:blipFill>
          <a:blip r:embed="rId1"/>
          <a:stretch/>
        </p:blipFill>
        <p:spPr>
          <a:xfrm>
            <a:off x="611280" y="1628640"/>
            <a:ext cx="817380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
          <p:cNvSpPr/>
          <p:nvPr/>
        </p:nvSpPr>
        <p:spPr>
          <a:xfrm>
            <a:off x="431640" y="3230640"/>
            <a:ext cx="824400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297000"/>
            <a:ext cx="770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7" name="" descr="Link State Update message"/>
          <p:cNvPicPr/>
          <p:nvPr/>
        </p:nvPicPr>
        <p:blipFill>
          <a:blip r:embed="rId1"/>
          <a:stretch/>
        </p:blipFill>
        <p:spPr>
          <a:xfrm>
            <a:off x="468360" y="1736640"/>
            <a:ext cx="8172360" cy="446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
          <p:cNvSpPr/>
          <p:nvPr/>
        </p:nvSpPr>
        <p:spPr>
          <a:xfrm>
            <a:off x="539640" y="323676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24000" y="260280"/>
            <a:ext cx="8820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6. Сообщение "Подтверждение приема сообщения о состоянии связей (Link State Acknowledgment)" </a:t>
            </a:r>
            <a:endParaRPr b="0" lang="en-US" sz="2800" spc="-1" strike="noStrike">
              <a:solidFill>
                <a:srgbClr val="000000"/>
              </a:solidFill>
              <a:latin typeface="Arial"/>
            </a:endParaRPr>
          </a:p>
        </p:txBody>
      </p:sp>
      <p:pic>
        <p:nvPicPr>
          <p:cNvPr id="180" name="" descr="Link State Ack message"/>
          <p:cNvPicPr/>
          <p:nvPr/>
        </p:nvPicPr>
        <p:blipFill>
          <a:blip r:embed="rId1"/>
          <a:stretch/>
        </p:blipFill>
        <p:spPr>
          <a:xfrm>
            <a:off x="395280" y="1736640"/>
            <a:ext cx="8461440" cy="42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
          <p:cNvSpPr/>
          <p:nvPr/>
        </p:nvSpPr>
        <p:spPr>
          <a:xfrm>
            <a:off x="647640" y="516600"/>
            <a:ext cx="7740720" cy="576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6. Обсуждени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сновная документация по протоколу OSPF содержится в следующих источника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2328 — стандарт протокола OSPF, версия 2 (RFC-1247, 1583, 2178 - предыдущие версии OSPF-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131 - описание OSPF-1);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7 — работа с N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4  — расширения OSPF для мультикастинговой маршрутизации (см. также RFC-158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
          <p:cNvSpPr/>
          <p:nvPr/>
        </p:nvSpPr>
        <p:spPr>
          <a:xfrm>
            <a:off x="684360" y="3046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76360" y="1213200"/>
            <a:ext cx="8064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586 — рекомендации для работы OSPF поверх Frame Rel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793  — расширения OSPF для работы с соединениями, устанавливаемыми по требованию (demand circu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850 — дополнения к MIB (Management Infomation Base) для объектов протокола OSP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Дайте сравнительную характеристику протоколов RIP и OSPF. Определите область применения каждого из них.</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ие дополнительные возможности имеет протокол OSPF и в чем выгода их использования? </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 какому типу протоколов маршрутизации относиться OSFP?</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ой принцип алгоритма поиска кратчайшего пути используемого в </a:t>
            </a:r>
            <a:r>
              <a:rPr b="0" lang="en-US" sz="2400" spc="-1" strike="noStrike">
                <a:solidFill>
                  <a:srgbClr val="3366ff"/>
                </a:solidFill>
                <a:latin typeface="Tahoma"/>
                <a:ea typeface="宋体"/>
              </a:rPr>
              <a:t>OSPF?</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ему равна метрика в OSPF протоколе при пропускной способности канала 100 Мбит/с?</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ую задачу в OSPF-системе выполняет протокол затопления (flooding)?</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то такое тупиковая и не совсем тупиковая область в </a:t>
            </a:r>
            <a:r>
              <a:rPr b="0" lang="en-US" sz="2400" spc="-1" strike="noStrike">
                <a:solidFill>
                  <a:srgbClr val="3366ff"/>
                </a:solidFill>
                <a:latin typeface="Tahoma"/>
                <a:ea typeface="宋体"/>
              </a:rPr>
              <a:t>OSPF </a:t>
            </a:r>
            <a:r>
              <a:rPr b="0" lang="ru-RU" sz="2400" spc="-1" strike="noStrike">
                <a:solidFill>
                  <a:srgbClr val="3366ff"/>
                </a:solidFill>
                <a:latin typeface="Tahoma"/>
              </a:rPr>
              <a:t>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E12B-AB26-4D2A-81BF-7D04876EDBA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8" name=""/>
          <p:cNvSpPr/>
          <p:nvPr/>
        </p:nvSpPr>
        <p:spPr>
          <a:xfrm>
            <a:off x="539640" y="3147840"/>
            <a:ext cx="817272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19280" y="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 Построение маршрутов.</a:t>
            </a:r>
            <a:endParaRPr b="0" lang="en-US" sz="3200" spc="-1" strike="noStrike">
              <a:solidFill>
                <a:srgbClr val="000000"/>
              </a:solidFill>
              <a:latin typeface="Arial"/>
            </a:endParaRPr>
          </a:p>
        </p:txBody>
      </p:sp>
      <p:pic>
        <p:nvPicPr>
          <p:cNvPr id="50" name="" descr=""/>
          <p:cNvPicPr/>
          <p:nvPr/>
        </p:nvPicPr>
        <p:blipFill>
          <a:blip r:embed="rId1"/>
          <a:stretch/>
        </p:blipFill>
        <p:spPr>
          <a:xfrm>
            <a:off x="826920" y="1376280"/>
            <a:ext cx="7848720" cy="46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87" name="PlaceHolder 2"/>
          <p:cNvSpPr>
            <a:spLocks noGrp="1"/>
          </p:cNvSpPr>
          <p:nvPr>
            <p:ph/>
          </p:nvPr>
        </p:nvSpPr>
        <p:spPr>
          <a:xfrm>
            <a:off x="576360" y="1413000"/>
            <a:ext cx="8229600" cy="4752720"/>
          </a:xfrm>
          <a:prstGeom prst="rect">
            <a:avLst/>
          </a:prstGeom>
          <a:noFill/>
          <a:ln w="0">
            <a:noFill/>
          </a:ln>
        </p:spPr>
        <p:txBody>
          <a:bodyPr lIns="90000" rIns="90000" tIns="46800" bIns="46800" anchor="t">
            <a:normAutofit fontScale="96000"/>
          </a:bodyPr>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Thomas T. "OSPF Network Design Solutions". – Cisco Pres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BD81-DBB5-4E5A-9535-2C0C88F7980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11280" y="3154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47640" y="831240"/>
            <a:ext cx="788508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1. Метри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етрика представляет собой оценку качества связи в данной сети (на данном физическом канале); чем меньше метрика, тем лучше качество соединения. Метрика маршрута равна сумме метрик всех связей (сетей), входящих в маршрут. В простейшем случае (как это имеет место в протоколе RIP) метрика каждой сети равна единице, а метрика маршрута тогда просто является его длиной в хоп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A58F-1C3D-404D-91F5-0BF6346D02B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468360" y="3098880"/>
            <a:ext cx="828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718560"/>
            <a:ext cx="7848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Метрика сети, оценивающая пропускную способность, определяется как количество секунд, требуемое для передачи 100 Мбит через физическую среду данной сети. Например, метрика сети на базе 10Base-T Ethernet равна 10, а метрика выделенной линии 56 кбит/с равна 1785. Метрика канала со скоростью передачи данных 100 Мбит/с и выше равна единиц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557C-74B6-42DA-9AAC-7CA1BAAC0B8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647640" y="3152880"/>
            <a:ext cx="7777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280" y="1026360"/>
            <a:ext cx="8064360" cy="4481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2. База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ля работы алгоритма SPF на каждом маршрутизаторе строится база данных состояния связей, представляющая собой полное описание графа OSPF-системы. При этом вершинами графа являются маршрутизаторы, а ребрами - соединяющие их связи. Базы данных на всех маршрутизаторах идентич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6553-CF7F-4777-8B41-CECFB0E08F8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719280" y="1700280"/>
            <a:ext cx="78850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403920"/>
            <a:ext cx="7920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endParaRPr b="0" lang="en-US" sz="3200" spc="-1" strike="noStrike">
              <a:solidFill>
                <a:srgbClr val="000000"/>
              </a:solidFill>
              <a:latin typeface="Arial"/>
            </a:endParaRPr>
          </a:p>
        </p:txBody>
      </p:sp>
      <p:pic>
        <p:nvPicPr>
          <p:cNvPr id="69" name="" descr="Link State Data Base table"/>
          <p:cNvPicPr/>
          <p:nvPr/>
        </p:nvPicPr>
        <p:blipFill>
          <a:blip r:embed="rId1"/>
          <a:stretch/>
        </p:blipFill>
        <p:spPr>
          <a:xfrm>
            <a:off x="719280" y="1557360"/>
            <a:ext cx="8065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A2F3-C86B-43C3-88BF-964332A199C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1"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826920" y="1521000"/>
            <a:ext cx="75978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1027440"/>
            <a:ext cx="795636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r>
              <a:rPr b="0" lang="ru-RU" sz="3200" spc="-1" strike="noStrike">
                <a:solidFill>
                  <a:srgbClr val="3366ff"/>
                </a:solidFill>
                <a:latin typeface="Tahom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усть S - заданная вершина (источник пут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E - множество обработанных вершин, т.е. вершин, кратчайший путь к которым уже найде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 - множество оставшихся вершин графа (т.е. множество вершин графа за вычетом множества 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 - упорядоченный список пут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02Z</dcterms:modified>
  <cp:revision>159</cp:revision>
  <dc:subject/>
  <dc:title>Lecture Template </dc:title>
</cp:coreProperties>
</file>