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507-BCB5-4137-8737-F14D83FA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82EF-60B8-444B-98CC-373FCC34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FD4-5F9D-48D0-A3F0-9B042ED7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185-9302-46C0-9865-CCAB5B97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27CF-12A7-4FD9-91BC-4A245F95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300-39B8-4791-83ED-9C8B6F2A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03F-DBB7-4F3C-A093-43B9FB51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B3F-B20E-4D86-AD86-3A688F3B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190D-D38B-49BF-A5DF-8500A407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9738-765B-4F2E-A1DA-9B643B24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D148-A731-4F0A-83FB-70BEF579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620E-83F5-4279-9D5E-E0AD28B3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582D-E4B9-438C-98C1-6B93F56E9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19280" y="148428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7640" y="1862640"/>
            <a:ext cx="80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же в расчет метрики могут быть включены показатели загрузки и надежности сети. В отличие от протокола RIP метрика в EIGRP не является фактором, ограничивающим размер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3046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645200"/>
            <a:ext cx="774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и получении от соседей векторов расстояний, маршрутизатор для каждой сети назначения не только выбирает соседа, через которого лежит кратчайший путь в эту сеть, но также запоминает и вероятных заместителей (feasible successor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2963880"/>
            <a:ext cx="799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640" y="111636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ероятным заместителем становится маршрутизатор, объявивший метрику маршрута от себя до данной сети меньшую, чем полная метрика установленного маршрута. Рассмотрим пример на рис. 6.1 (для простоты метрики всех связей, кроме (4)-(5), считаем равными единице; метрика связи (4)-(5) равна 0,5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1773360"/>
            <a:ext cx="774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8269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имер EIGRP-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Пример EIGRP-системы"/>
          <p:cNvPicPr/>
          <p:nvPr/>
        </p:nvPicPr>
        <p:blipFill>
          <a:blip r:embed="rId1"/>
          <a:stretch/>
        </p:blipFill>
        <p:spPr>
          <a:xfrm>
            <a:off x="1547640" y="2060640"/>
            <a:ext cx="6481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55640" y="981000"/>
            <a:ext cx="78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7640" y="806400"/>
            <a:ext cx="795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ружками обозначены маршрутизаторы, прямоугольником – сеть назначения А. Маршрутизатор (3) получает от (5) элемент вектора расстояний (А=1), а от (4)  – (А=1,5). В таблице маршрутизатора (3) узел (5) становится следующим маршрутизатором на пути в сеть А, а узел (4) – вероятным заместителем, так как заявленное им расстояние до А (1,5) меньше полной метрики установленного маршрута (3)-(5)-А, которая равн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92000" y="1557360"/>
            <a:ext cx="770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680840"/>
            <a:ext cx="79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братим внимание на маршрутизаторы (1) и (2). Они присылают узлу (3) элемент (А=3) и, следовательно, не являются вероятными заместителями маршрута из (3) в А, что, безусловно, разум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19280" y="319392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6360" y="2103840"/>
            <a:ext cx="802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Если связь между узлами (3) и (5) обрывается, то (3) ищет в своей EIGRP-таблице вероятного заместителя ((4)) и немедленно устанавливает маршрут в сеть А через не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34920" y="2023920"/>
            <a:ext cx="766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460160"/>
            <a:ext cx="82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им образом время, в течение которого маршрут в сеть А отсутствовал, существенно сокращается по сравнению с протоколом RIP, где требуется ждать, когда соседи пришлют очередные векторы расстоя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47640" y="620640"/>
            <a:ext cx="766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1640" y="907920"/>
            <a:ext cx="8425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Если же ни одного вероятного заместителя не найдено (допустим, связь (3)-(4) тоже обрывается), то маршрутизатор переходит в активное состояние и начинает опрос всех своих соседей на предмет наличия маршрута в сеть А, сообщая при этом что его собственное расстояние до А равно бесконечности. Здесь вступает в работу алгоритм DUAL (Diffusing Update Algorithm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19280" y="148428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280" y="2118240"/>
            <a:ext cx="770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ледуя этому алгоритму, сосед отвечает на запрос только тогда, когда у него есть либо готовый маршрут в А, либо вероятный заместитель – в любом из этих случаев сосед присылает в узел (3) свое расстояние до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35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Tahoma"/>
              </a:rPr>
              <a:t>Тема 6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Tahoma"/>
              </a:rPr>
              <a:t>Протокол EIG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0920" y="1160280"/>
            <a:ext cx="7885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Иначе сосед сам переходит в активное состояние и процесс повторяется (разумеется с той разницей, что к маршрутизатору (3) запрос не посылается; кроме того, маршрутизатор, находящийся в активном состоянии, сам может отвечать на запросы, посылая в ответ свое текущее значение расстояния до 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58560" y="1520640"/>
            <a:ext cx="821052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Таким образом область "активизированных" маршрутизаторов расширяется до тех пор, пока не будет обнаружен маршрут в сеть А или доказано его отсутствие, после чего волна сходится в обратном направлении к инициировавшему процесс узлу, при этом все маршрутизаторы вносят в свои таблицы надлежащие изме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195264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 протоколе EIGRP также реализованы процедуры Split Horizon и Poison Rev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彥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7se (см. п. 4.2.1), которые выполняются не всегда, а в зависимости от состояния маршрутизатора и его сосе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Из-за того, что EIGRP-маршрутизатор не просто принимает от соседей векторы расстояний, а строит на их основе некоторое представление от топологии сети ("вероятные заместители"), контролирует состояние связи с соседями и использует алгоритм DUAL, что всё вместе напоминает протоколы состояния связей, Cisco классифицирует EIGRP как "гибридный" протоко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829160"/>
            <a:ext cx="80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EIGRP, его отличительные черты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Что такое алгоритм DU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 какому типу протоколов маршрутизации относиться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EIGRP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личие протокола IGRP от R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Pepelnjak I. "EIGRP Network Design Solutions". – Cisco Press, 200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7640" y="1557000"/>
            <a:ext cx="81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 (Enhanced Interior Gateway Routing Protocol) – дистанционно векторный протокол маршрутизации, разработанный фирмой Cisco на основе протокола IGRP той же фирмы. Протокол IGRP был создан как альтернатива протоколу RIP (до того, как был разработан OSPF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7733-02F9-4048-926C-EB1B71B0B4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3062160"/>
            <a:ext cx="79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3280" y="904320"/>
            <a:ext cx="802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сле появления OSPF Cisco представила EIGRP – переработанный и улучшенный вариант IGRP, свободный от основного недостатка дистанционно-векторных протоколов – особых ситуаций с зацикливанием маршрутов – благодаря специальному алгоритму распространения информации об изменениях в топологи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3024360"/>
            <a:ext cx="799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806040"/>
            <a:ext cx="784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Несмотря на то, что в общем случае протоколы состояния связей (OSPF) отрабатывают изменения в топологии сети быстрее, чем EIGRP, а также OSPF имеет ряд дополнительных возможностей, EIGRP более прост в реализации и менее требователен к вычислительным ресурсам маршрутиз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47640" y="309096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97128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-маршрутизатор обнаруживает своих соседей путем периодической рассылки сообщений "Hello". Эти же сообщения используются для мониторинга состояния связи с соседом (рассылаются каждые 5 секунд в сетях с большой пропускной способностью – например, Ethernet – и каждые 60 секунд в "медленных" сетях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76360" y="1557360"/>
            <a:ext cx="781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08000" y="1521000"/>
            <a:ext cx="759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и же сообщения используются для мониторинга состояния связи с соседом (рассылаются каждые 5 секунд в сетях с большой пропускной способностью – например, Ethernet – и каждые 60 секунд в "медленных" сетях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3208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216180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ой мониторинг позволяет рассылать в сети векторы расстояний не периодически, а только при изменении топологи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19280" y="3168720"/>
            <a:ext cx="795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6360" y="213948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 использует комплексное значение метрики, вычисляемое на основании показателей пропускной способности и задержки при передаче данных в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12Z</dcterms:modified>
  <cp:revision>149</cp:revision>
  <dc:subject/>
  <dc:title>Lecture Template </dc:title>
</cp:coreProperties>
</file>