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7E7-17B0-4881-B844-C83755C6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163-D46A-49C5-88E6-0AEE7E28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374-7D62-4E23-88DE-36418C36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E12-1059-4AD6-A440-38AF9C81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281-7D47-498D-9E24-BAFE6177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5EC-0819-4479-9D6A-E788301C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F8A-9249-453A-8337-9526A067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452-E2B7-49B9-9B4E-66636FF6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346-BC7A-484F-9C28-DF14A261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ED0-49EC-4DC2-ADDD-EEB1341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F09-B331-4350-B02C-F5A047B1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A0D-7E98-4C0D-8630-B04EE091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1BEA-E9CE-4692-A117-2D581D3AC2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вижение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328920" y="1981080"/>
          <a:ext cx="2484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1981080"/>
                    <a:ext cx="248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зыватьСтроку(НомерСтрок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ТекущийДокумент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Количество*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При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=СоздатьОбъект("Регистр.Остатки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иче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УстановитьФильтр(Материал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ВыбратьДвижения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РегОст.ПолучитьДвижение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гОст.ФлагУчета=2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РегОст.Пар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.ПолучитьСтрокуПоНомеру(РегОст.НомерСтроки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=Регистр.Остатки.Остаток(Материал,Док,"Количество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=0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олВо&gt;Кол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Во-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Списать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СписатьКоличество*Док.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Рас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Во=0 Тогда Прервать; 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явно указать нужную да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20050308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1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, 10, 29, 50) ДАТАВРЕМЯ(2005, 01, 0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верить дату на пустое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атаПроверяемая = Дата(1, 1, 1) Тогда Сообщить("Пустая дата!"); 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сравнить две даты (дни)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ачалоДня(Дата1) = НачалоДня(Дата2) Тогда Сообщить("Дни совпадают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ибавить к дате день, меся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ющийДень = ТекущаяДата() + 60 * 60 * 2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Месяц(Дата(2005, 1, 31), 1) ДобавитьМесяц(Дата(2005, 2, 28), -1) КонецМесяца(ДобавитьМесяц(Дата(2005, 2, 28), -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ПолучитьДень(ИсходнаяДата, КоличествоПрибавляемыхДней) Запрос = НовыйЗапрос(" |ВЫБРАТЬ |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ОБАВИТЬКДАТЕ(&amp;ИсходнаяДата, ДЕНЬ, &amp;Количество) как Дата"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ИсходнаяДата", ИсходнаяДата); Запрос.УстановитьПараметр("Количество", КоличествоПрибавляемыхДней); ВозвратЗапрос.Выполнить().Выгрузить()[0].Дат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тии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76360" y="1981080"/>
          <a:ext cx="43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981080"/>
                    <a:ext cx="43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ка тип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ожно проверить тип значения переменной на равенство нужном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НужногоТипа = "ДокументСсылка.РеализацияТоваров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ипЗнч(ОбрабатываемыйДокумент) = Тип(ИмяНужногоТипа)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 Строки кода, выполняемые при истинности усло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стая ссылк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реквизит формы, имеющий ссылочный т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 = Справочники.Номенклатура.ПустаяСсылка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значение, имеющее тип "Хранилище значения"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зитХранилище = Неопределен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 10 мониторов на сумму 1500+1550=305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ход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но 7 мониторов по розничной цене 3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умм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45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* 300 + 2 * 31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2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2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3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о средн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редняя ц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10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5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5 * 7 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35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35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пределить справоч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Единицы измерения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«Приход», «Расх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регистр остатков «Ост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гистр «Остат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916280"/>
          <a:ext cx="712800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128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773360"/>
          <a:ext cx="6840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840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773360"/>
          <a:ext cx="68421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842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9:29Z</dcterms:modified>
  <cp:revision>19</cp:revision>
  <dc:subject/>
  <dc:title>PowerPoint Presentation</dc:title>
</cp:coreProperties>
</file>