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2C0-5D4B-4583-B219-7D88A38E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9CF-6D6E-441F-92CE-9799829B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1CB-A481-4F48-8AEE-110216AD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271-7F71-4DCD-925A-65E59B06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9A0-A31C-440A-A741-C726CC67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B9B-E8B9-44A1-B7AA-45482413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5E0-23EC-4DCA-B291-E4C516EF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B09-990E-47D4-B29A-2C8D4D4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745-978B-4E3C-B98F-A4852C2D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0C9-759B-4B42-BC5B-1244DF4E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1C3-1A85-4174-8307-A21D2C6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2B7-6407-4354-B794-200228C6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5C66-61C8-4DBC-A2C4-E5F4E003E9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копирования справочников возникает тогда, когда нужно перенести заполненный сведениями справочник из одной базы данных в другую с сохранением структуры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?&gt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ИмяАгрегатногоТипа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ет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щае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сылку на созданный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ИмяАгрегатногоТипа&gt; - строковое выражение, содержащее имя агрегатного типа данных объявленного в конфигурато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=СоздатьОбъект(«Справочник.Номенклатура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ь выборку элементов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действие выполнено и в выборке есть хотя бы один элем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если действие не выполнено или в выборке нет ни одного эле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как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ыбирать элементы с учетом иерарх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выбирать элементы без учета иерархии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ВыбратьЭлементы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из выборки следующи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элемент выбран, 0 - если элемент не выбр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что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ключать в выборку подчиненные элемен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не включать в выборку подчиненные элементы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Ном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?&gt;,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Родитель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ить выборку  элементов по группе справоч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щает: значение текущей группы для справочника (на момент до исполнения метод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.ИспользоватьРодителя(Ном.ТекущийЭлемент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аяГрупп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 новую группу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м.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ить новы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 флаг группы: 1 - если элемент является группой, 0 - если это обычный элеме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ом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 (обновить) элемент справоч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меч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т метод применяется в Модуле формы элемента справочника непосредственно к элементу справочника локального контекста, то данный метод отрабатывает те же действия, что и интерактивное нажатие пользователем кнопки с формулой ''#Записать''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.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хема решения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00280" y="1981080"/>
          <a:ext cx="394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1981080"/>
                    <a:ext cx="3941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Выполнить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СоздатьОбъект("Справочник.Номенклатура")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тестирования в одной баз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Номенклатура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v7=СоздатьОбъект("v77.Applicatio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ь="c:\"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Задать путь откуда копиру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рыта=0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v7.CreateObject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уда.ВыбратьЭлементы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Откуда.ПолучитьЭлемент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одРодителя=Откуда.ТекущийЭлемент().Родитель.К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Если Куда.НайтиПоКоду(КодРодителя,0)=1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уда.ИспользоватьРодителя(Куда.ТекущийЭлемент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да.ИспользоватьРодителя("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45" name="_s7192"/>
            <p:cNvCxnSpPr>
              <a:stCxn id="46" idx="0"/>
              <a:endCxn id="47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7190"/>
            <p:cNvCxnSpPr>
              <a:stCxn id="49" idx="0"/>
              <a:endCxn id="47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7188"/>
            <p:cNvCxnSpPr>
              <a:stCxn id="51" idx="0"/>
              <a:endCxn id="52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7186"/>
            <p:cNvCxnSpPr>
              <a:stCxn id="54" idx="0"/>
              <a:endCxn id="52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7184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7181"/>
            <p:cNvCxnSpPr>
              <a:stCxn id="47" idx="0"/>
              <a:endCxn id="58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7180"/>
            <p:cNvCxnSpPr>
              <a:stCxn id="52" idx="0"/>
              <a:endCxn id="58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71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717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717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7183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7185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7187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7189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7191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уда.ТекущийЭлемент()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аяГруппа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Реквиз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бъ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791880" y="2624040"/>
            <a:ext cx="1488240" cy="1143000"/>
            <a:chOff x="3791880" y="2624040"/>
            <a:chExt cx="1488240" cy="1143000"/>
          </a:xfrm>
        </p:grpSpPr>
        <p:cxnSp>
          <p:nvCxnSpPr>
            <p:cNvPr id="62" name="_s9227"/>
            <p:cNvCxnSpPr>
              <a:stCxn id="63" idx="0"/>
              <a:endCxn id="64" idx="2"/>
            </p:cNvCxnSpPr>
            <p:nvPr/>
          </p:nvCxnSpPr>
          <p:spPr>
            <a:xfrm flipV="1">
              <a:off x="4536360" y="30805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9228"/>
            <p:cNvSpPr/>
            <p:nvPr/>
          </p:nvSpPr>
          <p:spPr>
            <a:xfrm>
              <a:off x="3890880" y="2624040"/>
              <a:ext cx="129060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9229"/>
            <p:cNvSpPr/>
            <p:nvPr/>
          </p:nvSpPr>
          <p:spPr>
            <a:xfrm>
              <a:off x="3791880" y="3309840"/>
              <a:ext cx="148824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793320" y="2624040"/>
            <a:ext cx="1485360" cy="2003400"/>
            <a:chOff x="3793320" y="2624040"/>
            <a:chExt cx="1485360" cy="2003400"/>
          </a:xfrm>
        </p:grpSpPr>
        <p:cxnSp>
          <p:nvCxnSpPr>
            <p:cNvPr id="67" name="_s11273"/>
            <p:cNvCxnSpPr>
              <a:stCxn id="68" idx="0"/>
              <a:endCxn id="69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1275"/>
            <p:cNvCxnSpPr>
              <a:stCxn id="69" idx="0"/>
              <a:endCxn id="7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12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1277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1279"/>
            <p:cNvSpPr/>
            <p:nvPr/>
          </p:nvSpPr>
          <p:spPr>
            <a:xfrm>
              <a:off x="3894480" y="3995640"/>
              <a:ext cx="12823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62880" y="2624040"/>
            <a:ext cx="2944440" cy="2003400"/>
            <a:chOff x="3062880" y="2624040"/>
            <a:chExt cx="2944440" cy="2003400"/>
          </a:xfrm>
        </p:grpSpPr>
        <p:cxnSp>
          <p:nvCxnSpPr>
            <p:cNvPr id="74" name="_s12296"/>
            <p:cNvCxnSpPr>
              <a:stCxn id="75" idx="0"/>
              <a:endCxn id="76" idx="2"/>
            </p:cNvCxnSpPr>
            <p:nvPr/>
          </p:nvCxnSpPr>
          <p:spPr>
            <a:xfrm flipV="1" rot="16200000">
              <a:off x="4815720" y="3486600"/>
              <a:ext cx="229320" cy="788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2297"/>
            <p:cNvCxnSpPr>
              <a:stCxn id="78" idx="0"/>
              <a:endCxn id="76" idx="2"/>
            </p:cNvCxnSpPr>
            <p:nvPr/>
          </p:nvCxnSpPr>
          <p:spPr>
            <a:xfrm flipH="1" flipV="1" rot="5400000">
              <a:off x="4026600" y="3485160"/>
              <a:ext cx="229320" cy="791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2299"/>
            <p:cNvCxnSpPr>
              <a:stCxn id="76" idx="0"/>
              <a:endCxn id="80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12300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2301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2303"/>
            <p:cNvSpPr/>
            <p:nvPr/>
          </p:nvSpPr>
          <p:spPr>
            <a:xfrm>
              <a:off x="30628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2304"/>
            <p:cNvSpPr/>
            <p:nvPr/>
          </p:nvSpPr>
          <p:spPr>
            <a:xfrm>
              <a:off x="46422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73400" y="2624040"/>
            <a:ext cx="4523400" cy="2003400"/>
            <a:chOff x="2273400" y="2624040"/>
            <a:chExt cx="4523400" cy="2003400"/>
          </a:xfrm>
        </p:grpSpPr>
        <p:cxnSp>
          <p:nvCxnSpPr>
            <p:cNvPr id="83" name="_s13319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10640" y="3091680"/>
              <a:ext cx="229320" cy="1578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3320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13321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3632040" y="3090600"/>
              <a:ext cx="229320" cy="1581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3323"/>
            <p:cNvCxnSpPr>
              <a:stCxn id="85" idx="0"/>
              <a:endCxn id="9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3324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_s13325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13327"/>
            <p:cNvSpPr/>
            <p:nvPr/>
          </p:nvSpPr>
          <p:spPr>
            <a:xfrm>
              <a:off x="22734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13328"/>
            <p:cNvSpPr/>
            <p:nvPr/>
          </p:nvSpPr>
          <p:spPr>
            <a:xfrm>
              <a:off x="38527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13329"/>
            <p:cNvSpPr/>
            <p:nvPr/>
          </p:nvSpPr>
          <p:spPr>
            <a:xfrm>
              <a:off x="5431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19320" y="2624040"/>
            <a:ext cx="4833720" cy="2003400"/>
            <a:chOff x="2119320" y="2624040"/>
            <a:chExt cx="4833720" cy="2003400"/>
          </a:xfrm>
        </p:grpSpPr>
        <p:cxnSp>
          <p:nvCxnSpPr>
            <p:cNvPr id="94" name="_s14343"/>
            <p:cNvCxnSpPr>
              <a:stCxn id="95" idx="0"/>
              <a:endCxn id="96" idx="2"/>
            </p:cNvCxnSpPr>
            <p:nvPr/>
          </p:nvCxnSpPr>
          <p:spPr>
            <a:xfrm flipV="1" rot="16200000">
              <a:off x="5056560" y="3090240"/>
              <a:ext cx="229320" cy="1581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4"/>
            <p:cNvCxnSpPr>
              <a:stCxn id="98" idx="0"/>
              <a:endCxn id="96" idx="2"/>
            </p:cNvCxnSpPr>
            <p:nvPr/>
          </p:nvCxnSpPr>
          <p:spPr>
            <a:xfrm flipV="1">
              <a:off x="4381200" y="37663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4345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347688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4346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237280" y="2379240"/>
              <a:ext cx="229320" cy="163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4347"/>
            <p:cNvCxnSpPr>
              <a:stCxn id="96" idx="0"/>
              <a:endCxn id="103" idx="2"/>
            </p:cNvCxnSpPr>
            <p:nvPr/>
          </p:nvCxnSpPr>
          <p:spPr>
            <a:xfrm flipH="1" flipV="1" rot="5400000">
              <a:off x="4344480" y="3117240"/>
              <a:ext cx="229320" cy="155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4348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14349"/>
            <p:cNvSpPr/>
            <p:nvPr/>
          </p:nvSpPr>
          <p:spPr>
            <a:xfrm>
              <a:off x="35956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4350"/>
            <p:cNvSpPr/>
            <p:nvPr/>
          </p:nvSpPr>
          <p:spPr>
            <a:xfrm>
              <a:off x="53812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4351"/>
            <p:cNvSpPr/>
            <p:nvPr/>
          </p:nvSpPr>
          <p:spPr>
            <a:xfrm>
              <a:off x="21193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14352"/>
            <p:cNvSpPr/>
            <p:nvPr/>
          </p:nvSpPr>
          <p:spPr>
            <a:xfrm>
              <a:off x="36986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4353"/>
            <p:cNvSpPr/>
            <p:nvPr/>
          </p:nvSpPr>
          <p:spPr>
            <a:xfrm>
              <a:off x="52776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32080" y="2624040"/>
            <a:ext cx="6206760" cy="2003400"/>
            <a:chOff x="1432080" y="2624040"/>
            <a:chExt cx="6206760" cy="2003400"/>
          </a:xfrm>
        </p:grpSpPr>
        <p:cxnSp>
          <p:nvCxnSpPr>
            <p:cNvPr id="107" name="_s15366"/>
            <p:cNvCxnSpPr>
              <a:stCxn id="108" idx="0"/>
              <a:endCxn id="109" idx="2"/>
            </p:cNvCxnSpPr>
            <p:nvPr/>
          </p:nvCxnSpPr>
          <p:spPr>
            <a:xfrm flipH="1" flipV="1" rot="5400000">
              <a:off x="6738480" y="388008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5367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4368240" y="3091320"/>
              <a:ext cx="229320" cy="15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5368"/>
            <p:cNvCxnSpPr>
              <a:stCxn id="114" idx="0"/>
              <a:endCxn id="112" idx="2"/>
            </p:cNvCxnSpPr>
            <p:nvPr/>
          </p:nvCxnSpPr>
          <p:spPr>
            <a:xfrm flipV="1">
              <a:off x="369360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5369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79000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5370"/>
            <p:cNvCxnSpPr>
              <a:stCxn id="109" idx="0"/>
              <a:endCxn id="118" idx="2"/>
            </p:cNvCxnSpPr>
            <p:nvPr/>
          </p:nvCxnSpPr>
          <p:spPr>
            <a:xfrm flipV="1" rot="16200000">
              <a:off x="5580000" y="2036520"/>
              <a:ext cx="229320" cy="2317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5371"/>
            <p:cNvCxnSpPr>
              <a:stCxn id="112" idx="0"/>
              <a:endCxn id="118" idx="2"/>
            </p:cNvCxnSpPr>
            <p:nvPr/>
          </p:nvCxnSpPr>
          <p:spPr>
            <a:xfrm flipH="1" flipV="1" rot="5400000">
              <a:off x="4000680" y="2773440"/>
              <a:ext cx="229320" cy="84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5372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15373"/>
            <p:cNvSpPr/>
            <p:nvPr/>
          </p:nvSpPr>
          <p:spPr>
            <a:xfrm>
              <a:off x="290880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15374"/>
            <p:cNvSpPr/>
            <p:nvPr/>
          </p:nvSpPr>
          <p:spPr>
            <a:xfrm>
              <a:off x="60670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15375"/>
            <p:cNvSpPr/>
            <p:nvPr/>
          </p:nvSpPr>
          <p:spPr>
            <a:xfrm>
              <a:off x="14320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15376"/>
            <p:cNvSpPr/>
            <p:nvPr/>
          </p:nvSpPr>
          <p:spPr>
            <a:xfrm>
              <a:off x="30110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15377"/>
            <p:cNvSpPr/>
            <p:nvPr/>
          </p:nvSpPr>
          <p:spPr>
            <a:xfrm>
              <a:off x="459036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15378"/>
            <p:cNvSpPr/>
            <p:nvPr/>
          </p:nvSpPr>
          <p:spPr>
            <a:xfrm>
              <a:off x="6169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122" name="_s16389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6390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6391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6392"/>
            <p:cNvCxnSpPr>
              <a:stCxn id="131" idx="0"/>
              <a:endCxn id="129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6393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6394"/>
            <p:cNvCxnSpPr>
              <a:stCxn id="124" idx="0"/>
              <a:endCxn id="135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6395"/>
            <p:cNvCxnSpPr>
              <a:stCxn id="129" idx="0"/>
              <a:endCxn id="135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1639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639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1639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16399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6400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16401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16402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16403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0:51Z</dcterms:modified>
  <cp:revision>18</cp:revision>
  <dc:subject/>
  <dc:title>PowerPoint Presentation</dc:title>
</cp:coreProperties>
</file>