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B66-6D8D-4730-B97D-901C3491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E85-8E1A-45FA-8E33-839304D2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D11-BA17-49E7-A95A-98FDF33C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600-273E-471A-B7E6-15761E17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948-5270-43D5-8774-9AADAD7C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97D-5702-42F6-BDBE-8A3432BC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DD4-FCB9-4FF4-9353-4820033C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9D8-823C-4607-9467-2D720286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416-5DA4-4C6C-9714-41E86EEA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A13-1EA8-4F90-AE66-AA3FCA35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2F5-2579-469D-86DA-48BEA188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1CD-2B3A-44A3-9997-B05E938F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7587-9C2D-4DCC-A1F8-AC993F93A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ходные данны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равочник 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кумент «Расходная» с табличной частью: «Материал», «Количеств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бороты(&amp;НачПериода, &amp;КонПериода, Неделя, ) КАК ОстаткиМатериаловОбор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ериод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КонПериода", Кон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НачПериода", Нач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ь результ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ТекущаяДат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ДобавитьМесяц(ДТ,2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колонку в таблицу значе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строку в таблицу значений и установить значение колон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связать сводную таблицу и результат запрос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буется получи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чет «Продаж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иод: «НачДата», «КонДат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4038480"/>
          <a:ext cx="647712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38480"/>
                    <a:ext cx="647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унк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 «ДобавитьМесяц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ДобавитьМесяц(ДТ,1), где ДТ-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Таблицу знач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=СоздатьОбъект(«ТаблицаЗначений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ДобавитьКолонку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НоваяСтрока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ПолучитьЗначение(НомСтр,НомК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НомКол,Зна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НомерМесяца(НачПериода,КонПери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НачПерио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ДТ&lt;=КонПериода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Т=ДобавитьМесяц(ДТ,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НомерМесяца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НомерМеся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Мес=НомерМесяца(НачДата,КонДат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СоздатьОбъект("ТаблицаЗначений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.НоваяКолонка("Материал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инд=1 По КолМес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абл.НоваяКолонка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Период С НачДата По КонДа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ОбрабатыватьДокументы Проведен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Материал=Документ.Расход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атаДок=Документ.Расход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Количество=Документ.Расход.Количеств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ок=Документ.Расход.ТекущийДоку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Материал Без Груп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Функция РасхКол=Сумма(Количество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Материал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НоваяСтрока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НомСтр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Материал=Запрос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инд=2 По КолМес+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инд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Док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аДок=Запрос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омКол=НомерМесяца(НачДата,ДатаДок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УстановитьЗначение(НомСтр,НомКол+1,Табл.ПолучитьЗначение(НомСтр,НомКол+1)+Запрос.РасхКо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ВыбратьСтроку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Продажи(СводнаяТаблица, КонПериода, НачПериода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Материал КАК Материа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КоличествоРасход КАК КоличествоРасход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Период КАК Пери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5:48:31Z</dcterms:created>
  <dc:creator>guest</dc:creator>
  <dc:description/>
  <dc:language>en-US</dc:language>
  <cp:lastModifiedBy>Семенов</cp:lastModifiedBy>
  <dcterms:modified xsi:type="dcterms:W3CDTF">2005-12-26T01:20:41Z</dcterms:modified>
  <cp:revision>17</cp:revision>
  <dc:subject/>
  <dc:title>Постановка задачи</dc:title>
</cp:coreProperties>
</file>