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D80-69C8-4CA0-B7C3-6C3445E7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DCF-F84C-41FE-9913-7B7BCFCA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AD2-BAA3-4984-8A83-4C3CA074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12D-698D-4FD0-99F4-C7FB52DA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7B3-3B52-4358-B7F5-171412E7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5E0-9517-4410-8D61-071517E0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B86-6640-43CE-96A1-77C90042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56C-BCDF-4E25-9E12-31B38CF5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959-50A0-4B75-A36A-42D01B55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91A-313F-4FBF-949F-3C477AF6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2D3-AE6A-4107-8669-4DA48311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672-525E-4393-9950-364187BF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B759-F915-4B89-8D62-4F3C5DA804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два отче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книг данного авто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соавторов данной кни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чание: у каждого автора может быть несколько книг и у каждой книги может быть несколько соав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ечатьКниг(ТабДок, Ссылка) Эк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Книг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Ссылка = &amp;Ссылка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ВладелецПредставление=ВыборкаДета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делец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КнигаПредставление=ВыборкаДетали.Книга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 ВыборкаДетали.Уровень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 ДействияФормыПечатьАвторов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Авторов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ПечатьАвторов(ТабДок, Ссылка) Эк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Авторов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 И Книги.Владелец = Авторы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СписокКниг КАК СписокКни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Книга = 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 = &amp;Ссылка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.Уровень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187280" y="1197000"/>
          <a:ext cx="6985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985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ечати ав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чат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2133720"/>
          <a:ext cx="770400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7040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справочни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и (реквизит «Книга», тип значения – «Справочник.СписокКниг»), подчинен справочнику 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писокКниг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уктура баз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38200" y="1981080"/>
          <a:ext cx="6265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1981080"/>
                    <a:ext cx="6265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рмах отчетов создать реквизиты «ВыбАвтор» и «ВыбКниг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ыбОбъект.Выбран()=0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упреждение(«Текст1»+РазделительСтрок+«Текст2»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запрос по пример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Товар=Справочник.Товары.ТекущийЭле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Цена=Справочник.Товары.Це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Группировка Товар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Условие (Товар=ВыбОбъект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Запрос.Цен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Книга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а книга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Авто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Книга=ВыбКнига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Автор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Автор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 автор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Автор=ВыбАвтор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Книг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яФормыПечатьКниг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Книг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7:54Z</dcterms:modified>
  <cp:revision>15</cp:revision>
  <dc:subject/>
  <dc:title>PowerPoint Presentation</dc:title>
</cp:coreProperties>
</file>