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CD5-971B-4F8B-8BDD-7976ACFC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4F4-EE97-45BC-85C8-64CC3D46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36F0-16BD-49DB-9A63-16085B83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ADF-38CC-43EE-9861-1A50DCB9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BDD-3334-488F-AA10-100E39A1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460-5571-44A2-856D-EC834AE5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914-FE8B-401C-90B0-7A199447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349-5778-48C9-9B46-698F7E45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085-0838-4745-81BC-DAD82D89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488-8C08-42DB-A6E1-123C2C6C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3E91-8340-42D8-B528-1B493CA0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066-1126-4502-A5A9-BDE40EF5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32C3-03FC-4323-93B1-D128396D56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нос данных из 7.7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90840" y="1981080"/>
          <a:ext cx="4160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1981080"/>
                    <a:ext cx="4160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и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Attribute VB_Name = "Module1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Sub v8com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cc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con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ЗапросВДБФ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Set cc = CreateObject("V8.COMConnector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Set con = cc.Connect("File=D:\Bases\Radchenko;Usr=Администратор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и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кстЗапроса = "ВЫБРАТЬ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.Код КАК Kod,ОстаткиМатериаловОстаткиИОбороты.Материал.Наименование КАК Material,ОстаткиМатериаловОстаткиИОбороты.Склад КАК Sklad,ОстаткиМатериаловОстаткиИОбороты.КоличествоКонечныйОстаток КАК Ostatok ИЗ РегистрНакопления.ОстаткиМатериалов.ОстаткиИОбороты КАК ОстаткиМатериаловОстаткиИОбороты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ть = "C:\1C.dbf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t ЗапросВДБФ = con.Обработки.ВыгрузкаДанных.Созд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росВДБФ.ВыгрузитьДанные ТекстЗапроса, Пу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!DOCTYPE HTML PUBLIC "-//W3C//DTD HTML 4.01 Transitional//EN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title&gt;v8com&lt;/titl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 charset=windows-1251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script language="JavaScript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unction v8com(TextOfQuery,Pa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{var cc,con,text,path,Quer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cc = new ActiveXObject("V8.COMConnector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con = cc.Connect("File=D:/Bases/Radchenko;Usr=Администратор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text="Выбрать Остатки.Материал.Код как kod,Остатки.Материал.Наименование как Material,Остатки.Склад как sklad,Остатки.КоличествоКонечныйОстаток как ostatok из РегистрНакопления.ОстаткиМатериалов.ОстаткиИОбороты как Остатки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ath = "C:/1C.dbf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Query=con.Обработки.ВыгрузкаДанных.Созд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Query.ВыгрузитьДанные(text,pa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iv onMouseDown="v8com('','')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iv align="center"&gt;&lt;font color="#FF0000"&gt;&lt;strong&gt;Click Me!!!&lt;/strong&gt;&lt;/font&gt;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%@language=vbscript %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!DOCTYPE HTML PUBLIC "-//W3C//DTD HTML 4.01 Transitional//E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title&gt;v8com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 charset=windows-1251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c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Set cc = CreateObject("V8.COMConnector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Set con = cc.Connect("File=C:\Bases\Radchenko;Usr=Администратор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tz = "ВЫБРАТЬ ОстаткиМатериаловОстаткиИОбороты.Материал.Код КАК Kod,ОстаткиМатериаловОстаткиИОбороты.Материал.Наименование КАК Material,ОстаткиМатериаловОстаткиИОбороты.Склад КАК Sklad,ОстаткиМатериаловОстаткиИОбороты.КоличествоКонечныйОстаток КАК Ostatok ИЗ РегистрНакопления.ОстаткиМатериалов.ОстаткиИОбороты КАК ОстаткиМатериаловОстаткиИОбороты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p = "C:\1C.dbf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Set z = con.Processings.UnloadData.Creat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z.UnloadData tz,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ar xml="&lt;&gt;&lt;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Response.Write(xm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=createobject("msxml.xmlhttp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.open(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=x.response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V7=Новый COMОбъект("v77.Applicatio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ть="D:\Bases\DB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ы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а=v7.Initialize(v7.RMTrade,"/d"+Путь+" /M /N"+"","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лю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преждение("Ошибка открытия информационной базы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опыт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=Справочники.Автозапча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=V7.CreateObject("Справочник.Номенклатура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НайтиПоКоду("120-00000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ортизаторы=Импорт.ТекущийЭлемент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ИспользоватьРодителя(Амортизатор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ВыбратьЭлементы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Импорт.ПолучитьЭлемент()=1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=Ном.СоздатьЭлемент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Код=Импорт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Наименование=Импорт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Тип=Импорт.__Тип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Записа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зо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=Новый COMОбъект("Excel.Application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Workbooks.Open("D:\Bases\AddIns\Graphics.xl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Application.Run("Graphics.xls!Auto_Open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Application.Qui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данных 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кстЗапроса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 КАК Materi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Склад КАК Skl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СУММА(ОстаткиМатериаловОстаткиИОбороты.КоличествоКонечныйОстаток) КАК Ostat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статкиИОбороты КАК ОстаткиМатериаловОстаткиИОборо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данных 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СГРУППИРОВАТЬ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ткиМатериаловОстаткиИОбороты.Материа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ткиМатериаловОстаткиИОбороты.Скл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УПОРЯДОЧИТЬ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Materi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грузитьДанные(ТекстЗапроса,"C:\ost.db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ТекстЗапроса,Путь) Эк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рос.Текст = ТекстЗа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Новый ТаблицаЗначений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Результат.Выгрузить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бф=Новый Xba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Каждого Кол Из Табл.Колонки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Строка(Кол.ТипЗначения.Типы().Получить(1))="Число"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ядность=Кол.ТипЗначения.КвалификаторыЧисла.Разряд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ядностьДробнойЧасти=Кол.ТипЗначения.КвалификаторыЧисла.РазрядностьДробнойЧа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бф.Поля.Добавить(Кол.Имя,"N",Разрядность,РазрядностьДробнойЧасти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бф.Поля.Добавить(Кол.Имя,"S",Кол.Ширин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Кодировка=КодировкаXBase.O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СоздатьФайл(Путь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аждого СтрокаТабл Из Табл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Добав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аждого Кол Из Табл.Колонки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[Кол.Имя]=СтрокаТабл[Кол.Имя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Запис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ЗакрытьФайл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17:46Z</dcterms:modified>
  <cp:revision>6</cp:revision>
  <dc:subject/>
  <dc:title>PowerPoint Presentation</dc:title>
</cp:coreProperties>
</file>