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0A21-9B79-4C4E-97AF-DD04EFED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94AD-DF04-4250-B433-CD920EDC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A67C-6D85-487E-BD68-64A65A34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5DF9-5FB0-4C55-A62E-B527D6A9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0F4A-00AC-432A-951E-0AC19B1B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FECC-39A6-4F2B-A3F8-4093F296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14CB-6125-47DF-B72E-7247B73B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AFF2-DA6D-4375-9D94-3459BF6B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55DA-B581-4EFB-B27F-A2AE4DA1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C975-825C-4D56-8612-D808E087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712C-3BE8-4AFD-B0C0-B0FB1B37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4ACB-2B58-4C0D-9339-5A22F77D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B52F-B59E-45E2-A8CB-D860E95A74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роение графиков в 1С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417760" y="1981080"/>
          <a:ext cx="4307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7760" y="1981080"/>
                    <a:ext cx="4307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раф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"ВЫБРА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Материал КАК Материал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Период КАК Период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КоличествоРасход КАК КоличествоРасход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КоличествоКонечныйОстаток КАК КоличествоКонечныйОстат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И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РегистрНакопления.ОстаткиМатериалов.ОстаткиИОбороты(, , День, , ) КАК ОстаткиМатериаловОстаткиИОборо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ИТОГИ СУММА(КоличествоРасход), СУММА(КоличествоКонечныйОстаток) П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Материал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Период ПЕРИОДАМИ(ДЕНЬ, , )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раф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зультат = Запрос.Выполн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ИзмеренийВСтроках = ТипРазмещенияИзмерений.Отдельн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РеквизитовИзмеренийВСтроках = ТипРазмещенияРеквизитовИзмерений.Отдельн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РеквизитовИзмеренийВКолонках = ТипРазмещенияРеквизитовИзмерений.Отдельн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ПоложениеИтоговСтрок = ПоложениеИтоговСтрокСводнойТаблицы.Вер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МакетОформления = СтандартноеОформление.БезОформл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ИсточникДанных = Результат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раф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Строки.Добавить(СводнаяТаблица.Поля.Материал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Колонки.Добавить(СводнаяТаблица.Поля.Период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Данные.Добавить(СводнаяТаблица.Поля.КоличествоРасход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Данные.Добавить(СводнаяТаблица.Поля.КоличествоКонечныйОстаток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боркаМатериал = Результат.Выбрать(ОбходРезультатаЗапроса.ПоГруппировкам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//}}КОНСТРУКТОР_ВЫХОДНЫХ_ФОР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днаяТаблицаВыб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374840" y="2324160"/>
          <a:ext cx="639288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4840" y="2324160"/>
                    <a:ext cx="63928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сводная таблиц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вести примеры сводных табли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диаграмма, серия диаграммы, точка диаграмм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вести примеры диаграм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роение графиков в 1С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432160" y="1981080"/>
          <a:ext cx="42782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2160" y="1981080"/>
                    <a:ext cx="4278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роение графиков в 1С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01720" y="1981080"/>
          <a:ext cx="5738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1720" y="1981080"/>
                    <a:ext cx="5738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днаяТаблицаВыб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м Результа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м Диаграмм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м ВыборкаМатериа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СводнаяТаблицаВыбор(Элемент, Область, СтандартнаяОбработ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ЭлементНоменклатуры=Элемент.ТекущаяОбласть.Текс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рамма.Обновление = Лож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рамма.Очистить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рамма.АвтоТранспонирование = Лож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днаяТаблицаВыб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боркаМатериал.Сбросить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боркаМатериал = Результат.Выбрать(ОбходРезультатаЗапроса.ПоГруппировкам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ка ВыборкаМатериал.Следующий() Цик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Если ЭлементНоменклатуры&lt;&gt;ВыборкаМатериал.Материал.Наименование Тог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должи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 = Диаграмма.УстановитьСерию("Продажи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.Текст = "Продажи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.Расшифровка = ВыборкаМатериал.Материа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1 = Диаграмма.УстановитьСерию("Остаток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1.Текст = "Остаток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1.Расшифровка = ВыборкаМатериал.Материа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днаяТаблицаВыб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боркаПериод = ВыборкаМатериал.Выбрать(ОбходРезультатаЗапроса.ПоГруппировкам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ка ВыборкаПериод.Следующий() Цик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 = Диаграмма.УстановитьТочку(ВыборкаПериод.Период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.Текст = ВыборкаПериод.Пери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.Расшифровка = ВыборкаПериод.Пери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рамма.УстановитьЗначение(Точка, Серия, ВыборкаПериод.КоличествоРасход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днаяТаблицаВыб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1 = Диаграмма.УстановитьТочку(ВыборкаПериод.Период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1.Текст = ВыборкаПериод.Пери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1.Расшифровка = ВыборкаПериод.Пери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рамма.УстановитьЗначение(Точка1, Серия1, ВыборкаПериод.КоличествоКонечныйОстаток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рамма.АвтоТранспонирование = Исти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рамма.Обновление = Исти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ействияФормыГрафикиСформирова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ДействияФормыГрафикиСформировать(Кноп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 = ЭлементыФормы.СводнаяТаблица.ВстроенныеТаблицы[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рамма = ЭлементыФормы.Диаграмм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фики(СводнаяТаблица, Диаграмма, Дата1, Дата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раф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Графики(СводнаяТаблица, Диаграмма, Дата1, Дата2) Эксп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//{{КОНСТРУКТОР_ВЫХОДНЫХ_ФОРМ(График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// Данный фрагмент построен конструктор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// При повторном использовании конструктора, внесенные вручную изменения будут утеряны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 = Новый Запрос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Текст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23:14Z</dcterms:modified>
  <cp:revision>12</cp:revision>
  <dc:subject/>
  <dc:title>PowerPoint Presentation</dc:title>
</cp:coreProperties>
</file>